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FCC-8837-4761-BC3C-55405AD2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908-D70E-4585-A740-1BFCDE1A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62F-79BC-40A4-B90B-D3525B6C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5EF-E665-459B-8E9D-66CABBCD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89F1-1D6D-48C2-B3B0-3EB307CB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DDB-4429-428C-9D7C-538C6B89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FDA4-FA9C-478E-B9D3-3BD92D98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8EE1-6634-4C2A-8AE6-5D47060F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2A0D-7436-421D-A23B-1CED2402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B1CF-B184-4AA9-A700-7B91BC1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E2E8-7308-492A-90A8-51412A2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3D9-3FDC-4D6B-BCD5-9E5A0D9F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7E21-0033-48F2-8229-E8C4936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537B-5AD1-459E-BA59-3A89E54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7DD7-D15F-4EF9-9A3E-55262C34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A341-7580-4D72-A4EB-BCF8AFCE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B12C-DBB8-45E2-98D1-17160117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266-6C6C-4AF4-82D0-1F6B1AEC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434-BB6F-4F69-9C83-A03563D9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B7D-257D-4478-9262-5B38E40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141-F9F5-40B1-95ED-68CE6539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A2E-5955-401E-86DE-537AB54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1CB-0BDF-4789-9C34-5A7B1411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1DB-C5E2-4E70-86B9-43F1AC83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21D1-2D36-4F41-BD34-4C88200C1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54BD-D71B-45B3-903F-91A3BE202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3600" y="2209680"/>
            <a:ext cx="82368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DIMENSIONE OTTI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LE AZIENDE DI TRASPORTO PUBBLICO LOC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105520"/>
            <a:ext cx="32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so E., Scarsi M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iversità di Geno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83720" y="364176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lermo 13-14 novembre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41800" y="549360"/>
            <a:ext cx="820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ODOLOGIE DI VALUTAZIONE DELL’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 DELLE ECONOMIE DI SC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981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ori statist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29718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EA (Data envelopment analy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2480" y="487692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time econometr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" y="1981080"/>
            <a:ext cx="3276720" cy="1371600"/>
            <a:chOff x="228600" y="1981080"/>
            <a:chExt cx="3276720" cy="1371600"/>
          </a:xfrm>
        </p:grpSpPr>
        <p:sp>
          <p:nvSpPr>
            <p:cNvPr id="376" name=""/>
            <p:cNvSpPr/>
            <p:nvPr/>
          </p:nvSpPr>
          <p:spPr>
            <a:xfrm>
              <a:off x="228600" y="1981080"/>
              <a:ext cx="3276720" cy="13716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9840" y="2438280"/>
              <a:ext cx="2637360" cy="45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n parametric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600" y="4419720"/>
            <a:ext cx="3276720" cy="1447560"/>
            <a:chOff x="228600" y="4419720"/>
            <a:chExt cx="3276720" cy="1447560"/>
          </a:xfrm>
        </p:grpSpPr>
        <p:sp>
          <p:nvSpPr>
            <p:cNvPr id="379" name=""/>
            <p:cNvSpPr/>
            <p:nvPr/>
          </p:nvSpPr>
          <p:spPr>
            <a:xfrm>
              <a:off x="228600" y="4419720"/>
              <a:ext cx="3276720" cy="144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13680" y="4876920"/>
              <a:ext cx="2036880" cy="45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ametric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505320" y="20574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3048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952880"/>
            <a:ext cx="1067040" cy="381240"/>
          </a:xfrm>
          <a:prstGeom prst="rightArrow">
            <a:avLst>
              <a:gd name="adj1" fmla="val 50000"/>
              <a:gd name="adj2" fmla="val 69972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8661240" y="76320"/>
            <a:ext cx="4064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304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i Obiettiv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143000" y="2971800"/>
            <a:ext cx="4794840" cy="609480"/>
            <a:chOff x="1143000" y="2971800"/>
            <a:chExt cx="4794840" cy="609480"/>
          </a:xfrm>
        </p:grpSpPr>
        <p:sp>
          <p:nvSpPr>
            <p:cNvPr id="387" name=""/>
            <p:cNvSpPr/>
            <p:nvPr/>
          </p:nvSpPr>
          <p:spPr>
            <a:xfrm>
              <a:off x="1143000" y="2971800"/>
              <a:ext cx="976320" cy="609480"/>
            </a:xfrm>
            <a:prstGeom prst="rightArrow">
              <a:avLst>
                <a:gd name="adj1" fmla="val 50000"/>
                <a:gd name="adj2" fmla="val 4004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91400" y="2971800"/>
              <a:ext cx="364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LIVELLO GENERA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157400" y="3673440"/>
            <a:ext cx="6186240" cy="825480"/>
            <a:chOff x="1157400" y="3673440"/>
            <a:chExt cx="6186240" cy="825480"/>
          </a:xfrm>
        </p:grpSpPr>
        <p:sp>
          <p:nvSpPr>
            <p:cNvPr id="390" name=""/>
            <p:cNvSpPr/>
            <p:nvPr/>
          </p:nvSpPr>
          <p:spPr>
            <a:xfrm>
              <a:off x="1157400" y="3733560"/>
              <a:ext cx="976320" cy="609120"/>
            </a:xfrm>
            <a:prstGeom prst="rightArrow">
              <a:avLst>
                <a:gd name="adj1" fmla="val 50000"/>
                <a:gd name="adj2" fmla="val 4007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560" y="3673440"/>
              <a:ext cx="505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ER SINGOLE AREE AZIENDALI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movimento, manutenzione, indotto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7200" y="132732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UTARE L’EFFICIENZA, LA PRODUTTIVITA’ E L’EFFICACIA DELLE AZIENDE DI TPL IN BASE ALLA LORO DIMENS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495288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AGARE SULLA PRESENZA DELLE ECONOMIE DI SCALA ANCHE ALL’INTERNO DELLE SINGOLE A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33520" y="260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metodolog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667400" y="2324160"/>
            <a:ext cx="3105000" cy="1632600"/>
            <a:chOff x="4667400" y="2324160"/>
            <a:chExt cx="3105000" cy="1632600"/>
          </a:xfrm>
        </p:grpSpPr>
        <p:grpSp>
          <p:nvGrpSpPr>
            <p:cNvPr id="397" name=""/>
            <p:cNvGrpSpPr/>
            <p:nvPr/>
          </p:nvGrpSpPr>
          <p:grpSpPr>
            <a:xfrm>
              <a:off x="5124600" y="2324160"/>
              <a:ext cx="2647800" cy="1632600"/>
              <a:chOff x="5124600" y="2324160"/>
              <a:chExt cx="2647800" cy="1632600"/>
            </a:xfrm>
          </p:grpSpPr>
          <p:sp>
            <p:nvSpPr>
              <p:cNvPr id="398" name=""/>
              <p:cNvSpPr/>
              <p:nvPr/>
            </p:nvSpPr>
            <p:spPr>
              <a:xfrm>
                <a:off x="5207040" y="2324160"/>
                <a:ext cx="2489040" cy="3373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ICCOLA: &lt; 400 addett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200560" y="2933640"/>
                <a:ext cx="2495520" cy="3373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EDIA: 400-1000 addett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24600" y="3619440"/>
                <a:ext cx="2647800" cy="3373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RANDE: &gt; 1000 addett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667400" y="2590920"/>
              <a:ext cx="533160" cy="1084320"/>
              <a:chOff x="4667400" y="2590920"/>
              <a:chExt cx="533160" cy="1084320"/>
            </a:xfrm>
          </p:grpSpPr>
          <p:sp>
            <p:nvSpPr>
              <p:cNvPr id="402" name=""/>
              <p:cNvSpPr/>
              <p:nvPr/>
            </p:nvSpPr>
            <p:spPr>
              <a:xfrm>
                <a:off x="4667400" y="3065400"/>
                <a:ext cx="380880" cy="609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4667400" y="2590920"/>
                <a:ext cx="533160" cy="474480"/>
                <a:chOff x="4667400" y="2590920"/>
                <a:chExt cx="533160" cy="474480"/>
              </a:xfrm>
            </p:grpSpPr>
            <p:sp>
              <p:nvSpPr>
                <p:cNvPr id="404" name=""/>
                <p:cNvSpPr/>
                <p:nvPr/>
              </p:nvSpPr>
              <p:spPr>
                <a:xfrm flipV="1">
                  <a:off x="4667400" y="259092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667400" y="3065400"/>
                  <a:ext cx="533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6" name=""/>
          <p:cNvSpPr/>
          <p:nvPr/>
        </p:nvSpPr>
        <p:spPr>
          <a:xfrm>
            <a:off x="228600" y="1295280"/>
            <a:ext cx="441972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DIVIDUAZIONE DEL CAMP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25 aziende di trasporto pubblico itali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su 194 aziende associate ad Asstra)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3962520"/>
            <a:ext cx="441972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VIO QUESTION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5181480"/>
            <a:ext cx="4419720" cy="838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CCOLTA E ELABORAZIONE DA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nno di riferimento 2000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2590920"/>
            <a:ext cx="4419720" cy="838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DDIVISIONE DEL CAMPIONE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E CLASSI DIMENSION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21337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62320" y="46483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7200" y="488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principali risultat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90720" y="1523880"/>
            <a:ext cx="7162560" cy="3832200"/>
            <a:chOff x="990720" y="1523880"/>
            <a:chExt cx="7162560" cy="3832200"/>
          </a:xfrm>
        </p:grpSpPr>
        <p:sp>
          <p:nvSpPr>
            <p:cNvPr id="416" name=""/>
            <p:cNvSpPr/>
            <p:nvPr/>
          </p:nvSpPr>
          <p:spPr>
            <a:xfrm>
              <a:off x="2819880" y="1523880"/>
              <a:ext cx="29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L COSTO A KM (€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4929120"/>
              <a:ext cx="7162560" cy="426960"/>
            </a:xfrm>
            <a:custGeom>
              <a:avLst/>
              <a:gdLst/>
              <a:ahLst/>
              <a:rect l="l" t="t" r="r" b="b"/>
              <a:pathLst>
                <a:path w="3318" h="269">
                  <a:moveTo>
                    <a:pt x="0" y="269"/>
                  </a:moveTo>
                  <a:lnTo>
                    <a:pt x="340" y="0"/>
                  </a:lnTo>
                  <a:lnTo>
                    <a:pt x="3318" y="0"/>
                  </a:lnTo>
                  <a:lnTo>
                    <a:pt x="2978" y="269"/>
                  </a:lnTo>
                  <a:lnTo>
                    <a:pt x="0" y="26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90720" y="4929120"/>
              <a:ext cx="7162560" cy="426960"/>
            </a:xfrm>
            <a:custGeom>
              <a:avLst/>
              <a:gdLst/>
              <a:ahLst/>
              <a:rect l="l" t="t" r="r" b="b"/>
              <a:pathLst>
                <a:path w="3318" h="269">
                  <a:moveTo>
                    <a:pt x="3318" y="0"/>
                  </a:moveTo>
                  <a:lnTo>
                    <a:pt x="2978" y="269"/>
                  </a:lnTo>
                  <a:lnTo>
                    <a:pt x="0" y="269"/>
                  </a:lnTo>
                  <a:lnTo>
                    <a:pt x="340" y="0"/>
                  </a:lnTo>
                  <a:lnTo>
                    <a:pt x="331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90760" y="1676520"/>
              <a:ext cx="596880" cy="3306600"/>
            </a:xfrm>
            <a:custGeom>
              <a:avLst/>
              <a:gdLst/>
              <a:ahLst/>
              <a:rect l="l" t="t" r="r" b="b"/>
              <a:pathLst>
                <a:path w="340" h="2083">
                  <a:moveTo>
                    <a:pt x="0" y="2083"/>
                  </a:moveTo>
                  <a:lnTo>
                    <a:pt x="0" y="269"/>
                  </a:lnTo>
                  <a:lnTo>
                    <a:pt x="340" y="0"/>
                  </a:lnTo>
                  <a:lnTo>
                    <a:pt x="340" y="1814"/>
                  </a:lnTo>
                  <a:lnTo>
                    <a:pt x="0" y="208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87640" y="1676520"/>
              <a:ext cx="522756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90760" y="1676520"/>
              <a:ext cx="596880" cy="3306600"/>
            </a:xfrm>
            <a:custGeom>
              <a:avLst/>
              <a:gdLst/>
              <a:ahLst/>
              <a:rect l="l" t="t" r="r" b="b"/>
              <a:pathLst>
                <a:path w="340" h="2083">
                  <a:moveTo>
                    <a:pt x="0" y="2083"/>
                  </a:moveTo>
                  <a:lnTo>
                    <a:pt x="0" y="269"/>
                  </a:lnTo>
                  <a:lnTo>
                    <a:pt x="340" y="0"/>
                  </a:lnTo>
                  <a:lnTo>
                    <a:pt x="340" y="1814"/>
                  </a:lnTo>
                  <a:lnTo>
                    <a:pt x="0" y="208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87640" y="1676520"/>
              <a:ext cx="522756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04640" y="2814480"/>
              <a:ext cx="44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2,6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53840" y="2552760"/>
              <a:ext cx="44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3,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11520" y="3137040"/>
              <a:ext cx="303120" cy="1709640"/>
            </a:xfrm>
            <a:custGeom>
              <a:avLst/>
              <a:gdLst/>
              <a:ahLst/>
              <a:rect l="l" t="t" r="r" b="b"/>
              <a:pathLst>
                <a:path w="141" h="1077">
                  <a:moveTo>
                    <a:pt x="0" y="1077"/>
                  </a:moveTo>
                  <a:lnTo>
                    <a:pt x="0" y="113"/>
                  </a:lnTo>
                  <a:lnTo>
                    <a:pt x="141" y="0"/>
                  </a:lnTo>
                  <a:lnTo>
                    <a:pt x="141" y="972"/>
                  </a:lnTo>
                  <a:lnTo>
                    <a:pt x="0" y="107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52560" y="3316320"/>
              <a:ext cx="858960" cy="1530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52560" y="3137040"/>
              <a:ext cx="1162080" cy="179280"/>
            </a:xfrm>
            <a:custGeom>
              <a:avLst/>
              <a:gdLst/>
              <a:ahLst/>
              <a:rect l="l" t="t" r="r" b="b"/>
              <a:pathLst>
                <a:path w="539" h="113">
                  <a:moveTo>
                    <a:pt x="398" y="113"/>
                  </a:moveTo>
                  <a:lnTo>
                    <a:pt x="539" y="0"/>
                  </a:lnTo>
                  <a:lnTo>
                    <a:pt x="140" y="0"/>
                  </a:lnTo>
                  <a:lnTo>
                    <a:pt x="0" y="113"/>
                  </a:lnTo>
                  <a:lnTo>
                    <a:pt x="398" y="11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59280" y="2874960"/>
              <a:ext cx="284400" cy="1971720"/>
            </a:xfrm>
            <a:custGeom>
              <a:avLst/>
              <a:gdLst/>
              <a:ahLst/>
              <a:rect l="l" t="t" r="r" b="b"/>
              <a:pathLst>
                <a:path w="132" h="1242">
                  <a:moveTo>
                    <a:pt x="0" y="1242"/>
                  </a:moveTo>
                  <a:lnTo>
                    <a:pt x="0" y="113"/>
                  </a:lnTo>
                  <a:lnTo>
                    <a:pt x="132" y="0"/>
                  </a:lnTo>
                  <a:lnTo>
                    <a:pt x="132" y="1137"/>
                  </a:lnTo>
                  <a:lnTo>
                    <a:pt x="0" y="124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98880" y="3054240"/>
              <a:ext cx="860400" cy="1792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98880" y="2874960"/>
              <a:ext cx="1144800" cy="179280"/>
            </a:xfrm>
            <a:custGeom>
              <a:avLst/>
              <a:gdLst/>
              <a:ahLst/>
              <a:rect l="l" t="t" r="r" b="b"/>
              <a:pathLst>
                <a:path w="530" h="113">
                  <a:moveTo>
                    <a:pt x="398" y="113"/>
                  </a:moveTo>
                  <a:lnTo>
                    <a:pt x="530" y="0"/>
                  </a:lnTo>
                  <a:lnTo>
                    <a:pt x="132" y="0"/>
                  </a:lnTo>
                  <a:lnTo>
                    <a:pt x="0" y="113"/>
                  </a:lnTo>
                  <a:lnTo>
                    <a:pt x="398" y="11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88320" y="2006640"/>
              <a:ext cx="303120" cy="2840040"/>
            </a:xfrm>
            <a:custGeom>
              <a:avLst/>
              <a:gdLst/>
              <a:ahLst/>
              <a:rect l="l" t="t" r="r" b="b"/>
              <a:pathLst>
                <a:path w="140" h="1789">
                  <a:moveTo>
                    <a:pt x="0" y="1789"/>
                  </a:moveTo>
                  <a:lnTo>
                    <a:pt x="0" y="113"/>
                  </a:lnTo>
                  <a:lnTo>
                    <a:pt x="140" y="0"/>
                  </a:lnTo>
                  <a:lnTo>
                    <a:pt x="140" y="1684"/>
                  </a:lnTo>
                  <a:lnTo>
                    <a:pt x="0" y="178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27920" y="2185920"/>
              <a:ext cx="860400" cy="26607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27920" y="2006640"/>
              <a:ext cx="1163520" cy="179280"/>
            </a:xfrm>
            <a:custGeom>
              <a:avLst/>
              <a:gdLst/>
              <a:ahLst/>
              <a:rect l="l" t="t" r="r" b="b"/>
              <a:pathLst>
                <a:path w="539" h="113">
                  <a:moveTo>
                    <a:pt x="399" y="113"/>
                  </a:moveTo>
                  <a:lnTo>
                    <a:pt x="539" y="0"/>
                  </a:lnTo>
                  <a:lnTo>
                    <a:pt x="141" y="0"/>
                  </a:lnTo>
                  <a:lnTo>
                    <a:pt x="0" y="113"/>
                  </a:lnTo>
                  <a:lnTo>
                    <a:pt x="399" y="11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84320" y="1684440"/>
              <a:ext cx="44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4,6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21800" y="5065560"/>
              <a:ext cx="127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&lt; 400 addett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04600" y="5065560"/>
              <a:ext cx="162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00-1000 addett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19560" y="5065560"/>
              <a:ext cx="133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&gt;1000 addett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371600" y="5715000"/>
            <a:ext cx="6553080" cy="840600"/>
            <a:chOff x="1371600" y="5715000"/>
            <a:chExt cx="6553080" cy="840600"/>
          </a:xfrm>
        </p:grpSpPr>
        <p:sp>
          <p:nvSpPr>
            <p:cNvPr id="439" name=""/>
            <p:cNvSpPr/>
            <p:nvPr/>
          </p:nvSpPr>
          <p:spPr>
            <a:xfrm>
              <a:off x="1371600" y="5715000"/>
              <a:ext cx="6553080" cy="838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58360" y="5715000"/>
              <a:ext cx="42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alore medio del campione 3,5 €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72200" y="6095880"/>
              <a:ext cx="59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Valore medio di tutte le aziende di Asstra 3,8 €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57200" y="488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principali risulta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322280" y="1600200"/>
            <a:ext cx="6159600" cy="4013640"/>
            <a:chOff x="1322280" y="1600200"/>
            <a:chExt cx="6159600" cy="4013640"/>
          </a:xfrm>
        </p:grpSpPr>
        <p:sp>
          <p:nvSpPr>
            <p:cNvPr id="445" name=""/>
            <p:cNvSpPr/>
            <p:nvPr/>
          </p:nvSpPr>
          <p:spPr>
            <a:xfrm>
              <a:off x="1517760" y="1600200"/>
              <a:ext cx="5964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l costo a km in relazione alla dimensione dell’impres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322280" y="2222640"/>
              <a:ext cx="6040080" cy="3391200"/>
              <a:chOff x="1322280" y="2222640"/>
              <a:chExt cx="6040080" cy="3391200"/>
            </a:xfrm>
          </p:grpSpPr>
          <p:sp>
            <p:nvSpPr>
              <p:cNvPr id="447" name=""/>
              <p:cNvSpPr/>
              <p:nvPr/>
            </p:nvSpPr>
            <p:spPr>
              <a:xfrm>
                <a:off x="2253240" y="2321280"/>
                <a:ext cx="4732560" cy="25621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53240" y="2306520"/>
                <a:ext cx="4732560" cy="25624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32720" y="4874040"/>
                <a:ext cx="4732560" cy="32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38920" y="3650040"/>
                <a:ext cx="89640" cy="7776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24" y="0"/>
                    </a:moveTo>
                    <a:lnTo>
                      <a:pt x="47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40960" y="2554200"/>
                <a:ext cx="89640" cy="7560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217480" y="3191400"/>
                <a:ext cx="91080" cy="7668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27880" y="3740400"/>
                <a:ext cx="88200" cy="752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3" y="0"/>
                    </a:moveTo>
                    <a:lnTo>
                      <a:pt x="47" y="22"/>
                    </a:lnTo>
                    <a:lnTo>
                      <a:pt x="23" y="43"/>
                    </a:lnTo>
                    <a:lnTo>
                      <a:pt x="0" y="2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98600" y="3829320"/>
                <a:ext cx="89640" cy="7560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3" y="0"/>
                    </a:moveTo>
                    <a:lnTo>
                      <a:pt x="47" y="22"/>
                    </a:lnTo>
                    <a:lnTo>
                      <a:pt x="23" y="43"/>
                    </a:lnTo>
                    <a:lnTo>
                      <a:pt x="0" y="2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90720" y="3893040"/>
                <a:ext cx="89640" cy="7776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745360" y="3548880"/>
                <a:ext cx="89280" cy="7560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3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16080" y="369036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3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08840" y="3829320"/>
                <a:ext cx="88200" cy="7560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4" y="0"/>
                    </a:moveTo>
                    <a:lnTo>
                      <a:pt x="47" y="22"/>
                    </a:lnTo>
                    <a:lnTo>
                      <a:pt x="24" y="43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55680" y="3844080"/>
                <a:ext cx="88200" cy="7560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4" y="0"/>
                    </a:moveTo>
                    <a:lnTo>
                      <a:pt x="47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96200" y="4096800"/>
                <a:ext cx="91080" cy="7668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23" y="0"/>
                    </a:moveTo>
                    <a:lnTo>
                      <a:pt x="47" y="22"/>
                    </a:lnTo>
                    <a:lnTo>
                      <a:pt x="23" y="44"/>
                    </a:lnTo>
                    <a:lnTo>
                      <a:pt x="0" y="2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16080" y="3586680"/>
                <a:ext cx="89640" cy="752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57160" y="3841920"/>
                <a:ext cx="88200" cy="7776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23" y="0"/>
                    </a:moveTo>
                    <a:lnTo>
                      <a:pt x="47" y="22"/>
                    </a:lnTo>
                    <a:lnTo>
                      <a:pt x="23" y="44"/>
                    </a:lnTo>
                    <a:lnTo>
                      <a:pt x="0" y="2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155200" y="2731320"/>
                <a:ext cx="91080" cy="7632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33920" y="3448800"/>
                <a:ext cx="89280" cy="752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4" y="0"/>
                    </a:moveTo>
                    <a:lnTo>
                      <a:pt x="47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69800" y="4072320"/>
                <a:ext cx="86760" cy="752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3" y="0"/>
                    </a:moveTo>
                    <a:lnTo>
                      <a:pt x="47" y="22"/>
                    </a:lnTo>
                    <a:lnTo>
                      <a:pt x="23" y="43"/>
                    </a:lnTo>
                    <a:lnTo>
                      <a:pt x="0" y="2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08840" y="3779640"/>
                <a:ext cx="88200" cy="7416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4" y="0"/>
                    </a:moveTo>
                    <a:lnTo>
                      <a:pt x="47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896200" y="3816000"/>
                <a:ext cx="91080" cy="7668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23" y="0"/>
                    </a:moveTo>
                    <a:lnTo>
                      <a:pt x="47" y="22"/>
                    </a:lnTo>
                    <a:lnTo>
                      <a:pt x="23" y="44"/>
                    </a:lnTo>
                    <a:lnTo>
                      <a:pt x="0" y="2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76920" y="3930480"/>
                <a:ext cx="92520" cy="7812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31680" y="4200480"/>
                <a:ext cx="89280" cy="752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13320" y="4122360"/>
                <a:ext cx="91080" cy="7776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937680" y="3306240"/>
                <a:ext cx="88560" cy="752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4" y="0"/>
                    </a:moveTo>
                    <a:lnTo>
                      <a:pt x="47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503440" y="4033440"/>
                <a:ext cx="91080" cy="7668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17040" y="3816000"/>
                <a:ext cx="91440" cy="7668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04400" y="3829320"/>
                <a:ext cx="91440" cy="7560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3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16000" y="3902760"/>
                <a:ext cx="88560" cy="7668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927880" y="4200480"/>
                <a:ext cx="88200" cy="752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3" y="0"/>
                    </a:moveTo>
                    <a:lnTo>
                      <a:pt x="47" y="21"/>
                    </a:lnTo>
                    <a:lnTo>
                      <a:pt x="23" y="43"/>
                    </a:lnTo>
                    <a:lnTo>
                      <a:pt x="0" y="21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913840" y="3971160"/>
                <a:ext cx="86760" cy="7308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3" y="0"/>
                    </a:moveTo>
                    <a:lnTo>
                      <a:pt x="47" y="22"/>
                    </a:lnTo>
                    <a:lnTo>
                      <a:pt x="23" y="43"/>
                    </a:lnTo>
                    <a:lnTo>
                      <a:pt x="0" y="2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310120" y="4044240"/>
                <a:ext cx="86760" cy="7776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24" y="0"/>
                    </a:moveTo>
                    <a:lnTo>
                      <a:pt x="47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02280" y="3026520"/>
                <a:ext cx="89280" cy="752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58960" y="3714840"/>
                <a:ext cx="89640" cy="7668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88320" y="3981960"/>
                <a:ext cx="91080" cy="7776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87280" y="3524400"/>
                <a:ext cx="89280" cy="7668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35000" y="3919680"/>
                <a:ext cx="92520" cy="752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579760" y="3535560"/>
                <a:ext cx="88200" cy="76320"/>
              </a:xfrm>
              <a:custGeom>
                <a:avLst/>
                <a:gdLst/>
                <a:ahLst/>
                <a:rect l="l" t="t" r="r" b="b"/>
                <a:pathLst>
                  <a:path w="47" h="44">
                    <a:moveTo>
                      <a:pt x="24" y="0"/>
                    </a:moveTo>
                    <a:lnTo>
                      <a:pt x="47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83080" y="3803760"/>
                <a:ext cx="93960" cy="7776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84640" y="3497760"/>
                <a:ext cx="89640" cy="752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3" y="0"/>
                    </a:moveTo>
                    <a:lnTo>
                      <a:pt x="47" y="21"/>
                    </a:lnTo>
                    <a:lnTo>
                      <a:pt x="23" y="43"/>
                    </a:lnTo>
                    <a:lnTo>
                      <a:pt x="0" y="21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97240" y="3459600"/>
                <a:ext cx="91080" cy="7560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3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503440" y="3639240"/>
                <a:ext cx="91080" cy="752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24" y="0"/>
                    </a:moveTo>
                    <a:lnTo>
                      <a:pt x="48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64360" y="3448800"/>
                <a:ext cx="86760" cy="752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24" y="0"/>
                    </a:moveTo>
                    <a:lnTo>
                      <a:pt x="47" y="21"/>
                    </a:lnTo>
                    <a:lnTo>
                      <a:pt x="24" y="43"/>
                    </a:lnTo>
                    <a:lnTo>
                      <a:pt x="0" y="21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41440" y="3612240"/>
                <a:ext cx="93960" cy="7812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24" y="0"/>
                    </a:moveTo>
                    <a:lnTo>
                      <a:pt x="48" y="22"/>
                    </a:lnTo>
                    <a:lnTo>
                      <a:pt x="24" y="44"/>
                    </a:lnTo>
                    <a:lnTo>
                      <a:pt x="0" y="22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55480" y="3650040"/>
                <a:ext cx="41400" cy="11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97240" y="3662280"/>
                <a:ext cx="106200" cy="40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03440" y="3702600"/>
                <a:ext cx="91080" cy="252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3" y="1"/>
                    </a:lnTo>
                    <a:lnTo>
                      <a:pt x="6" y="2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94520" y="3728160"/>
                <a:ext cx="45720" cy="12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40240" y="3740400"/>
                <a:ext cx="104760" cy="226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45360" y="3763440"/>
                <a:ext cx="89280" cy="28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3" y="1"/>
                    </a:lnTo>
                    <a:lnTo>
                      <a:pt x="6" y="2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35000" y="3791880"/>
                <a:ext cx="92520" cy="241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3" y="1"/>
                    </a:lnTo>
                    <a:lnTo>
                      <a:pt x="6" y="2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927880" y="3816000"/>
                <a:ext cx="59400" cy="1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987280" y="3816000"/>
                <a:ext cx="89280" cy="1296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76920" y="3829320"/>
                <a:ext cx="92520" cy="122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69800" y="3841920"/>
                <a:ext cx="101880" cy="118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1"/>
                    </a:lnTo>
                    <a:lnTo>
                      <a:pt x="7" y="1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271680" y="3854160"/>
                <a:ext cx="45360" cy="1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17040" y="3854160"/>
                <a:ext cx="91440" cy="144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408840" y="3868560"/>
                <a:ext cx="1047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13600" y="3868560"/>
                <a:ext cx="45360" cy="1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558960" y="3854160"/>
                <a:ext cx="89640" cy="144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48960" y="3854160"/>
                <a:ext cx="88200" cy="108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3" y="0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37520" y="3841920"/>
                <a:ext cx="108720" cy="118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46600" y="3841920"/>
                <a:ext cx="44280" cy="2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90880" y="382932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3" y="0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83400" y="3816000"/>
                <a:ext cx="101880" cy="129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85640" y="3791880"/>
                <a:ext cx="91080" cy="241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4176720" y="3779280"/>
                <a:ext cx="45720" cy="11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22440" y="3752640"/>
                <a:ext cx="104760" cy="266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7560" y="3728160"/>
                <a:ext cx="92160" cy="244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4420080" y="3714840"/>
                <a:ext cx="44280" cy="12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64360" y="3690360"/>
                <a:ext cx="101880" cy="241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1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66600" y="3650040"/>
                <a:ext cx="92160" cy="40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3" y="1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59120" y="3612240"/>
                <a:ext cx="92520" cy="37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3" y="2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4751640" y="3601080"/>
                <a:ext cx="59040" cy="10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11040" y="3548880"/>
                <a:ext cx="88560" cy="525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3" y="2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99600" y="3510720"/>
                <a:ext cx="91080" cy="37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3" y="2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990680" y="3459600"/>
                <a:ext cx="104760" cy="51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095800" y="3434040"/>
                <a:ext cx="45360" cy="2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41160" y="3381480"/>
                <a:ext cx="92520" cy="525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3" y="2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34040" y="3331440"/>
                <a:ext cx="103680" cy="50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337720" y="3306240"/>
                <a:ext cx="42480" cy="2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380200" y="3242520"/>
                <a:ext cx="92520" cy="63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3" y="3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73080" y="3179160"/>
                <a:ext cx="92160" cy="63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3" y="3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565600" y="3113280"/>
                <a:ext cx="101880" cy="655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667840" y="3088440"/>
                <a:ext cx="45720" cy="24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3560" y="3012120"/>
                <a:ext cx="91080" cy="76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3" y="3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04640" y="294984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09760" y="2872800"/>
                <a:ext cx="92520" cy="76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3" y="3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002280" y="2834640"/>
                <a:ext cx="45360" cy="37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47640" y="27568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151320" y="2667600"/>
                <a:ext cx="89280" cy="88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3" y="3"/>
                    </a:lnTo>
                    <a:lnTo>
                      <a:pt x="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6240960" y="2630160"/>
                <a:ext cx="45720" cy="37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95680" y="478620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,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95680" y="441396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,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795680" y="406116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,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795680" y="369144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3,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5680" y="332172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,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795680" y="294984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5,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795680" y="259344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6,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795680" y="222264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7,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86640" y="4987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774160" y="4987440"/>
                <a:ext cx="808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10.000.0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723480" y="4987440"/>
                <a:ext cx="808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20.000.0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653360" y="4987440"/>
                <a:ext cx="808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30.000.0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05560" y="4987440"/>
                <a:ext cx="808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40.000.0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553800" y="4987440"/>
                <a:ext cx="808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50.000.0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973320" y="5308560"/>
                <a:ext cx="1317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Vetture km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6200000">
                <a:off x="537840" y="3328560"/>
                <a:ext cx="187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sto a km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in (€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3448080" y="2320920"/>
              <a:ext cx="0" cy="2577960"/>
            </a:xfrm>
            <a:prstGeom prst="line">
              <a:avLst/>
            </a:prstGeom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914400" y="5746680"/>
            <a:ext cx="6629040" cy="808560"/>
            <a:chOff x="914400" y="5746680"/>
            <a:chExt cx="6629040" cy="808560"/>
          </a:xfrm>
        </p:grpSpPr>
        <p:sp>
          <p:nvSpPr>
            <p:cNvPr id="557" name=""/>
            <p:cNvSpPr/>
            <p:nvPr/>
          </p:nvSpPr>
          <p:spPr>
            <a:xfrm>
              <a:off x="914400" y="586728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828800" y="5746680"/>
              <a:ext cx="5714640" cy="808560"/>
              <a:chOff x="1828800" y="5746680"/>
              <a:chExt cx="5714640" cy="808560"/>
            </a:xfrm>
          </p:grpSpPr>
          <p:sp>
            <p:nvSpPr>
              <p:cNvPr id="559" name=""/>
              <p:cNvSpPr/>
              <p:nvPr/>
            </p:nvSpPr>
            <p:spPr>
              <a:xfrm>
                <a:off x="1828800" y="5746680"/>
                <a:ext cx="5714640" cy="76212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417400" y="5851440"/>
                <a:ext cx="4917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3366ff"/>
                    </a:solidFill>
                    <a:latin typeface="Times New Roman"/>
                  </a:rPr>
                  <a:t>La maggioranza delle aziende di Tpl italian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3366ff"/>
                    </a:solidFill>
                    <a:latin typeface="Times New Roman"/>
                  </a:rPr>
                  <a:t>sono di medio/piccola dimension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57200" y="488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principali risulta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066680" y="1447920"/>
            <a:ext cx="6629400" cy="4419360"/>
            <a:chOff x="1066680" y="1447920"/>
            <a:chExt cx="6629400" cy="4419360"/>
          </a:xfrm>
        </p:grpSpPr>
        <p:sp>
          <p:nvSpPr>
            <p:cNvPr id="564" name=""/>
            <p:cNvSpPr/>
            <p:nvPr/>
          </p:nvSpPr>
          <p:spPr>
            <a:xfrm>
              <a:off x="3200400" y="2514600"/>
              <a:ext cx="0" cy="3352680"/>
            </a:xfrm>
            <a:prstGeom prst="line">
              <a:avLst/>
            </a:prstGeom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4240" y="262908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61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5320" y="282564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4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2185920" y="2843280"/>
              <a:ext cx="4977000" cy="2092320"/>
              <a:chOff x="2185920" y="2843280"/>
              <a:chExt cx="4977000" cy="209232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2185920" y="3073320"/>
                <a:ext cx="3009960" cy="1862280"/>
                <a:chOff x="2185920" y="3073320"/>
                <a:chExt cx="3009960" cy="18622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2967120" y="3073320"/>
                  <a:ext cx="284040" cy="1862280"/>
                </a:xfrm>
                <a:custGeom>
                  <a:avLst/>
                  <a:gdLst/>
                  <a:ahLst/>
                  <a:rect l="l" t="t" r="r" b="b"/>
                  <a:pathLst>
                    <a:path w="79" h="975">
                      <a:moveTo>
                        <a:pt x="0" y="975"/>
                      </a:moveTo>
                      <a:lnTo>
                        <a:pt x="0" y="68"/>
                      </a:lnTo>
                      <a:lnTo>
                        <a:pt x="79" y="0"/>
                      </a:lnTo>
                      <a:lnTo>
                        <a:pt x="79" y="908"/>
                      </a:lnTo>
                      <a:lnTo>
                        <a:pt x="0" y="97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100000">
                      <a:srgbClr val="4d4d80"/>
                    </a:gs>
                  </a:gsLst>
                  <a:lin ang="5400000"/>
                </a:gra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185920" y="3203640"/>
                  <a:ext cx="781200" cy="1731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185920" y="3073320"/>
                  <a:ext cx="1065240" cy="130320"/>
                </a:xfrm>
                <a:custGeom>
                  <a:avLst/>
                  <a:gdLst/>
                  <a:ahLst/>
                  <a:rect l="l" t="t" r="r" b="b"/>
                  <a:pathLst>
                    <a:path w="296" h="68">
                      <a:moveTo>
                        <a:pt x="217" y="68"/>
                      </a:moveTo>
                      <a:lnTo>
                        <a:pt x="296" y="0"/>
                      </a:lnTo>
                      <a:lnTo>
                        <a:pt x="79" y="0"/>
                      </a:lnTo>
                      <a:lnTo>
                        <a:pt x="0" y="68"/>
                      </a:lnTo>
                      <a:lnTo>
                        <a:pt x="217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100000">
                      <a:srgbClr val="7373bf"/>
                    </a:gs>
                  </a:gsLst>
                  <a:lin ang="5400000"/>
                </a:gra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933800" y="3273480"/>
                  <a:ext cx="262080" cy="1662120"/>
                </a:xfrm>
                <a:custGeom>
                  <a:avLst/>
                  <a:gdLst/>
                  <a:ahLst/>
                  <a:rect l="l" t="t" r="r" b="b"/>
                  <a:pathLst>
                    <a:path w="73" h="870">
                      <a:moveTo>
                        <a:pt x="0" y="870"/>
                      </a:moveTo>
                      <a:lnTo>
                        <a:pt x="0" y="68"/>
                      </a:lnTo>
                      <a:lnTo>
                        <a:pt x="73" y="0"/>
                      </a:lnTo>
                      <a:lnTo>
                        <a:pt x="73" y="803"/>
                      </a:lnTo>
                      <a:lnTo>
                        <a:pt x="0" y="87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100000">
                      <a:srgbClr val="4d4d80"/>
                    </a:gs>
                  </a:gsLst>
                  <a:lin ang="5400000"/>
                </a:gra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52960" y="3403440"/>
                  <a:ext cx="780840" cy="153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52960" y="3273480"/>
                  <a:ext cx="1042920" cy="129960"/>
                </a:xfrm>
                <a:custGeom>
                  <a:avLst/>
                  <a:gdLst/>
                  <a:ahLst/>
                  <a:rect l="l" t="t" r="r" b="b"/>
                  <a:pathLst>
                    <a:path w="290" h="68">
                      <a:moveTo>
                        <a:pt x="217" y="68"/>
                      </a:moveTo>
                      <a:lnTo>
                        <a:pt x="290" y="0"/>
                      </a:lnTo>
                      <a:lnTo>
                        <a:pt x="73" y="0"/>
                      </a:lnTo>
                      <a:lnTo>
                        <a:pt x="0" y="68"/>
                      </a:lnTo>
                      <a:lnTo>
                        <a:pt x="217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100000">
                      <a:srgbClr val="7373bf"/>
                    </a:gs>
                  </a:gsLst>
                  <a:lin ang="5400000"/>
                </a:gra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6877080" y="2843280"/>
                <a:ext cx="285840" cy="2092320"/>
              </a:xfrm>
              <a:custGeom>
                <a:avLst/>
                <a:gdLst/>
                <a:ahLst/>
                <a:rect l="l" t="t" r="r" b="b"/>
                <a:pathLst>
                  <a:path w="79" h="1095">
                    <a:moveTo>
                      <a:pt x="0" y="1095"/>
                    </a:moveTo>
                    <a:lnTo>
                      <a:pt x="0" y="68"/>
                    </a:lnTo>
                    <a:lnTo>
                      <a:pt x="79" y="0"/>
                    </a:lnTo>
                    <a:lnTo>
                      <a:pt x="79" y="1028"/>
                    </a:lnTo>
                    <a:lnTo>
                      <a:pt x="0" y="10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4d4d80"/>
                  </a:gs>
                </a:gsLst>
                <a:lin ang="5400000"/>
              </a:gra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095880" y="2973240"/>
                <a:ext cx="781200" cy="196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95880" y="2843280"/>
                <a:ext cx="1067040" cy="129960"/>
              </a:xfrm>
              <a:custGeom>
                <a:avLst/>
                <a:gdLst/>
                <a:ahLst/>
                <a:rect l="l" t="t" r="r" b="b"/>
                <a:pathLst>
                  <a:path w="296" h="68">
                    <a:moveTo>
                      <a:pt x="217" y="68"/>
                    </a:moveTo>
                    <a:lnTo>
                      <a:pt x="296" y="0"/>
                    </a:lnTo>
                    <a:lnTo>
                      <a:pt x="79" y="0"/>
                    </a:lnTo>
                    <a:lnTo>
                      <a:pt x="0" y="68"/>
                    </a:lnTo>
                    <a:lnTo>
                      <a:pt x="217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7373bf"/>
                  </a:gs>
                </a:gsLst>
                <a:lin ang="5400000"/>
              </a:gra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6476760" y="239868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69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133360" y="5138640"/>
              <a:ext cx="686520" cy="576360"/>
              <a:chOff x="2133360" y="5138640"/>
              <a:chExt cx="686520" cy="576360"/>
            </a:xfrm>
          </p:grpSpPr>
          <p:sp>
            <p:nvSpPr>
              <p:cNvPr id="580" name=""/>
              <p:cNvSpPr/>
              <p:nvPr/>
            </p:nvSpPr>
            <p:spPr>
              <a:xfrm>
                <a:off x="2178000" y="5138640"/>
                <a:ext cx="531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&lt; 4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133360" y="544032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dett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4006440" y="5137200"/>
              <a:ext cx="87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00-1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14440" y="54403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ddett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6200280" y="5137200"/>
              <a:ext cx="734040" cy="577800"/>
              <a:chOff x="6200280" y="5137200"/>
              <a:chExt cx="734040" cy="577800"/>
            </a:xfrm>
          </p:grpSpPr>
          <p:sp>
            <p:nvSpPr>
              <p:cNvPr id="585" name=""/>
              <p:cNvSpPr/>
              <p:nvPr/>
            </p:nvSpPr>
            <p:spPr>
              <a:xfrm>
                <a:off x="6200280" y="5137200"/>
                <a:ext cx="645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&gt; 10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247800" y="544032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dett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066680" y="2292480"/>
              <a:ext cx="5668560" cy="1975680"/>
              <a:chOff x="1066680" y="2292480"/>
              <a:chExt cx="5668560" cy="1975680"/>
            </a:xfrm>
          </p:grpSpPr>
          <p:sp>
            <p:nvSpPr>
              <p:cNvPr id="588" name=""/>
              <p:cNvSpPr/>
              <p:nvPr/>
            </p:nvSpPr>
            <p:spPr>
              <a:xfrm>
                <a:off x="1066680" y="4010400"/>
                <a:ext cx="5668560" cy="257760"/>
              </a:xfrm>
              <a:custGeom>
                <a:avLst/>
                <a:gdLst/>
                <a:ahLst/>
                <a:rect l="l" t="t" r="r" b="b"/>
                <a:pathLst>
                  <a:path w="1816" h="157">
                    <a:moveTo>
                      <a:pt x="0" y="157"/>
                    </a:moveTo>
                    <a:lnTo>
                      <a:pt x="185" y="0"/>
                    </a:lnTo>
                    <a:lnTo>
                      <a:pt x="1816" y="0"/>
                    </a:lnTo>
                    <a:lnTo>
                      <a:pt x="1631" y="157"/>
                    </a:lnTo>
                    <a:lnTo>
                      <a:pt x="0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43400" y="2292480"/>
                <a:ext cx="5091480" cy="171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43400" y="2292480"/>
                <a:ext cx="5091480" cy="171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371600" y="1447920"/>
              <a:ext cx="6324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’incidenza del costo del personale sul costo della produzione (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219320" y="5867280"/>
            <a:ext cx="6553080" cy="840600"/>
            <a:chOff x="1219320" y="5867280"/>
            <a:chExt cx="6553080" cy="840600"/>
          </a:xfrm>
        </p:grpSpPr>
        <p:sp>
          <p:nvSpPr>
            <p:cNvPr id="593" name=""/>
            <p:cNvSpPr/>
            <p:nvPr/>
          </p:nvSpPr>
          <p:spPr>
            <a:xfrm>
              <a:off x="1219320" y="5867280"/>
              <a:ext cx="6553080" cy="838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05720" y="5867280"/>
              <a:ext cx="41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alore medio del campione 61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31000" y="6248160"/>
              <a:ext cx="612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ff"/>
                  </a:solidFill>
                  <a:latin typeface="Times New Roman"/>
                </a:rPr>
                <a:t>Valore medio di tutte le aziende di Asstra 60,8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57200" y="488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principali risulta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752480" y="6172200"/>
            <a:ext cx="5867640" cy="459720"/>
            <a:chOff x="1752480" y="6172200"/>
            <a:chExt cx="5867640" cy="459720"/>
          </a:xfrm>
        </p:grpSpPr>
        <p:sp>
          <p:nvSpPr>
            <p:cNvPr id="599" name=""/>
            <p:cNvSpPr/>
            <p:nvPr/>
          </p:nvSpPr>
          <p:spPr>
            <a:xfrm>
              <a:off x="1752480" y="6172200"/>
              <a:ext cx="5867640" cy="4572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35200" y="6172200"/>
              <a:ext cx="447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Valore medio del campione 33.6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066680" y="1600200"/>
            <a:ext cx="6629400" cy="4267080"/>
            <a:chOff x="1066680" y="1600200"/>
            <a:chExt cx="6629400" cy="4267080"/>
          </a:xfrm>
        </p:grpSpPr>
        <p:sp>
          <p:nvSpPr>
            <p:cNvPr id="602" name=""/>
            <p:cNvSpPr/>
            <p:nvPr/>
          </p:nvSpPr>
          <p:spPr>
            <a:xfrm>
              <a:off x="3200400" y="2514600"/>
              <a:ext cx="0" cy="3352680"/>
            </a:xfrm>
            <a:prstGeom prst="line">
              <a:avLst/>
            </a:prstGeom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18840" y="2629080"/>
              <a:ext cx="63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0.0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67120" y="3073320"/>
              <a:ext cx="284040" cy="1862280"/>
            </a:xfrm>
            <a:custGeom>
              <a:avLst/>
              <a:gdLst/>
              <a:ahLst/>
              <a:rect l="l" t="t" r="r" b="b"/>
              <a:pathLst>
                <a:path w="79" h="975">
                  <a:moveTo>
                    <a:pt x="0" y="975"/>
                  </a:moveTo>
                  <a:lnTo>
                    <a:pt x="0" y="68"/>
                  </a:lnTo>
                  <a:lnTo>
                    <a:pt x="79" y="0"/>
                  </a:lnTo>
                  <a:lnTo>
                    <a:pt x="79" y="908"/>
                  </a:lnTo>
                  <a:lnTo>
                    <a:pt x="0" y="9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4d4d80"/>
                </a:gs>
              </a:gsLst>
              <a:lin ang="5400000"/>
            </a:gra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85920" y="3203640"/>
              <a:ext cx="781200" cy="17319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85920" y="3073320"/>
              <a:ext cx="1065240" cy="130320"/>
            </a:xfrm>
            <a:custGeom>
              <a:avLst/>
              <a:gdLst/>
              <a:ahLst/>
              <a:rect l="l" t="t" r="r" b="b"/>
              <a:pathLst>
                <a:path w="296" h="68">
                  <a:moveTo>
                    <a:pt x="217" y="68"/>
                  </a:moveTo>
                  <a:lnTo>
                    <a:pt x="296" y="0"/>
                  </a:lnTo>
                  <a:lnTo>
                    <a:pt x="79" y="0"/>
                  </a:lnTo>
                  <a:lnTo>
                    <a:pt x="0" y="68"/>
                  </a:lnTo>
                  <a:lnTo>
                    <a:pt x="217" y="6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373bf"/>
                </a:gs>
              </a:gsLst>
              <a:lin ang="5400000"/>
            </a:gra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4152960" y="2895480"/>
              <a:ext cx="1042920" cy="2039760"/>
              <a:chOff x="4152960" y="2895480"/>
              <a:chExt cx="1042920" cy="2039760"/>
            </a:xfrm>
          </p:grpSpPr>
          <p:sp>
            <p:nvSpPr>
              <p:cNvPr id="608" name=""/>
              <p:cNvSpPr/>
              <p:nvPr/>
            </p:nvSpPr>
            <p:spPr>
              <a:xfrm>
                <a:off x="4933800" y="2895480"/>
                <a:ext cx="262080" cy="2039760"/>
              </a:xfrm>
              <a:custGeom>
                <a:avLst/>
                <a:gdLst/>
                <a:ahLst/>
                <a:rect l="l" t="t" r="r" b="b"/>
                <a:pathLst>
                  <a:path w="73" h="870">
                    <a:moveTo>
                      <a:pt x="0" y="870"/>
                    </a:moveTo>
                    <a:lnTo>
                      <a:pt x="0" y="68"/>
                    </a:lnTo>
                    <a:lnTo>
                      <a:pt x="73" y="0"/>
                    </a:lnTo>
                    <a:lnTo>
                      <a:pt x="73" y="803"/>
                    </a:lnTo>
                    <a:lnTo>
                      <a:pt x="0" y="8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4d4d80"/>
                  </a:gs>
                </a:gsLst>
                <a:lin ang="5400000"/>
              </a:gra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152960" y="3054960"/>
                <a:ext cx="780840" cy="18802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152960" y="2895480"/>
                <a:ext cx="1042920" cy="159480"/>
              </a:xfrm>
              <a:custGeom>
                <a:avLst/>
                <a:gdLst/>
                <a:ahLst/>
                <a:rect l="l" t="t" r="r" b="b"/>
                <a:pathLst>
                  <a:path w="290" h="68">
                    <a:moveTo>
                      <a:pt x="217" y="68"/>
                    </a:moveTo>
                    <a:lnTo>
                      <a:pt x="290" y="0"/>
                    </a:lnTo>
                    <a:lnTo>
                      <a:pt x="73" y="0"/>
                    </a:lnTo>
                    <a:lnTo>
                      <a:pt x="0" y="68"/>
                    </a:lnTo>
                    <a:lnTo>
                      <a:pt x="217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7373bf"/>
                  </a:gs>
                </a:gsLst>
                <a:lin ang="5400000"/>
              </a:gra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095880" y="2362320"/>
              <a:ext cx="1067040" cy="2572920"/>
              <a:chOff x="6095880" y="2362320"/>
              <a:chExt cx="1067040" cy="2572920"/>
            </a:xfrm>
          </p:grpSpPr>
          <p:sp>
            <p:nvSpPr>
              <p:cNvPr id="612" name=""/>
              <p:cNvSpPr/>
              <p:nvPr/>
            </p:nvSpPr>
            <p:spPr>
              <a:xfrm>
                <a:off x="6877080" y="2362320"/>
                <a:ext cx="285840" cy="2572920"/>
              </a:xfrm>
              <a:custGeom>
                <a:avLst/>
                <a:gdLst/>
                <a:ahLst/>
                <a:rect l="l" t="t" r="r" b="b"/>
                <a:pathLst>
                  <a:path w="79" h="1095">
                    <a:moveTo>
                      <a:pt x="0" y="1095"/>
                    </a:moveTo>
                    <a:lnTo>
                      <a:pt x="0" y="68"/>
                    </a:lnTo>
                    <a:lnTo>
                      <a:pt x="79" y="0"/>
                    </a:lnTo>
                    <a:lnTo>
                      <a:pt x="79" y="1028"/>
                    </a:lnTo>
                    <a:lnTo>
                      <a:pt x="0" y="10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4d4d80"/>
                  </a:gs>
                </a:gsLst>
                <a:lin ang="5400000"/>
              </a:gra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095880" y="2521800"/>
                <a:ext cx="781200" cy="2413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095880" y="2362320"/>
                <a:ext cx="1067040" cy="159480"/>
              </a:xfrm>
              <a:custGeom>
                <a:avLst/>
                <a:gdLst/>
                <a:ahLst/>
                <a:rect l="l" t="t" r="r" b="b"/>
                <a:pathLst>
                  <a:path w="296" h="68">
                    <a:moveTo>
                      <a:pt x="217" y="68"/>
                    </a:moveTo>
                    <a:lnTo>
                      <a:pt x="296" y="0"/>
                    </a:lnTo>
                    <a:lnTo>
                      <a:pt x="79" y="0"/>
                    </a:lnTo>
                    <a:lnTo>
                      <a:pt x="0" y="68"/>
                    </a:lnTo>
                    <a:lnTo>
                      <a:pt x="217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7373bf"/>
                  </a:gs>
                </a:gsLst>
                <a:lin ang="5400000"/>
              </a:gra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2133360" y="5138640"/>
              <a:ext cx="686520" cy="576360"/>
              <a:chOff x="2133360" y="5138640"/>
              <a:chExt cx="686520" cy="576360"/>
            </a:xfrm>
          </p:grpSpPr>
          <p:sp>
            <p:nvSpPr>
              <p:cNvPr id="616" name=""/>
              <p:cNvSpPr/>
              <p:nvPr/>
            </p:nvSpPr>
            <p:spPr>
              <a:xfrm>
                <a:off x="2178000" y="5138640"/>
                <a:ext cx="531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&lt; 4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33360" y="544032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dett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4006440" y="5137200"/>
              <a:ext cx="946800" cy="577800"/>
              <a:chOff x="4006440" y="5137200"/>
              <a:chExt cx="946800" cy="577800"/>
            </a:xfrm>
          </p:grpSpPr>
          <p:sp>
            <p:nvSpPr>
              <p:cNvPr id="619" name=""/>
              <p:cNvSpPr/>
              <p:nvPr/>
            </p:nvSpPr>
            <p:spPr>
              <a:xfrm>
                <a:off x="4006440" y="5137200"/>
                <a:ext cx="876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400-10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266720" y="544032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dett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200640" y="5137200"/>
              <a:ext cx="733680" cy="577800"/>
              <a:chOff x="6200640" y="5137200"/>
              <a:chExt cx="733680" cy="577800"/>
            </a:xfrm>
          </p:grpSpPr>
          <p:sp>
            <p:nvSpPr>
              <p:cNvPr id="622" name=""/>
              <p:cNvSpPr/>
              <p:nvPr/>
            </p:nvSpPr>
            <p:spPr>
              <a:xfrm>
                <a:off x="6200640" y="5137200"/>
                <a:ext cx="645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&gt; 10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7800" y="5440320"/>
                <a:ext cx="68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dett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1066680" y="2292480"/>
              <a:ext cx="5668560" cy="1975680"/>
              <a:chOff x="1066680" y="2292480"/>
              <a:chExt cx="5668560" cy="1975680"/>
            </a:xfrm>
          </p:grpSpPr>
          <p:sp>
            <p:nvSpPr>
              <p:cNvPr id="625" name=""/>
              <p:cNvSpPr/>
              <p:nvPr/>
            </p:nvSpPr>
            <p:spPr>
              <a:xfrm>
                <a:off x="1066680" y="4010400"/>
                <a:ext cx="5668560" cy="257760"/>
              </a:xfrm>
              <a:custGeom>
                <a:avLst/>
                <a:gdLst/>
                <a:ahLst/>
                <a:rect l="l" t="t" r="r" b="b"/>
                <a:pathLst>
                  <a:path w="1816" h="157">
                    <a:moveTo>
                      <a:pt x="0" y="157"/>
                    </a:moveTo>
                    <a:lnTo>
                      <a:pt x="185" y="0"/>
                    </a:lnTo>
                    <a:lnTo>
                      <a:pt x="1816" y="0"/>
                    </a:lnTo>
                    <a:lnTo>
                      <a:pt x="1631" y="157"/>
                    </a:lnTo>
                    <a:lnTo>
                      <a:pt x="0" y="15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43400" y="2292480"/>
                <a:ext cx="5091480" cy="171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643400" y="2292480"/>
                <a:ext cx="5091480" cy="171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371600" y="160020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l costo per addetto (€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76240" y="2514600"/>
              <a:ext cx="63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1.3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81000" y="2011320"/>
              <a:ext cx="63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6.7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295280" y="1508040"/>
            <a:ext cx="632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l costo della produzione a km e il del personale a k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confr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609480" y="2427120"/>
            <a:ext cx="7104600" cy="3744000"/>
            <a:chOff x="609480" y="2427120"/>
            <a:chExt cx="7104600" cy="3744000"/>
          </a:xfrm>
        </p:grpSpPr>
        <p:sp>
          <p:nvSpPr>
            <p:cNvPr id="634" name=""/>
            <p:cNvSpPr/>
            <p:nvPr/>
          </p:nvSpPr>
          <p:spPr>
            <a:xfrm>
              <a:off x="4103640" y="5832360"/>
              <a:ext cx="1079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6200000">
              <a:off x="-534600" y="3952800"/>
              <a:ext cx="25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sto della produzione a km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6200000">
              <a:off x="-45360" y="3973320"/>
              <a:ext cx="217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Times New Roman"/>
                </a:rPr>
                <a:t>Costo del personale a k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76520" y="2503080"/>
              <a:ext cx="5811840" cy="29052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54200" y="2504880"/>
              <a:ext cx="5813280" cy="2906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54200" y="2504880"/>
              <a:ext cx="1440" cy="2905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17840" y="5410080"/>
              <a:ext cx="3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17840" y="4990680"/>
              <a:ext cx="3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17840" y="4576320"/>
              <a:ext cx="36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7840" y="4160520"/>
              <a:ext cx="3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17840" y="3755880"/>
              <a:ext cx="3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17840" y="3339720"/>
              <a:ext cx="36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7840" y="2920680"/>
              <a:ext cx="36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7840" y="2504880"/>
              <a:ext cx="3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54200" y="5410080"/>
              <a:ext cx="5811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65420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94336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587760" y="5409720"/>
              <a:ext cx="32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232160" y="5409720"/>
              <a:ext cx="180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488952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5533920" y="5409720"/>
              <a:ext cx="180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176880" y="5409720"/>
              <a:ext cx="32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82308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46604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5321160"/>
              <a:ext cx="2239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82320" y="53272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,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4906800"/>
              <a:ext cx="2239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82320" y="491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,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95280" y="4492440"/>
              <a:ext cx="2239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82320" y="4498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,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95280" y="4071600"/>
              <a:ext cx="223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82320" y="4078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,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95280" y="3669840"/>
              <a:ext cx="223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82320" y="3676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,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95280" y="3254040"/>
              <a:ext cx="223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82320" y="3260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,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95280" y="2836440"/>
              <a:ext cx="223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82320" y="284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,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82320" y="2427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17840" y="5520960"/>
              <a:ext cx="586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26480" y="552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7800" y="5520960"/>
              <a:ext cx="516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8932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26760" y="55274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,5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·1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876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19760" y="552744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·1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8964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06560" y="5527440"/>
              <a:ext cx="52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,5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·1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3728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18280" y="552744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·1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8168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19120" y="5527440"/>
              <a:ext cx="483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,5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·1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2464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05640" y="552744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·1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7084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87760" y="5527440"/>
              <a:ext cx="52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,5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·1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03640" y="5832360"/>
              <a:ext cx="1079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17680" y="5927400"/>
              <a:ext cx="118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Km prodotti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54200" y="2504880"/>
              <a:ext cx="5813280" cy="2906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54200" y="2504880"/>
              <a:ext cx="1440" cy="2905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17840" y="5410080"/>
              <a:ext cx="3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17840" y="4990680"/>
              <a:ext cx="3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17840" y="4576320"/>
              <a:ext cx="36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17840" y="4160520"/>
              <a:ext cx="3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17840" y="3755880"/>
              <a:ext cx="3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17840" y="3339720"/>
              <a:ext cx="36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7840" y="2920680"/>
              <a:ext cx="36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17840" y="2504880"/>
              <a:ext cx="3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54200" y="5410080"/>
              <a:ext cx="5811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65420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294336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587760" y="5409720"/>
              <a:ext cx="32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4232160" y="5409720"/>
              <a:ext cx="180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88952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5533920" y="5409720"/>
              <a:ext cx="180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176880" y="5409720"/>
              <a:ext cx="32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682308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466040" y="540972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28800" y="44049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89280" y="413532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03320" y="38797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8"/>
                  </a:lnTo>
                  <a:lnTo>
                    <a:pt x="7" y="15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9760" y="412416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0"/>
                  </a:moveTo>
                  <a:lnTo>
                    <a:pt x="15" y="6"/>
                  </a:lnTo>
                  <a:lnTo>
                    <a:pt x="7" y="14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125800" y="462564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0"/>
                  </a:moveTo>
                  <a:lnTo>
                    <a:pt x="15" y="7"/>
                  </a:lnTo>
                  <a:lnTo>
                    <a:pt x="7" y="16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174760" y="4027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8"/>
                  </a:lnTo>
                  <a:lnTo>
                    <a:pt x="7" y="15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86000" y="426996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7"/>
                  </a:lnTo>
                  <a:lnTo>
                    <a:pt x="8" y="15"/>
                  </a:lnTo>
                  <a:lnTo>
                    <a:pt x="0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9360" y="4308120"/>
              <a:ext cx="2412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0"/>
                  </a:moveTo>
                  <a:lnTo>
                    <a:pt x="15" y="7"/>
                  </a:lnTo>
                  <a:lnTo>
                    <a:pt x="7" y="16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98680" y="392724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7" y="0"/>
                  </a:moveTo>
                  <a:lnTo>
                    <a:pt x="15" y="8"/>
                  </a:lnTo>
                  <a:lnTo>
                    <a:pt x="7" y="17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73200" y="4186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7"/>
                  </a:lnTo>
                  <a:lnTo>
                    <a:pt x="7" y="1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584440" y="375588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9"/>
                  </a:lnTo>
                  <a:lnTo>
                    <a:pt x="8" y="16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32040" y="391464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7"/>
                  </a:lnTo>
                  <a:lnTo>
                    <a:pt x="8" y="16"/>
                  </a:lnTo>
                  <a:lnTo>
                    <a:pt x="0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82800" y="39780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7"/>
                  </a:lnTo>
                  <a:lnTo>
                    <a:pt x="7" y="1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38360" y="3339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60640" y="44416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72080" y="3020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8"/>
                  </a:lnTo>
                  <a:lnTo>
                    <a:pt x="7" y="15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57760" y="337464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0"/>
                  </a:moveTo>
                  <a:lnTo>
                    <a:pt x="15" y="9"/>
                  </a:lnTo>
                  <a:lnTo>
                    <a:pt x="7" y="16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34240" y="33397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28800" y="4773240"/>
              <a:ext cx="2700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89280" y="4674960"/>
              <a:ext cx="27000" cy="252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03320" y="4294080"/>
              <a:ext cx="25560" cy="252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39760" y="4782960"/>
              <a:ext cx="25560" cy="2844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25800" y="4897080"/>
              <a:ext cx="25200" cy="2556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74760" y="4636800"/>
              <a:ext cx="2556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6000" y="4773240"/>
              <a:ext cx="2700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49360" y="4822560"/>
              <a:ext cx="25560" cy="252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98680" y="4490640"/>
              <a:ext cx="2556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3200" y="4711320"/>
              <a:ext cx="25560" cy="2556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84440" y="4146120"/>
              <a:ext cx="2700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32040" y="4404960"/>
              <a:ext cx="27000" cy="2556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82800" y="4454280"/>
              <a:ext cx="2556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38360" y="4246200"/>
              <a:ext cx="27000" cy="2556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60640" y="4906800"/>
              <a:ext cx="27000" cy="252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72080" y="3447720"/>
              <a:ext cx="25560" cy="2844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657760" y="3839760"/>
              <a:ext cx="2556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34240" y="3927240"/>
              <a:ext cx="27000" cy="2844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8800" y="3160440"/>
              <a:ext cx="5019840" cy="1095480"/>
            </a:xfrm>
            <a:custGeom>
              <a:avLst/>
              <a:gdLst/>
              <a:ahLst/>
              <a:rect l="l" t="t" r="r" b="b"/>
              <a:pathLst>
                <a:path w="3156" h="690">
                  <a:moveTo>
                    <a:pt x="0" y="678"/>
                  </a:moveTo>
                  <a:lnTo>
                    <a:pt x="2" y="690"/>
                  </a:lnTo>
                  <a:lnTo>
                    <a:pt x="3156" y="12"/>
                  </a:lnTo>
                  <a:lnTo>
                    <a:pt x="3154" y="0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38160" y="3673080"/>
              <a:ext cx="5010480" cy="1062000"/>
            </a:xfrm>
            <a:custGeom>
              <a:avLst/>
              <a:gdLst/>
              <a:ahLst/>
              <a:rect l="l" t="t" r="r" b="b"/>
              <a:pathLst>
                <a:path w="3156" h="669">
                  <a:moveTo>
                    <a:pt x="0" y="657"/>
                  </a:moveTo>
                  <a:lnTo>
                    <a:pt x="2" y="669"/>
                  </a:lnTo>
                  <a:lnTo>
                    <a:pt x="3156" y="12"/>
                  </a:lnTo>
                  <a:lnTo>
                    <a:pt x="3154" y="0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94320" y="3068280"/>
              <a:ext cx="842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83240" y="3068280"/>
              <a:ext cx="442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632560" y="3068280"/>
              <a:ext cx="3538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28800" y="44049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889280" y="413532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03320" y="38797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8"/>
                  </a:lnTo>
                  <a:lnTo>
                    <a:pt x="7" y="15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39760" y="412416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0"/>
                  </a:moveTo>
                  <a:lnTo>
                    <a:pt x="15" y="6"/>
                  </a:lnTo>
                  <a:lnTo>
                    <a:pt x="7" y="14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25800" y="462564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0"/>
                  </a:moveTo>
                  <a:lnTo>
                    <a:pt x="15" y="7"/>
                  </a:lnTo>
                  <a:lnTo>
                    <a:pt x="7" y="16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74760" y="4027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8"/>
                  </a:lnTo>
                  <a:lnTo>
                    <a:pt x="7" y="15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6000" y="426996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7"/>
                  </a:lnTo>
                  <a:lnTo>
                    <a:pt x="8" y="15"/>
                  </a:lnTo>
                  <a:lnTo>
                    <a:pt x="0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49360" y="4308120"/>
              <a:ext cx="2412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0"/>
                  </a:moveTo>
                  <a:lnTo>
                    <a:pt x="15" y="7"/>
                  </a:lnTo>
                  <a:lnTo>
                    <a:pt x="7" y="16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98680" y="392724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7" y="0"/>
                  </a:moveTo>
                  <a:lnTo>
                    <a:pt x="15" y="8"/>
                  </a:lnTo>
                  <a:lnTo>
                    <a:pt x="7" y="17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73200" y="4186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7"/>
                  </a:lnTo>
                  <a:lnTo>
                    <a:pt x="7" y="1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84440" y="375588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9"/>
                  </a:lnTo>
                  <a:lnTo>
                    <a:pt x="8" y="16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732040" y="391464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7"/>
                  </a:lnTo>
                  <a:lnTo>
                    <a:pt x="8" y="16"/>
                  </a:lnTo>
                  <a:lnTo>
                    <a:pt x="0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82800" y="39780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7"/>
                  </a:lnTo>
                  <a:lnTo>
                    <a:pt x="7" y="1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339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60640" y="44416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72080" y="3020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lnTo>
                    <a:pt x="15" y="8"/>
                  </a:lnTo>
                  <a:lnTo>
                    <a:pt x="7" y="15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57760" y="337464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0"/>
                  </a:moveTo>
                  <a:lnTo>
                    <a:pt x="15" y="9"/>
                  </a:lnTo>
                  <a:lnTo>
                    <a:pt x="7" y="16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34240" y="33397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0"/>
                  </a:moveTo>
                  <a:lnTo>
                    <a:pt x="16" y="8"/>
                  </a:lnTo>
                  <a:lnTo>
                    <a:pt x="8" y="1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80"/>
            </a:solidFill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28800" y="4773240"/>
              <a:ext cx="2700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89280" y="4674960"/>
              <a:ext cx="27000" cy="252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03320" y="4294080"/>
              <a:ext cx="25560" cy="252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39760" y="4782960"/>
              <a:ext cx="25560" cy="2844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25800" y="4897080"/>
              <a:ext cx="25200" cy="2556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74760" y="4636800"/>
              <a:ext cx="2556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86000" y="4773240"/>
              <a:ext cx="2700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49360" y="4822560"/>
              <a:ext cx="25560" cy="252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98680" y="4490640"/>
              <a:ext cx="2556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73200" y="4711320"/>
              <a:ext cx="25560" cy="2556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84440" y="4146120"/>
              <a:ext cx="2700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32040" y="4404960"/>
              <a:ext cx="27000" cy="2556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82800" y="4454280"/>
              <a:ext cx="2556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38360" y="4246200"/>
              <a:ext cx="27000" cy="2556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60640" y="4906800"/>
              <a:ext cx="27000" cy="252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72080" y="3447720"/>
              <a:ext cx="25560" cy="2844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57760" y="3839760"/>
              <a:ext cx="25560" cy="2700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34240" y="3927240"/>
              <a:ext cx="27000" cy="2844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38160" y="3673080"/>
              <a:ext cx="5010480" cy="1062000"/>
            </a:xfrm>
            <a:custGeom>
              <a:avLst/>
              <a:gdLst/>
              <a:ahLst/>
              <a:rect l="l" t="t" r="r" b="b"/>
              <a:pathLst>
                <a:path w="3156" h="669">
                  <a:moveTo>
                    <a:pt x="0" y="657"/>
                  </a:moveTo>
                  <a:lnTo>
                    <a:pt x="2" y="669"/>
                  </a:lnTo>
                  <a:lnTo>
                    <a:pt x="3156" y="12"/>
                  </a:lnTo>
                  <a:lnTo>
                    <a:pt x="3154" y="0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94320" y="3068280"/>
              <a:ext cx="842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95280" y="5321160"/>
              <a:ext cx="2239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95280" y="4906800"/>
              <a:ext cx="2239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95280" y="4492440"/>
              <a:ext cx="2239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95280" y="4071600"/>
              <a:ext cx="223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95280" y="3669840"/>
              <a:ext cx="223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95280" y="3254040"/>
              <a:ext cx="223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95280" y="2836440"/>
              <a:ext cx="223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26480" y="552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2001960" y="5520960"/>
              <a:ext cx="473040" cy="189360"/>
              <a:chOff x="2001960" y="5520960"/>
              <a:chExt cx="473040" cy="189360"/>
            </a:xfrm>
          </p:grpSpPr>
          <p:sp>
            <p:nvSpPr>
              <p:cNvPr id="800" name=""/>
              <p:cNvSpPr/>
              <p:nvPr/>
            </p:nvSpPr>
            <p:spPr>
              <a:xfrm>
                <a:off x="2001960" y="5520960"/>
                <a:ext cx="45864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030760" y="5527440"/>
                <a:ext cx="44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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001960" y="5520960"/>
                <a:ext cx="45864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47800" y="5520960"/>
              <a:ext cx="516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8932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93876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8964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728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8168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464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70840" y="5520960"/>
              <a:ext cx="515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54240" y="5673600"/>
              <a:ext cx="458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06520" y="5825880"/>
              <a:ext cx="4590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59160" y="5978160"/>
              <a:ext cx="4586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2665440" y="5517720"/>
              <a:ext cx="473040" cy="189360"/>
              <a:chOff x="2665440" y="5517720"/>
              <a:chExt cx="473040" cy="189360"/>
            </a:xfrm>
          </p:grpSpPr>
          <p:sp>
            <p:nvSpPr>
              <p:cNvPr id="815" name=""/>
              <p:cNvSpPr/>
              <p:nvPr/>
            </p:nvSpPr>
            <p:spPr>
              <a:xfrm>
                <a:off x="2665440" y="5517720"/>
                <a:ext cx="45864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694240" y="5524200"/>
                <a:ext cx="44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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en-US" sz="1200" spc="-1" strike="noStrike" baseline="30000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65440" y="5517720"/>
                <a:ext cx="45864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V="1">
              <a:off x="2286000" y="541440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380880" y="488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principali risulta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457200" y="488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principali risulta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371600" y="1523880"/>
            <a:ext cx="7696080" cy="5257800"/>
            <a:chOff x="1371600" y="1523880"/>
            <a:chExt cx="7696080" cy="5257800"/>
          </a:xfrm>
        </p:grpSpPr>
        <p:grpSp>
          <p:nvGrpSpPr>
            <p:cNvPr id="823" name=""/>
            <p:cNvGrpSpPr/>
            <p:nvPr/>
          </p:nvGrpSpPr>
          <p:grpSpPr>
            <a:xfrm>
              <a:off x="1371600" y="1523880"/>
              <a:ext cx="6324480" cy="4121640"/>
              <a:chOff x="1371600" y="1523880"/>
              <a:chExt cx="6324480" cy="4121640"/>
            </a:xfrm>
          </p:grpSpPr>
          <p:sp>
            <p:nvSpPr>
              <p:cNvPr id="824" name=""/>
              <p:cNvSpPr/>
              <p:nvPr/>
            </p:nvSpPr>
            <p:spPr>
              <a:xfrm>
                <a:off x="1371600" y="1523880"/>
                <a:ext cx="6324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La ripartizione del personal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1523880" y="2133720"/>
                <a:ext cx="5333760" cy="3511800"/>
                <a:chOff x="1523880" y="2133720"/>
                <a:chExt cx="5333760" cy="351180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3047040" y="2133720"/>
                  <a:ext cx="3276720" cy="26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47040" y="2133720"/>
                  <a:ext cx="3276720" cy="26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523880" y="2133720"/>
                  <a:ext cx="609480" cy="3145680"/>
                </a:xfrm>
                <a:custGeom>
                  <a:avLst/>
                  <a:gdLst/>
                  <a:ahLst/>
                  <a:rect l="l" t="t" r="r" b="b"/>
                  <a:pathLst>
                    <a:path w="237" h="1881">
                      <a:moveTo>
                        <a:pt x="0" y="1881"/>
                      </a:moveTo>
                      <a:lnTo>
                        <a:pt x="0" y="156"/>
                      </a:lnTo>
                      <a:lnTo>
                        <a:pt x="237" y="0"/>
                      </a:lnTo>
                      <a:lnTo>
                        <a:pt x="237" y="1725"/>
                      </a:lnTo>
                      <a:lnTo>
                        <a:pt x="0" y="1881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523880" y="2133720"/>
                  <a:ext cx="609480" cy="3145680"/>
                </a:xfrm>
                <a:custGeom>
                  <a:avLst/>
                  <a:gdLst/>
                  <a:ahLst/>
                  <a:rect l="l" t="t" r="r" b="b"/>
                  <a:pathLst>
                    <a:path w="237" h="1881">
                      <a:moveTo>
                        <a:pt x="0" y="1881"/>
                      </a:moveTo>
                      <a:lnTo>
                        <a:pt x="0" y="156"/>
                      </a:lnTo>
                      <a:lnTo>
                        <a:pt x="237" y="0"/>
                      </a:lnTo>
                      <a:lnTo>
                        <a:pt x="237" y="1725"/>
                      </a:lnTo>
                      <a:lnTo>
                        <a:pt x="0" y="1881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968560" y="2983320"/>
                  <a:ext cx="264960" cy="2215440"/>
                </a:xfrm>
                <a:custGeom>
                  <a:avLst/>
                  <a:gdLst/>
                  <a:ahLst/>
                  <a:rect l="l" t="t" r="r" b="b"/>
                  <a:pathLst>
                    <a:path w="103" h="1325">
                      <a:moveTo>
                        <a:pt x="0" y="1325"/>
                      </a:moveTo>
                      <a:lnTo>
                        <a:pt x="0" y="60"/>
                      </a:lnTo>
                      <a:lnTo>
                        <a:pt x="103" y="0"/>
                      </a:lnTo>
                      <a:lnTo>
                        <a:pt x="103" y="1264"/>
                      </a:lnTo>
                      <a:lnTo>
                        <a:pt x="0" y="1325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256840" y="3084120"/>
                  <a:ext cx="711360" cy="2114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968560" y="2644560"/>
                  <a:ext cx="264960" cy="439200"/>
                </a:xfrm>
                <a:custGeom>
                  <a:avLst/>
                  <a:gdLst/>
                  <a:ahLst/>
                  <a:rect l="l" t="t" r="r" b="b"/>
                  <a:pathLst>
                    <a:path w="103" h="263">
                      <a:moveTo>
                        <a:pt x="0" y="263"/>
                      </a:moveTo>
                      <a:lnTo>
                        <a:pt x="0" y="60"/>
                      </a:lnTo>
                      <a:lnTo>
                        <a:pt x="103" y="0"/>
                      </a:lnTo>
                      <a:lnTo>
                        <a:pt x="103" y="203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66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256840" y="2743560"/>
                  <a:ext cx="711360" cy="34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968560" y="2325600"/>
                  <a:ext cx="264960" cy="417960"/>
                </a:xfrm>
                <a:custGeom>
                  <a:avLst/>
                  <a:gdLst/>
                  <a:ahLst/>
                  <a:rect l="l" t="t" r="r" b="b"/>
                  <a:pathLst>
                    <a:path w="103" h="250">
                      <a:moveTo>
                        <a:pt x="0" y="250"/>
                      </a:moveTo>
                      <a:lnTo>
                        <a:pt x="0" y="61"/>
                      </a:lnTo>
                      <a:lnTo>
                        <a:pt x="103" y="0"/>
                      </a:lnTo>
                      <a:lnTo>
                        <a:pt x="103" y="190"/>
                      </a:lnTo>
                      <a:lnTo>
                        <a:pt x="0" y="250"/>
                      </a:lnTo>
                      <a:close/>
                    </a:path>
                  </a:pathLst>
                </a:custGeom>
                <a:solidFill>
                  <a:srgbClr val="80806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256840" y="2427840"/>
                  <a:ext cx="711360" cy="31572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968560" y="2214360"/>
                  <a:ext cx="264960" cy="213120"/>
                </a:xfrm>
                <a:custGeom>
                  <a:avLst/>
                  <a:gdLst/>
                  <a:ahLst/>
                  <a:rect l="l" t="t" r="r" b="b"/>
                  <a:pathLst>
                    <a:path w="103" h="128">
                      <a:moveTo>
                        <a:pt x="0" y="128"/>
                      </a:moveTo>
                      <a:lnTo>
                        <a:pt x="0" y="60"/>
                      </a:lnTo>
                      <a:lnTo>
                        <a:pt x="103" y="0"/>
                      </a:lnTo>
                      <a:lnTo>
                        <a:pt x="103" y="67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256840" y="2314800"/>
                  <a:ext cx="711360" cy="113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256840" y="2214360"/>
                  <a:ext cx="976680" cy="100080"/>
                </a:xfrm>
                <a:custGeom>
                  <a:avLst/>
                  <a:gdLst/>
                  <a:ahLst/>
                  <a:rect l="l" t="t" r="r" b="b"/>
                  <a:pathLst>
                    <a:path w="380" h="60">
                      <a:moveTo>
                        <a:pt x="277" y="60"/>
                      </a:moveTo>
                      <a:lnTo>
                        <a:pt x="380" y="0"/>
                      </a:lnTo>
                      <a:lnTo>
                        <a:pt x="95" y="0"/>
                      </a:lnTo>
                      <a:lnTo>
                        <a:pt x="0" y="60"/>
                      </a:lnTo>
                      <a:lnTo>
                        <a:pt x="277" y="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2412000" y="392796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74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421000" y="279792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12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407320" y="249588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519640" y="2220120"/>
                  <a:ext cx="305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4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802040" y="3107520"/>
                  <a:ext cx="243720" cy="2091600"/>
                </a:xfrm>
                <a:custGeom>
                  <a:avLst/>
                  <a:gdLst/>
                  <a:ahLst/>
                  <a:rect l="l" t="t" r="r" b="b"/>
                  <a:pathLst>
                    <a:path w="95" h="1251">
                      <a:moveTo>
                        <a:pt x="0" y="1251"/>
                      </a:moveTo>
                      <a:lnTo>
                        <a:pt x="0" y="61"/>
                      </a:lnTo>
                      <a:lnTo>
                        <a:pt x="95" y="0"/>
                      </a:lnTo>
                      <a:lnTo>
                        <a:pt x="95" y="1190"/>
                      </a:lnTo>
                      <a:lnTo>
                        <a:pt x="0" y="125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069080" y="3209760"/>
                  <a:ext cx="732600" cy="198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802040" y="2644560"/>
                  <a:ext cx="243720" cy="564840"/>
                </a:xfrm>
                <a:custGeom>
                  <a:avLst/>
                  <a:gdLst/>
                  <a:ahLst/>
                  <a:rect l="l" t="t" r="r" b="b"/>
                  <a:pathLst>
                    <a:path w="95" h="338">
                      <a:moveTo>
                        <a:pt x="0" y="338"/>
                      </a:moveTo>
                      <a:lnTo>
                        <a:pt x="0" y="60"/>
                      </a:lnTo>
                      <a:lnTo>
                        <a:pt x="95" y="0"/>
                      </a:lnTo>
                      <a:lnTo>
                        <a:pt x="95" y="277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66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069080" y="2743560"/>
                  <a:ext cx="732600" cy="46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4802040" y="2325600"/>
                  <a:ext cx="243720" cy="417960"/>
                </a:xfrm>
                <a:custGeom>
                  <a:avLst/>
                  <a:gdLst/>
                  <a:ahLst/>
                  <a:rect l="l" t="t" r="r" b="b"/>
                  <a:pathLst>
                    <a:path w="95" h="250">
                      <a:moveTo>
                        <a:pt x="0" y="250"/>
                      </a:moveTo>
                      <a:lnTo>
                        <a:pt x="0" y="61"/>
                      </a:lnTo>
                      <a:lnTo>
                        <a:pt x="95" y="0"/>
                      </a:lnTo>
                      <a:lnTo>
                        <a:pt x="95" y="190"/>
                      </a:lnTo>
                      <a:lnTo>
                        <a:pt x="0" y="250"/>
                      </a:lnTo>
                      <a:close/>
                    </a:path>
                  </a:pathLst>
                </a:custGeom>
                <a:solidFill>
                  <a:srgbClr val="80806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4069080" y="2427840"/>
                  <a:ext cx="732600" cy="31572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4802040" y="2214360"/>
                  <a:ext cx="243720" cy="213120"/>
                </a:xfrm>
                <a:custGeom>
                  <a:avLst/>
                  <a:gdLst/>
                  <a:ahLst/>
                  <a:rect l="l" t="t" r="r" b="b"/>
                  <a:pathLst>
                    <a:path w="95" h="128">
                      <a:moveTo>
                        <a:pt x="0" y="128"/>
                      </a:moveTo>
                      <a:lnTo>
                        <a:pt x="0" y="60"/>
                      </a:lnTo>
                      <a:lnTo>
                        <a:pt x="95" y="0"/>
                      </a:lnTo>
                      <a:lnTo>
                        <a:pt x="95" y="67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4069080" y="2314800"/>
                  <a:ext cx="732600" cy="113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069080" y="2214360"/>
                  <a:ext cx="976680" cy="100080"/>
                </a:xfrm>
                <a:custGeom>
                  <a:avLst/>
                  <a:gdLst/>
                  <a:ahLst/>
                  <a:rect l="l" t="t" r="r" b="b"/>
                  <a:pathLst>
                    <a:path w="380" h="60">
                      <a:moveTo>
                        <a:pt x="285" y="60"/>
                      </a:moveTo>
                      <a:lnTo>
                        <a:pt x="380" y="0"/>
                      </a:lnTo>
                      <a:lnTo>
                        <a:pt x="95" y="0"/>
                      </a:lnTo>
                      <a:lnTo>
                        <a:pt x="0" y="60"/>
                      </a:lnTo>
                      <a:lnTo>
                        <a:pt x="285" y="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264920" y="400248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69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264920" y="287208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219560" y="249588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372920" y="2220120"/>
                  <a:ext cx="305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4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613920" y="3197160"/>
                  <a:ext cx="243720" cy="2001600"/>
                </a:xfrm>
                <a:custGeom>
                  <a:avLst/>
                  <a:gdLst/>
                  <a:ahLst/>
                  <a:rect l="l" t="t" r="r" b="b"/>
                  <a:pathLst>
                    <a:path w="95" h="1197">
                      <a:moveTo>
                        <a:pt x="0" y="1197"/>
                      </a:moveTo>
                      <a:lnTo>
                        <a:pt x="0" y="61"/>
                      </a:lnTo>
                      <a:lnTo>
                        <a:pt x="95" y="0"/>
                      </a:lnTo>
                      <a:lnTo>
                        <a:pt x="95" y="1136"/>
                      </a:lnTo>
                      <a:lnTo>
                        <a:pt x="0" y="119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880960" y="3299400"/>
                  <a:ext cx="732600" cy="189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613920" y="2756160"/>
                  <a:ext cx="243720" cy="543240"/>
                </a:xfrm>
                <a:custGeom>
                  <a:avLst/>
                  <a:gdLst/>
                  <a:ahLst/>
                  <a:rect l="l" t="t" r="r" b="b"/>
                  <a:pathLst>
                    <a:path w="95" h="325">
                      <a:moveTo>
                        <a:pt x="0" y="325"/>
                      </a:moveTo>
                      <a:lnTo>
                        <a:pt x="0" y="68"/>
                      </a:lnTo>
                      <a:lnTo>
                        <a:pt x="95" y="0"/>
                      </a:lnTo>
                      <a:lnTo>
                        <a:pt x="95" y="264"/>
                      </a:lnTo>
                      <a:lnTo>
                        <a:pt x="0" y="32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66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880960" y="2869200"/>
                  <a:ext cx="732600" cy="43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613920" y="2303640"/>
                  <a:ext cx="243720" cy="565200"/>
                </a:xfrm>
                <a:custGeom>
                  <a:avLst/>
                  <a:gdLst/>
                  <a:ahLst/>
                  <a:rect l="l" t="t" r="r" b="b"/>
                  <a:pathLst>
                    <a:path w="95" h="338">
                      <a:moveTo>
                        <a:pt x="0" y="338"/>
                      </a:moveTo>
                      <a:lnTo>
                        <a:pt x="0" y="61"/>
                      </a:lnTo>
                      <a:lnTo>
                        <a:pt x="95" y="0"/>
                      </a:lnTo>
                      <a:lnTo>
                        <a:pt x="95" y="270"/>
                      </a:lnTo>
                      <a:lnTo>
                        <a:pt x="0" y="338"/>
                      </a:lnTo>
                      <a:close/>
                    </a:path>
                  </a:pathLst>
                </a:custGeom>
                <a:solidFill>
                  <a:srgbClr val="80806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880960" y="2406240"/>
                  <a:ext cx="732600" cy="462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613920" y="2214360"/>
                  <a:ext cx="243720" cy="191880"/>
                </a:xfrm>
                <a:custGeom>
                  <a:avLst/>
                  <a:gdLst/>
                  <a:ahLst/>
                  <a:rect l="l" t="t" r="r" b="b"/>
                  <a:pathLst>
                    <a:path w="95" h="115">
                      <a:moveTo>
                        <a:pt x="0" y="115"/>
                      </a:moveTo>
                      <a:lnTo>
                        <a:pt x="0" y="60"/>
                      </a:lnTo>
                      <a:lnTo>
                        <a:pt x="95" y="0"/>
                      </a:lnTo>
                      <a:lnTo>
                        <a:pt x="95" y="54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880960" y="2314800"/>
                  <a:ext cx="732600" cy="9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880960" y="2214360"/>
                  <a:ext cx="976680" cy="100080"/>
                </a:xfrm>
                <a:custGeom>
                  <a:avLst/>
                  <a:gdLst/>
                  <a:ahLst/>
                  <a:rect l="l" t="t" r="r" b="b"/>
                  <a:pathLst>
                    <a:path w="380" h="60">
                      <a:moveTo>
                        <a:pt x="285" y="60"/>
                      </a:moveTo>
                      <a:lnTo>
                        <a:pt x="380" y="0"/>
                      </a:lnTo>
                      <a:lnTo>
                        <a:pt x="103" y="0"/>
                      </a:lnTo>
                      <a:lnTo>
                        <a:pt x="0" y="60"/>
                      </a:lnTo>
                      <a:lnTo>
                        <a:pt x="285" y="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100000">
                      <a:srgbClr val="fffff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116040" y="407664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66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123960" y="296208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1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050880" y="2542680"/>
                  <a:ext cx="407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131520" y="2204640"/>
                  <a:ext cx="305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Times New Roman"/>
                    </a:rPr>
                    <a:t>3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324880" y="5370840"/>
                  <a:ext cx="4730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&lt;40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890520" y="5370840"/>
                  <a:ext cx="876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400-100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991840" y="5370840"/>
                  <a:ext cx="587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&gt;100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2" name=""/>
            <p:cNvGrpSpPr/>
            <p:nvPr/>
          </p:nvGrpSpPr>
          <p:grpSpPr>
            <a:xfrm>
              <a:off x="6705720" y="5638680"/>
              <a:ext cx="2361960" cy="1143000"/>
              <a:chOff x="6705720" y="5638680"/>
              <a:chExt cx="2361960" cy="1143000"/>
            </a:xfrm>
          </p:grpSpPr>
          <p:sp>
            <p:nvSpPr>
              <p:cNvPr id="873" name=""/>
              <p:cNvSpPr/>
              <p:nvPr/>
            </p:nvSpPr>
            <p:spPr>
              <a:xfrm>
                <a:off x="6705720" y="5638680"/>
                <a:ext cx="2361960" cy="1143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777360" y="5770800"/>
                <a:ext cx="434880" cy="1213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ffff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314120" y="5733720"/>
                <a:ext cx="416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Altr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360" y="6029280"/>
                <a:ext cx="434880" cy="12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323120" y="5992200"/>
                <a:ext cx="1456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Indotto azienda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77360" y="6291000"/>
                <a:ext cx="434880" cy="121320"/>
              </a:xfrm>
              <a:prstGeom prst="rect">
                <a:avLst/>
              </a:prstGeom>
              <a:gradFill rotWithShape="0">
                <a:gsLst>
                  <a:gs pos="0">
                    <a:srgbClr val="993366"/>
                  </a:gs>
                  <a:gs pos="100000">
                    <a:srgbClr val="ffff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337520" y="6251760"/>
                <a:ext cx="1643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Area manutenzion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77360" y="6549480"/>
                <a:ext cx="434880" cy="1234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16280" y="6511320"/>
                <a:ext cx="1396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Area movimen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457200" y="488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e principali critic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19400" y="1676520"/>
            <a:ext cx="8786880" cy="4726440"/>
            <a:chOff x="419400" y="1676520"/>
            <a:chExt cx="8786880" cy="4726440"/>
          </a:xfrm>
        </p:grpSpPr>
        <p:sp>
          <p:nvSpPr>
            <p:cNvPr id="885" name=""/>
            <p:cNvSpPr/>
            <p:nvPr/>
          </p:nvSpPr>
          <p:spPr>
            <a:xfrm>
              <a:off x="5965560" y="5486400"/>
              <a:ext cx="32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assa produttività impiegat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419400" y="1676520"/>
              <a:ext cx="8240400" cy="4726440"/>
              <a:chOff x="419400" y="1676520"/>
              <a:chExt cx="8240400" cy="4726440"/>
            </a:xfrm>
          </p:grpSpPr>
          <p:sp>
            <p:nvSpPr>
              <p:cNvPr id="887" name=""/>
              <p:cNvSpPr/>
              <p:nvPr/>
            </p:nvSpPr>
            <p:spPr>
              <a:xfrm>
                <a:off x="457200" y="2743200"/>
                <a:ext cx="8077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66880" y="1676520"/>
                <a:ext cx="0" cy="464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095880" y="1676520"/>
                <a:ext cx="0" cy="4724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33520" y="4038480"/>
                <a:ext cx="8076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85800" y="5334120"/>
                <a:ext cx="7924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123000" y="1965240"/>
                <a:ext cx="243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ZIENDE GRAND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095520" y="1965240"/>
                <a:ext cx="256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ZIENDE PICCOL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8800" y="3138480"/>
                <a:ext cx="177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VIMENT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9400" y="4403880"/>
                <a:ext cx="224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ANUTENZION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28560" y="5486400"/>
                <a:ext cx="196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REA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IMPIEGATIZ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660040" y="2757600"/>
                <a:ext cx="348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assa produttività degli autist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689560" y="3276720"/>
                <a:ext cx="287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levata rigidità dei turn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583360" y="4038480"/>
                <a:ext cx="356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assa produttività degli operai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589840" y="4479840"/>
                <a:ext cx="159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ssenteism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611440" y="4937040"/>
                <a:ext cx="257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Inefficienza dei mezz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991840" y="6004080"/>
                <a:ext cx="159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fffff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ssenteism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32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49160"/>
            <a:ext cx="905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IETTIV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tazione dell’efficienza delle aziende di trasporto pubblico italiane al fine di indagare sulla presenza delle economie di scala nel settore per arrivare ad individuare la dimensione ottimale delle azien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080" y="3006720"/>
            <a:ext cx="725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TICOL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. La situazione attuale del settore del T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2. Le metodologie di calcolo dell’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3. L’analisi degli indicatori di efficienza: i risultati emer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4. L’applicazione della DEA: i risultati emer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5. Considerazioni conclusive ed indicazioni di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457200" y="488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NALISI DEGLI INDICATOR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principali risulta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53080" y="1371600"/>
            <a:ext cx="69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velocità commerciale e il consumo di carbu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994440" y="4757760"/>
            <a:ext cx="527040" cy="7920"/>
          </a:xfrm>
          <a:prstGeom prst="rect">
            <a:avLst/>
          </a:prstGeom>
          <a:solidFill>
            <a:srgbClr val="6a6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064040" y="5057640"/>
            <a:ext cx="5019480" cy="271440"/>
          </a:xfrm>
          <a:custGeom>
            <a:avLst/>
            <a:gdLst/>
            <a:ahLst/>
            <a:rect l="l" t="t" r="r" b="b"/>
            <a:pathLst>
              <a:path w="2218" h="171">
                <a:moveTo>
                  <a:pt x="0" y="171"/>
                </a:moveTo>
                <a:lnTo>
                  <a:pt x="222" y="0"/>
                </a:lnTo>
                <a:lnTo>
                  <a:pt x="2218" y="0"/>
                </a:lnTo>
                <a:lnTo>
                  <a:pt x="1996" y="171"/>
                </a:lnTo>
                <a:lnTo>
                  <a:pt x="0" y="1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64040" y="5057640"/>
            <a:ext cx="5019480" cy="271440"/>
          </a:xfrm>
          <a:custGeom>
            <a:avLst/>
            <a:gdLst/>
            <a:ahLst/>
            <a:rect l="l" t="t" r="r" b="b"/>
            <a:pathLst>
              <a:path w="2218" h="171">
                <a:moveTo>
                  <a:pt x="2218" y="0"/>
                </a:moveTo>
                <a:lnTo>
                  <a:pt x="1996" y="171"/>
                </a:lnTo>
                <a:lnTo>
                  <a:pt x="0" y="171"/>
                </a:lnTo>
                <a:lnTo>
                  <a:pt x="222" y="0"/>
                </a:lnTo>
                <a:lnTo>
                  <a:pt x="22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94440" y="4873680"/>
            <a:ext cx="527040" cy="7920"/>
          </a:xfrm>
          <a:prstGeom prst="rect">
            <a:avLst/>
          </a:prstGeom>
          <a:solidFill>
            <a:srgbClr val="282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211360" y="2057400"/>
            <a:ext cx="3636000" cy="4115520"/>
            <a:chOff x="5211360" y="2057400"/>
            <a:chExt cx="3636000" cy="4115520"/>
          </a:xfrm>
        </p:grpSpPr>
        <p:sp>
          <p:nvSpPr>
            <p:cNvPr id="911" name=""/>
            <p:cNvSpPr/>
            <p:nvPr/>
          </p:nvSpPr>
          <p:spPr>
            <a:xfrm>
              <a:off x="5487480" y="2057400"/>
              <a:ext cx="335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nsumo di carburante(in litr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 km offert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5211360" y="3124080"/>
              <a:ext cx="3616920" cy="3048840"/>
              <a:chOff x="5211360" y="3124080"/>
              <a:chExt cx="3616920" cy="3048840"/>
            </a:xfrm>
          </p:grpSpPr>
          <p:sp>
            <p:nvSpPr>
              <p:cNvPr id="913" name=""/>
              <p:cNvSpPr/>
              <p:nvPr/>
            </p:nvSpPr>
            <p:spPr>
              <a:xfrm>
                <a:off x="6834240" y="3763800"/>
                <a:ext cx="45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0,48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5265720" y="4800600"/>
                <a:ext cx="906480" cy="734760"/>
                <a:chOff x="5265720" y="4800600"/>
                <a:chExt cx="906480" cy="734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5524560" y="4800600"/>
                  <a:ext cx="647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0,4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811840" y="5014080"/>
                  <a:ext cx="195120" cy="521280"/>
                </a:xfrm>
                <a:custGeom>
                  <a:avLst/>
                  <a:gdLst/>
                  <a:ahLst/>
                  <a:rect l="l" t="t" r="r" b="b"/>
                  <a:pathLst>
                    <a:path w="94" h="452">
                      <a:moveTo>
                        <a:pt x="0" y="452"/>
                      </a:moveTo>
                      <a:lnTo>
                        <a:pt x="0" y="68"/>
                      </a:lnTo>
                      <a:lnTo>
                        <a:pt x="94" y="0"/>
                      </a:lnTo>
                      <a:lnTo>
                        <a:pt x="94" y="383"/>
                      </a:lnTo>
                      <a:lnTo>
                        <a:pt x="0" y="4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4d4d80"/>
                    </a:gs>
                  </a:gsLst>
                  <a:lin ang="5400000"/>
                </a:gra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65720" y="5092920"/>
                  <a:ext cx="546120" cy="442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265720" y="5014080"/>
                  <a:ext cx="741240" cy="78480"/>
                </a:xfrm>
                <a:custGeom>
                  <a:avLst/>
                  <a:gdLst/>
                  <a:ahLst/>
                  <a:rect l="l" t="t" r="r" b="b"/>
                  <a:pathLst>
                    <a:path w="358" h="68">
                      <a:moveTo>
                        <a:pt x="264" y="68"/>
                      </a:moveTo>
                      <a:lnTo>
                        <a:pt x="358" y="0"/>
                      </a:lnTo>
                      <a:lnTo>
                        <a:pt x="94" y="0"/>
                      </a:lnTo>
                      <a:lnTo>
                        <a:pt x="0" y="68"/>
                      </a:lnTo>
                      <a:lnTo>
                        <a:pt x="264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7373bf"/>
                    </a:gs>
                  </a:gsLst>
                  <a:lin ang="5400000"/>
                </a:gra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9" name=""/>
              <p:cNvSpPr/>
              <p:nvPr/>
            </p:nvSpPr>
            <p:spPr>
              <a:xfrm>
                <a:off x="7192800" y="4024440"/>
                <a:ext cx="192240" cy="1511280"/>
              </a:xfrm>
              <a:custGeom>
                <a:avLst/>
                <a:gdLst/>
                <a:ahLst/>
                <a:rect l="l" t="t" r="r" b="b"/>
                <a:pathLst>
                  <a:path w="93" h="1032">
                    <a:moveTo>
                      <a:pt x="0" y="1032"/>
                    </a:moveTo>
                    <a:lnTo>
                      <a:pt x="0" y="68"/>
                    </a:lnTo>
                    <a:lnTo>
                      <a:pt x="93" y="0"/>
                    </a:lnTo>
                    <a:lnTo>
                      <a:pt x="93" y="963"/>
                    </a:lnTo>
                    <a:lnTo>
                      <a:pt x="0" y="10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4d4d80"/>
                  </a:gs>
                </a:gsLst>
                <a:lin ang="5400000"/>
              </a:gra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643800" y="4124160"/>
                <a:ext cx="549000" cy="141156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643800" y="4024440"/>
                <a:ext cx="741240" cy="99720"/>
              </a:xfrm>
              <a:custGeom>
                <a:avLst/>
                <a:gdLst/>
                <a:ahLst/>
                <a:rect l="l" t="t" r="r" b="b"/>
                <a:pathLst>
                  <a:path w="358" h="68">
                    <a:moveTo>
                      <a:pt x="265" y="68"/>
                    </a:moveTo>
                    <a:lnTo>
                      <a:pt x="358" y="0"/>
                    </a:lnTo>
                    <a:lnTo>
                      <a:pt x="94" y="0"/>
                    </a:lnTo>
                    <a:lnTo>
                      <a:pt x="0" y="68"/>
                    </a:lnTo>
                    <a:lnTo>
                      <a:pt x="265" y="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7373bf"/>
                  </a:gs>
                </a:gsLst>
                <a:lin ang="5400000"/>
              </a:gra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2" name=""/>
              <p:cNvGrpSpPr/>
              <p:nvPr/>
            </p:nvGrpSpPr>
            <p:grpSpPr>
              <a:xfrm>
                <a:off x="8021520" y="3124080"/>
                <a:ext cx="744480" cy="2411280"/>
                <a:chOff x="8021520" y="3124080"/>
                <a:chExt cx="744480" cy="241128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70880" y="3428640"/>
                  <a:ext cx="195120" cy="2106720"/>
                </a:xfrm>
                <a:custGeom>
                  <a:avLst/>
                  <a:gdLst/>
                  <a:ahLst/>
                  <a:rect l="l" t="t" r="r" b="b"/>
                  <a:pathLst>
                    <a:path w="94" h="1229">
                      <a:moveTo>
                        <a:pt x="0" y="1229"/>
                      </a:moveTo>
                      <a:lnTo>
                        <a:pt x="0" y="69"/>
                      </a:lnTo>
                      <a:lnTo>
                        <a:pt x="94" y="0"/>
                      </a:lnTo>
                      <a:lnTo>
                        <a:pt x="94" y="1160"/>
                      </a:lnTo>
                      <a:lnTo>
                        <a:pt x="0" y="122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4d4d80"/>
                    </a:gs>
                  </a:gsLst>
                  <a:lin ang="5400000"/>
                </a:gra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021520" y="3546000"/>
                  <a:ext cx="549360" cy="198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021520" y="3428640"/>
                  <a:ext cx="744480" cy="117000"/>
                </a:xfrm>
                <a:custGeom>
                  <a:avLst/>
                  <a:gdLst/>
                  <a:ahLst/>
                  <a:rect l="l" t="t" r="r" b="b"/>
                  <a:pathLst>
                    <a:path w="359" h="69">
                      <a:moveTo>
                        <a:pt x="265" y="69"/>
                      </a:moveTo>
                      <a:lnTo>
                        <a:pt x="359" y="0"/>
                      </a:lnTo>
                      <a:lnTo>
                        <a:pt x="94" y="0"/>
                      </a:lnTo>
                      <a:lnTo>
                        <a:pt x="0" y="69"/>
                      </a:lnTo>
                      <a:lnTo>
                        <a:pt x="265" y="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ff"/>
                    </a:gs>
                    <a:gs pos="100000">
                      <a:srgbClr val="7373bf"/>
                    </a:gs>
                  </a:gsLst>
                  <a:lin ang="5400000"/>
                </a:gra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265960" y="3124080"/>
                  <a:ext cx="487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0,5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5211360" y="5684760"/>
                <a:ext cx="686520" cy="486720"/>
                <a:chOff x="5211360" y="5684760"/>
                <a:chExt cx="686520" cy="48672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5261760" y="5684760"/>
                  <a:ext cx="531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&lt; 40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211360" y="5896800"/>
                  <a:ext cx="686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addetti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6501960" y="5684760"/>
                <a:ext cx="876960" cy="486720"/>
                <a:chOff x="6501960" y="5684760"/>
                <a:chExt cx="876960" cy="48672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6501960" y="5684760"/>
                  <a:ext cx="876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400-100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623640" y="5896800"/>
                  <a:ext cx="686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addetti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8124840" y="5684760"/>
                <a:ext cx="703440" cy="488160"/>
                <a:chOff x="8124840" y="5684760"/>
                <a:chExt cx="703440" cy="48816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8124840" y="5684760"/>
                  <a:ext cx="645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&gt; 100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141760" y="5898240"/>
                  <a:ext cx="6865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addetti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36" name=""/>
          <p:cNvGrpSpPr/>
          <p:nvPr/>
        </p:nvGrpSpPr>
        <p:grpSpPr>
          <a:xfrm>
            <a:off x="228600" y="2041560"/>
            <a:ext cx="4517640" cy="4282920"/>
            <a:chOff x="228600" y="2041560"/>
            <a:chExt cx="4517640" cy="4282920"/>
          </a:xfrm>
        </p:grpSpPr>
        <p:sp>
          <p:nvSpPr>
            <p:cNvPr id="937" name=""/>
            <p:cNvSpPr/>
            <p:nvPr/>
          </p:nvSpPr>
          <p:spPr>
            <a:xfrm>
              <a:off x="1229040" y="20415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elocità commerciale 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rea servi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228600" y="3114720"/>
              <a:ext cx="4517640" cy="3209760"/>
              <a:chOff x="228600" y="3114720"/>
              <a:chExt cx="4517640" cy="3209760"/>
            </a:xfrm>
          </p:grpSpPr>
          <p:sp>
            <p:nvSpPr>
              <p:cNvPr id="939" name=""/>
              <p:cNvSpPr/>
              <p:nvPr/>
            </p:nvSpPr>
            <p:spPr>
              <a:xfrm rot="16200000">
                <a:off x="-582480" y="4295880"/>
                <a:ext cx="1866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Velocità commercia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278240" y="3143520"/>
                <a:ext cx="462600" cy="2026800"/>
              </a:xfrm>
              <a:custGeom>
                <a:avLst/>
                <a:gdLst/>
                <a:ahLst/>
                <a:rect l="l" t="t" r="r" b="b"/>
                <a:pathLst>
                  <a:path w="222" h="1331">
                    <a:moveTo>
                      <a:pt x="0" y="1331"/>
                    </a:moveTo>
                    <a:lnTo>
                      <a:pt x="0" y="171"/>
                    </a:lnTo>
                    <a:lnTo>
                      <a:pt x="222" y="0"/>
                    </a:lnTo>
                    <a:lnTo>
                      <a:pt x="222" y="1160"/>
                    </a:lnTo>
                    <a:lnTo>
                      <a:pt x="0" y="133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278240" y="3143520"/>
                <a:ext cx="462600" cy="2026800"/>
              </a:xfrm>
              <a:custGeom>
                <a:avLst/>
                <a:gdLst/>
                <a:ahLst/>
                <a:rect l="l" t="t" r="r" b="b"/>
                <a:pathLst>
                  <a:path w="222" h="1331">
                    <a:moveTo>
                      <a:pt x="0" y="1331"/>
                    </a:moveTo>
                    <a:lnTo>
                      <a:pt x="0" y="171"/>
                    </a:lnTo>
                    <a:lnTo>
                      <a:pt x="222" y="0"/>
                    </a:lnTo>
                    <a:lnTo>
                      <a:pt x="222" y="1160"/>
                    </a:lnTo>
                    <a:lnTo>
                      <a:pt x="0" y="133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1280" y="3128400"/>
                <a:ext cx="3786840" cy="622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1280" y="3190680"/>
                <a:ext cx="3786840" cy="604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01280" y="3251520"/>
                <a:ext cx="3786840" cy="60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1280" y="3312720"/>
                <a:ext cx="3786840" cy="604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1280" y="3373560"/>
                <a:ext cx="3786840" cy="6228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1280" y="3435840"/>
                <a:ext cx="3786840" cy="6048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01280" y="3496680"/>
                <a:ext cx="3786840" cy="6084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1280" y="3557880"/>
                <a:ext cx="3786840" cy="6048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1280" y="3618720"/>
                <a:ext cx="3786840" cy="622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01280" y="3681000"/>
                <a:ext cx="3786840" cy="6048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01280" y="3741840"/>
                <a:ext cx="3786840" cy="6084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01280" y="3803040"/>
                <a:ext cx="3786840" cy="6192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01280" y="3865320"/>
                <a:ext cx="3786840" cy="6084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01280" y="3926160"/>
                <a:ext cx="3786840" cy="604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01280" y="3987000"/>
                <a:ext cx="3786840" cy="6084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01280" y="4048200"/>
                <a:ext cx="3786840" cy="6192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01280" y="4110480"/>
                <a:ext cx="3786840" cy="608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01280" y="4171320"/>
                <a:ext cx="3786840" cy="6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01280" y="4233960"/>
                <a:ext cx="3786840" cy="59040"/>
              </a:xfrm>
              <a:prstGeom prst="rect">
                <a:avLst/>
              </a:pr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01280" y="4293360"/>
                <a:ext cx="3786840" cy="61920"/>
              </a:xfrm>
              <a:prstGeom prst="rect">
                <a:avLst/>
              </a:prstGeom>
              <a:solidFill>
                <a:srgbClr val="af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01280" y="4355640"/>
                <a:ext cx="3786840" cy="60840"/>
              </a:xfrm>
              <a:prstGeom prst="rect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01280" y="4416480"/>
                <a:ext cx="3786840" cy="62280"/>
              </a:xfrm>
              <a:prstGeom prst="rect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01280" y="4479120"/>
                <a:ext cx="3786840" cy="6048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01280" y="4539960"/>
                <a:ext cx="3786840" cy="60480"/>
              </a:xfrm>
              <a:prstGeom prst="rect">
                <a:avLst/>
              </a:pr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01280" y="4600800"/>
                <a:ext cx="3786840" cy="6084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1280" y="4661640"/>
                <a:ext cx="3786840" cy="6228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1280" y="4724280"/>
                <a:ext cx="3786840" cy="60480"/>
              </a:xfrm>
              <a:prstGeom prst="rect">
                <a:avLst/>
              </a:pr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1280" y="4785120"/>
                <a:ext cx="3786840" cy="604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01280" y="4845960"/>
                <a:ext cx="3786840" cy="6084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1280" y="4906800"/>
                <a:ext cx="3786840" cy="6192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01280" y="4969080"/>
                <a:ext cx="3786840" cy="6084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01280" y="5030280"/>
                <a:ext cx="3786840" cy="60480"/>
              </a:xfrm>
              <a:prstGeom prst="rect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01280" y="5091120"/>
                <a:ext cx="3786840" cy="62280"/>
              </a:xfrm>
              <a:prstGeom prst="rect">
                <a:avLst/>
              </a:pr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01280" y="5153400"/>
                <a:ext cx="3786840" cy="6048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01280" y="5214240"/>
                <a:ext cx="3786840" cy="6084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01280" y="5275440"/>
                <a:ext cx="3786840" cy="604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01280" y="5336280"/>
                <a:ext cx="3786840" cy="622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01280" y="5398560"/>
                <a:ext cx="3786840" cy="60480"/>
              </a:xfrm>
              <a:prstGeom prst="rect">
                <a:avLst/>
              </a:pr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01280" y="5459400"/>
                <a:ext cx="3786840" cy="62280"/>
              </a:xfrm>
              <a:prstGeom prst="rect">
                <a:avLst/>
              </a:pr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01280" y="5522040"/>
                <a:ext cx="3786840" cy="590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01280" y="5581440"/>
                <a:ext cx="3786840" cy="6228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01280" y="5643720"/>
                <a:ext cx="3786840" cy="6048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05600" y="3132720"/>
                <a:ext cx="3786480" cy="25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01280" y="3128400"/>
                <a:ext cx="3786840" cy="25761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88680" y="5709240"/>
                <a:ext cx="16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88680" y="5194440"/>
                <a:ext cx="16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88680" y="4680000"/>
                <a:ext cx="16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88680" y="4163760"/>
                <a:ext cx="16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8680" y="3648960"/>
                <a:ext cx="16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88680" y="3132720"/>
                <a:ext cx="16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05600" y="5709240"/>
                <a:ext cx="378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705600" y="5708880"/>
                <a:ext cx="108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1178280" y="5708880"/>
                <a:ext cx="144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1651320" y="5708880"/>
                <a:ext cx="108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2125440" y="5708880"/>
                <a:ext cx="144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2598120" y="5708880"/>
                <a:ext cx="108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3070800" y="5708880"/>
                <a:ext cx="288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3545280" y="5708880"/>
                <a:ext cx="144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4019400" y="5708880"/>
                <a:ext cx="108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4492080" y="5708880"/>
                <a:ext cx="144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12600" y="377712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1" y="0"/>
                    </a:moveTo>
                    <a:lnTo>
                      <a:pt x="83" y="34"/>
                    </a:lnTo>
                    <a:lnTo>
                      <a:pt x="41" y="68"/>
                    </a:lnTo>
                    <a:lnTo>
                      <a:pt x="0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902600" y="405576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1" y="0"/>
                    </a:moveTo>
                    <a:lnTo>
                      <a:pt x="82" y="34"/>
                    </a:lnTo>
                    <a:lnTo>
                      <a:pt x="41" y="68"/>
                    </a:lnTo>
                    <a:lnTo>
                      <a:pt x="0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848240" y="3962880"/>
                <a:ext cx="4104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54640" y="3755880"/>
                <a:ext cx="4104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1" y="0"/>
                    </a:moveTo>
                    <a:lnTo>
                      <a:pt x="83" y="34"/>
                    </a:lnTo>
                    <a:lnTo>
                      <a:pt x="41" y="68"/>
                    </a:lnTo>
                    <a:lnTo>
                      <a:pt x="0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71120" y="386820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82280" y="3417840"/>
                <a:ext cx="41040" cy="5004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1" y="0"/>
                    </a:moveTo>
                    <a:lnTo>
                      <a:pt x="83" y="34"/>
                    </a:lnTo>
                    <a:lnTo>
                      <a:pt x="41" y="68"/>
                    </a:lnTo>
                    <a:lnTo>
                      <a:pt x="0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3600" y="372528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1" y="0"/>
                    </a:moveTo>
                    <a:lnTo>
                      <a:pt x="82" y="34"/>
                    </a:lnTo>
                    <a:lnTo>
                      <a:pt x="41" y="68"/>
                    </a:lnTo>
                    <a:lnTo>
                      <a:pt x="0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330200" y="424152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143000" y="4011480"/>
                <a:ext cx="4104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931320" y="3921840"/>
                <a:ext cx="4104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73000" y="343728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020960" y="345420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1" y="0"/>
                    </a:moveTo>
                    <a:lnTo>
                      <a:pt x="82" y="34"/>
                    </a:lnTo>
                    <a:lnTo>
                      <a:pt x="41" y="68"/>
                    </a:lnTo>
                    <a:lnTo>
                      <a:pt x="0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07840" y="3417840"/>
                <a:ext cx="41040" cy="5004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1" y="0"/>
                    </a:moveTo>
                    <a:lnTo>
                      <a:pt x="83" y="34"/>
                    </a:lnTo>
                    <a:lnTo>
                      <a:pt x="41" y="68"/>
                    </a:lnTo>
                    <a:lnTo>
                      <a:pt x="0" y="3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57520" y="382896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187160" y="4178880"/>
                <a:ext cx="4104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0560" y="3602160"/>
                <a:ext cx="242640" cy="258480"/>
              </a:xfrm>
              <a:custGeom>
                <a:avLst/>
                <a:gdLst/>
                <a:ahLst/>
                <a:rect l="l" t="t" r="r" b="b"/>
                <a:pathLst>
                  <a:path w="349" h="289">
                    <a:moveTo>
                      <a:pt x="0" y="0"/>
                    </a:moveTo>
                    <a:lnTo>
                      <a:pt x="5" y="7"/>
                    </a:lnTo>
                    <a:lnTo>
                      <a:pt x="9" y="15"/>
                    </a:lnTo>
                    <a:lnTo>
                      <a:pt x="13" y="22"/>
                    </a:lnTo>
                    <a:lnTo>
                      <a:pt x="17" y="28"/>
                    </a:lnTo>
                    <a:lnTo>
                      <a:pt x="21" y="35"/>
                    </a:lnTo>
                    <a:lnTo>
                      <a:pt x="25" y="41"/>
                    </a:lnTo>
                    <a:lnTo>
                      <a:pt x="29" y="47"/>
                    </a:lnTo>
                    <a:lnTo>
                      <a:pt x="33" y="53"/>
                    </a:lnTo>
                    <a:lnTo>
                      <a:pt x="37" y="59"/>
                    </a:lnTo>
                    <a:lnTo>
                      <a:pt x="41" y="65"/>
                    </a:lnTo>
                    <a:lnTo>
                      <a:pt x="46" y="70"/>
                    </a:lnTo>
                    <a:lnTo>
                      <a:pt x="50" y="76"/>
                    </a:lnTo>
                    <a:lnTo>
                      <a:pt x="54" y="81"/>
                    </a:lnTo>
                    <a:lnTo>
                      <a:pt x="58" y="86"/>
                    </a:lnTo>
                    <a:lnTo>
                      <a:pt x="62" y="91"/>
                    </a:lnTo>
                    <a:lnTo>
                      <a:pt x="66" y="96"/>
                    </a:lnTo>
                    <a:lnTo>
                      <a:pt x="70" y="101"/>
                    </a:lnTo>
                    <a:lnTo>
                      <a:pt x="74" y="105"/>
                    </a:lnTo>
                    <a:lnTo>
                      <a:pt x="78" y="110"/>
                    </a:lnTo>
                    <a:lnTo>
                      <a:pt x="82" y="114"/>
                    </a:lnTo>
                    <a:lnTo>
                      <a:pt x="87" y="118"/>
                    </a:lnTo>
                    <a:lnTo>
                      <a:pt x="91" y="123"/>
                    </a:lnTo>
                    <a:lnTo>
                      <a:pt x="95" y="127"/>
                    </a:lnTo>
                    <a:lnTo>
                      <a:pt x="99" y="131"/>
                    </a:lnTo>
                    <a:lnTo>
                      <a:pt x="103" y="135"/>
                    </a:lnTo>
                    <a:lnTo>
                      <a:pt x="107" y="139"/>
                    </a:lnTo>
                    <a:lnTo>
                      <a:pt x="111" y="143"/>
                    </a:lnTo>
                    <a:lnTo>
                      <a:pt x="115" y="146"/>
                    </a:lnTo>
                    <a:lnTo>
                      <a:pt x="119" y="150"/>
                    </a:lnTo>
                    <a:lnTo>
                      <a:pt x="123" y="154"/>
                    </a:lnTo>
                    <a:lnTo>
                      <a:pt x="128" y="157"/>
                    </a:lnTo>
                    <a:lnTo>
                      <a:pt x="132" y="161"/>
                    </a:lnTo>
                    <a:lnTo>
                      <a:pt x="136" y="164"/>
                    </a:lnTo>
                    <a:lnTo>
                      <a:pt x="140" y="167"/>
                    </a:lnTo>
                    <a:lnTo>
                      <a:pt x="144" y="171"/>
                    </a:lnTo>
                    <a:lnTo>
                      <a:pt x="148" y="174"/>
                    </a:lnTo>
                    <a:lnTo>
                      <a:pt x="152" y="177"/>
                    </a:lnTo>
                    <a:lnTo>
                      <a:pt x="156" y="180"/>
                    </a:lnTo>
                    <a:lnTo>
                      <a:pt x="160" y="183"/>
                    </a:lnTo>
                    <a:lnTo>
                      <a:pt x="164" y="186"/>
                    </a:lnTo>
                    <a:lnTo>
                      <a:pt x="169" y="189"/>
                    </a:lnTo>
                    <a:lnTo>
                      <a:pt x="173" y="192"/>
                    </a:lnTo>
                    <a:lnTo>
                      <a:pt x="177" y="195"/>
                    </a:lnTo>
                    <a:lnTo>
                      <a:pt x="181" y="198"/>
                    </a:lnTo>
                    <a:lnTo>
                      <a:pt x="185" y="201"/>
                    </a:lnTo>
                    <a:lnTo>
                      <a:pt x="189" y="204"/>
                    </a:lnTo>
                    <a:lnTo>
                      <a:pt x="193" y="206"/>
                    </a:lnTo>
                    <a:lnTo>
                      <a:pt x="197" y="209"/>
                    </a:lnTo>
                    <a:lnTo>
                      <a:pt x="201" y="212"/>
                    </a:lnTo>
                    <a:lnTo>
                      <a:pt x="205" y="214"/>
                    </a:lnTo>
                    <a:lnTo>
                      <a:pt x="210" y="217"/>
                    </a:lnTo>
                    <a:lnTo>
                      <a:pt x="214" y="220"/>
                    </a:lnTo>
                    <a:lnTo>
                      <a:pt x="218" y="222"/>
                    </a:lnTo>
                    <a:lnTo>
                      <a:pt x="222" y="225"/>
                    </a:lnTo>
                    <a:lnTo>
                      <a:pt x="226" y="227"/>
                    </a:lnTo>
                    <a:lnTo>
                      <a:pt x="230" y="230"/>
                    </a:lnTo>
                    <a:lnTo>
                      <a:pt x="234" y="232"/>
                    </a:lnTo>
                    <a:lnTo>
                      <a:pt x="238" y="234"/>
                    </a:lnTo>
                    <a:lnTo>
                      <a:pt x="242" y="237"/>
                    </a:lnTo>
                    <a:lnTo>
                      <a:pt x="246" y="239"/>
                    </a:lnTo>
                    <a:lnTo>
                      <a:pt x="251" y="241"/>
                    </a:lnTo>
                    <a:lnTo>
                      <a:pt x="255" y="243"/>
                    </a:lnTo>
                    <a:lnTo>
                      <a:pt x="259" y="246"/>
                    </a:lnTo>
                    <a:lnTo>
                      <a:pt x="263" y="248"/>
                    </a:lnTo>
                    <a:lnTo>
                      <a:pt x="267" y="250"/>
                    </a:lnTo>
                    <a:lnTo>
                      <a:pt x="271" y="252"/>
                    </a:lnTo>
                    <a:lnTo>
                      <a:pt x="275" y="254"/>
                    </a:lnTo>
                    <a:lnTo>
                      <a:pt x="279" y="256"/>
                    </a:lnTo>
                    <a:lnTo>
                      <a:pt x="283" y="258"/>
                    </a:lnTo>
                    <a:lnTo>
                      <a:pt x="287" y="261"/>
                    </a:lnTo>
                    <a:lnTo>
                      <a:pt x="292" y="263"/>
                    </a:lnTo>
                    <a:lnTo>
                      <a:pt x="296" y="265"/>
                    </a:lnTo>
                    <a:lnTo>
                      <a:pt x="300" y="267"/>
                    </a:lnTo>
                    <a:lnTo>
                      <a:pt x="304" y="269"/>
                    </a:lnTo>
                    <a:lnTo>
                      <a:pt x="308" y="270"/>
                    </a:lnTo>
                    <a:lnTo>
                      <a:pt x="312" y="272"/>
                    </a:lnTo>
                    <a:lnTo>
                      <a:pt x="316" y="274"/>
                    </a:lnTo>
                    <a:lnTo>
                      <a:pt x="320" y="276"/>
                    </a:lnTo>
                    <a:lnTo>
                      <a:pt x="324" y="278"/>
                    </a:lnTo>
                    <a:lnTo>
                      <a:pt x="328" y="280"/>
                    </a:lnTo>
                    <a:lnTo>
                      <a:pt x="333" y="282"/>
                    </a:lnTo>
                    <a:lnTo>
                      <a:pt x="337" y="284"/>
                    </a:lnTo>
                    <a:lnTo>
                      <a:pt x="341" y="285"/>
                    </a:lnTo>
                    <a:lnTo>
                      <a:pt x="345" y="287"/>
                    </a:lnTo>
                    <a:lnTo>
                      <a:pt x="349" y="289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033560" y="3860640"/>
                <a:ext cx="245520" cy="9720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0"/>
                    </a:moveTo>
                    <a:lnTo>
                      <a:pt x="4" y="2"/>
                    </a:ln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5" y="10"/>
                    </a:lnTo>
                    <a:lnTo>
                      <a:pt x="29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20"/>
                    </a:lnTo>
                    <a:lnTo>
                      <a:pt x="53" y="21"/>
                    </a:lnTo>
                    <a:lnTo>
                      <a:pt x="57" y="23"/>
                    </a:lnTo>
                    <a:lnTo>
                      <a:pt x="61" y="24"/>
                    </a:lnTo>
                    <a:lnTo>
                      <a:pt x="66" y="26"/>
                    </a:lnTo>
                    <a:lnTo>
                      <a:pt x="70" y="28"/>
                    </a:lnTo>
                    <a:lnTo>
                      <a:pt x="74" y="29"/>
                    </a:lnTo>
                    <a:lnTo>
                      <a:pt x="78" y="31"/>
                    </a:lnTo>
                    <a:lnTo>
                      <a:pt x="82" y="32"/>
                    </a:lnTo>
                    <a:lnTo>
                      <a:pt x="86" y="33"/>
                    </a:lnTo>
                    <a:lnTo>
                      <a:pt x="90" y="35"/>
                    </a:lnTo>
                    <a:lnTo>
                      <a:pt x="94" y="36"/>
                    </a:lnTo>
                    <a:lnTo>
                      <a:pt x="98" y="38"/>
                    </a:lnTo>
                    <a:lnTo>
                      <a:pt x="102" y="39"/>
                    </a:lnTo>
                    <a:lnTo>
                      <a:pt x="107" y="41"/>
                    </a:lnTo>
                    <a:lnTo>
                      <a:pt x="111" y="42"/>
                    </a:lnTo>
                    <a:lnTo>
                      <a:pt x="115" y="43"/>
                    </a:lnTo>
                    <a:lnTo>
                      <a:pt x="119" y="45"/>
                    </a:lnTo>
                    <a:lnTo>
                      <a:pt x="123" y="46"/>
                    </a:lnTo>
                    <a:lnTo>
                      <a:pt x="127" y="47"/>
                    </a:lnTo>
                    <a:lnTo>
                      <a:pt x="131" y="49"/>
                    </a:lnTo>
                    <a:lnTo>
                      <a:pt x="135" y="50"/>
                    </a:lnTo>
                    <a:lnTo>
                      <a:pt x="139" y="51"/>
                    </a:lnTo>
                    <a:lnTo>
                      <a:pt x="143" y="53"/>
                    </a:lnTo>
                    <a:lnTo>
                      <a:pt x="148" y="54"/>
                    </a:lnTo>
                    <a:lnTo>
                      <a:pt x="152" y="55"/>
                    </a:lnTo>
                    <a:lnTo>
                      <a:pt x="156" y="57"/>
                    </a:lnTo>
                    <a:lnTo>
                      <a:pt x="160" y="58"/>
                    </a:lnTo>
                    <a:lnTo>
                      <a:pt x="164" y="59"/>
                    </a:lnTo>
                    <a:lnTo>
                      <a:pt x="168" y="60"/>
                    </a:lnTo>
                    <a:lnTo>
                      <a:pt x="172" y="62"/>
                    </a:lnTo>
                    <a:lnTo>
                      <a:pt x="176" y="63"/>
                    </a:lnTo>
                    <a:lnTo>
                      <a:pt x="180" y="64"/>
                    </a:lnTo>
                    <a:lnTo>
                      <a:pt x="184" y="65"/>
                    </a:lnTo>
                    <a:lnTo>
                      <a:pt x="189" y="67"/>
                    </a:lnTo>
                    <a:lnTo>
                      <a:pt x="193" y="68"/>
                    </a:lnTo>
                    <a:lnTo>
                      <a:pt x="197" y="69"/>
                    </a:lnTo>
                    <a:lnTo>
                      <a:pt x="201" y="70"/>
                    </a:lnTo>
                    <a:lnTo>
                      <a:pt x="205" y="71"/>
                    </a:lnTo>
                    <a:lnTo>
                      <a:pt x="209" y="73"/>
                    </a:lnTo>
                    <a:lnTo>
                      <a:pt x="213" y="74"/>
                    </a:lnTo>
                    <a:lnTo>
                      <a:pt x="217" y="75"/>
                    </a:lnTo>
                    <a:lnTo>
                      <a:pt x="221" y="76"/>
                    </a:lnTo>
                    <a:lnTo>
                      <a:pt x="225" y="77"/>
                    </a:lnTo>
                    <a:lnTo>
                      <a:pt x="230" y="78"/>
                    </a:lnTo>
                    <a:lnTo>
                      <a:pt x="234" y="79"/>
                    </a:lnTo>
                    <a:lnTo>
                      <a:pt x="238" y="81"/>
                    </a:lnTo>
                    <a:lnTo>
                      <a:pt x="242" y="82"/>
                    </a:lnTo>
                    <a:lnTo>
                      <a:pt x="246" y="83"/>
                    </a:lnTo>
                    <a:lnTo>
                      <a:pt x="250" y="84"/>
                    </a:lnTo>
                    <a:lnTo>
                      <a:pt x="254" y="85"/>
                    </a:lnTo>
                    <a:lnTo>
                      <a:pt x="258" y="86"/>
                    </a:lnTo>
                    <a:lnTo>
                      <a:pt x="262" y="87"/>
                    </a:lnTo>
                    <a:lnTo>
                      <a:pt x="266" y="88"/>
                    </a:lnTo>
                    <a:lnTo>
                      <a:pt x="271" y="89"/>
                    </a:lnTo>
                    <a:lnTo>
                      <a:pt x="275" y="90"/>
                    </a:lnTo>
                    <a:lnTo>
                      <a:pt x="279" y="91"/>
                    </a:lnTo>
                    <a:lnTo>
                      <a:pt x="283" y="93"/>
                    </a:lnTo>
                    <a:lnTo>
                      <a:pt x="287" y="94"/>
                    </a:lnTo>
                    <a:lnTo>
                      <a:pt x="291" y="95"/>
                    </a:lnTo>
                    <a:lnTo>
                      <a:pt x="295" y="96"/>
                    </a:lnTo>
                    <a:lnTo>
                      <a:pt x="299" y="97"/>
                    </a:lnTo>
                    <a:lnTo>
                      <a:pt x="303" y="98"/>
                    </a:lnTo>
                    <a:lnTo>
                      <a:pt x="307" y="99"/>
                    </a:lnTo>
                    <a:lnTo>
                      <a:pt x="312" y="100"/>
                    </a:lnTo>
                    <a:lnTo>
                      <a:pt x="316" y="101"/>
                    </a:lnTo>
                    <a:lnTo>
                      <a:pt x="320" y="102"/>
                    </a:lnTo>
                    <a:lnTo>
                      <a:pt x="324" y="103"/>
                    </a:lnTo>
                    <a:lnTo>
                      <a:pt x="328" y="104"/>
                    </a:lnTo>
                    <a:lnTo>
                      <a:pt x="332" y="105"/>
                    </a:lnTo>
                    <a:lnTo>
                      <a:pt x="336" y="106"/>
                    </a:lnTo>
                    <a:lnTo>
                      <a:pt x="340" y="107"/>
                    </a:lnTo>
                    <a:lnTo>
                      <a:pt x="344" y="108"/>
                    </a:lnTo>
                    <a:lnTo>
                      <a:pt x="348" y="109"/>
                    </a:lnTo>
                    <a:lnTo>
                      <a:pt x="353" y="109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279080" y="3958200"/>
                <a:ext cx="242640" cy="59040"/>
              </a:xfrm>
              <a:custGeom>
                <a:avLst/>
                <a:gdLst/>
                <a:ahLst/>
                <a:rect l="l" t="t" r="r" b="b"/>
                <a:pathLst>
                  <a:path w="348" h="67">
                    <a:moveTo>
                      <a:pt x="0" y="0"/>
                    </a:moveTo>
                    <a:lnTo>
                      <a:pt x="4" y="1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4" y="6"/>
                    </a:lnTo>
                    <a:lnTo>
                      <a:pt x="28" y="7"/>
                    </a:lnTo>
                    <a:lnTo>
                      <a:pt x="32" y="8"/>
                    </a:lnTo>
                    <a:lnTo>
                      <a:pt x="36" y="9"/>
                    </a:lnTo>
                    <a:lnTo>
                      <a:pt x="41" y="10"/>
                    </a:lnTo>
                    <a:lnTo>
                      <a:pt x="45" y="11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7" y="13"/>
                    </a:lnTo>
                    <a:lnTo>
                      <a:pt x="61" y="14"/>
                    </a:lnTo>
                    <a:lnTo>
                      <a:pt x="65" y="15"/>
                    </a:lnTo>
                    <a:lnTo>
                      <a:pt x="69" y="16"/>
                    </a:lnTo>
                    <a:lnTo>
                      <a:pt x="73" y="17"/>
                    </a:lnTo>
                    <a:lnTo>
                      <a:pt x="77" y="18"/>
                    </a:lnTo>
                    <a:lnTo>
                      <a:pt x="82" y="19"/>
                    </a:lnTo>
                    <a:lnTo>
                      <a:pt x="86" y="19"/>
                    </a:lnTo>
                    <a:lnTo>
                      <a:pt x="90" y="20"/>
                    </a:lnTo>
                    <a:lnTo>
                      <a:pt x="94" y="21"/>
                    </a:lnTo>
                    <a:lnTo>
                      <a:pt x="98" y="22"/>
                    </a:lnTo>
                    <a:lnTo>
                      <a:pt x="102" y="23"/>
                    </a:lnTo>
                    <a:lnTo>
                      <a:pt x="106" y="24"/>
                    </a:lnTo>
                    <a:lnTo>
                      <a:pt x="110" y="24"/>
                    </a:lnTo>
                    <a:lnTo>
                      <a:pt x="114" y="25"/>
                    </a:lnTo>
                    <a:lnTo>
                      <a:pt x="118" y="26"/>
                    </a:lnTo>
                    <a:lnTo>
                      <a:pt x="123" y="27"/>
                    </a:lnTo>
                    <a:lnTo>
                      <a:pt x="127" y="28"/>
                    </a:lnTo>
                    <a:lnTo>
                      <a:pt x="131" y="28"/>
                    </a:lnTo>
                    <a:lnTo>
                      <a:pt x="135" y="29"/>
                    </a:lnTo>
                    <a:lnTo>
                      <a:pt x="139" y="30"/>
                    </a:lnTo>
                    <a:lnTo>
                      <a:pt x="143" y="31"/>
                    </a:lnTo>
                    <a:lnTo>
                      <a:pt x="147" y="32"/>
                    </a:lnTo>
                    <a:lnTo>
                      <a:pt x="151" y="32"/>
                    </a:lnTo>
                    <a:lnTo>
                      <a:pt x="155" y="33"/>
                    </a:lnTo>
                    <a:lnTo>
                      <a:pt x="160" y="34"/>
                    </a:lnTo>
                    <a:lnTo>
                      <a:pt x="164" y="35"/>
                    </a:lnTo>
                    <a:lnTo>
                      <a:pt x="168" y="36"/>
                    </a:lnTo>
                    <a:lnTo>
                      <a:pt x="172" y="36"/>
                    </a:lnTo>
                    <a:lnTo>
                      <a:pt x="176" y="37"/>
                    </a:lnTo>
                    <a:lnTo>
                      <a:pt x="180" y="38"/>
                    </a:lnTo>
                    <a:lnTo>
                      <a:pt x="184" y="39"/>
                    </a:lnTo>
                    <a:lnTo>
                      <a:pt x="188" y="39"/>
                    </a:lnTo>
                    <a:lnTo>
                      <a:pt x="192" y="40"/>
                    </a:lnTo>
                    <a:lnTo>
                      <a:pt x="196" y="41"/>
                    </a:lnTo>
                    <a:lnTo>
                      <a:pt x="201" y="42"/>
                    </a:lnTo>
                    <a:lnTo>
                      <a:pt x="205" y="42"/>
                    </a:lnTo>
                    <a:lnTo>
                      <a:pt x="209" y="43"/>
                    </a:lnTo>
                    <a:lnTo>
                      <a:pt x="213" y="44"/>
                    </a:lnTo>
                    <a:lnTo>
                      <a:pt x="217" y="45"/>
                    </a:lnTo>
                    <a:lnTo>
                      <a:pt x="221" y="45"/>
                    </a:lnTo>
                    <a:lnTo>
                      <a:pt x="225" y="46"/>
                    </a:lnTo>
                    <a:lnTo>
                      <a:pt x="229" y="47"/>
                    </a:lnTo>
                    <a:lnTo>
                      <a:pt x="233" y="48"/>
                    </a:lnTo>
                    <a:lnTo>
                      <a:pt x="237" y="48"/>
                    </a:lnTo>
                    <a:lnTo>
                      <a:pt x="242" y="49"/>
                    </a:lnTo>
                    <a:lnTo>
                      <a:pt x="246" y="50"/>
                    </a:lnTo>
                    <a:lnTo>
                      <a:pt x="250" y="50"/>
                    </a:lnTo>
                    <a:lnTo>
                      <a:pt x="254" y="51"/>
                    </a:lnTo>
                    <a:lnTo>
                      <a:pt x="258" y="52"/>
                    </a:lnTo>
                    <a:lnTo>
                      <a:pt x="262" y="53"/>
                    </a:lnTo>
                    <a:lnTo>
                      <a:pt x="266" y="53"/>
                    </a:lnTo>
                    <a:lnTo>
                      <a:pt x="270" y="54"/>
                    </a:lnTo>
                    <a:lnTo>
                      <a:pt x="274" y="55"/>
                    </a:lnTo>
                    <a:lnTo>
                      <a:pt x="278" y="55"/>
                    </a:lnTo>
                    <a:lnTo>
                      <a:pt x="283" y="56"/>
                    </a:lnTo>
                    <a:lnTo>
                      <a:pt x="287" y="57"/>
                    </a:lnTo>
                    <a:lnTo>
                      <a:pt x="291" y="57"/>
                    </a:lnTo>
                    <a:lnTo>
                      <a:pt x="295" y="58"/>
                    </a:lnTo>
                    <a:lnTo>
                      <a:pt x="299" y="59"/>
                    </a:lnTo>
                    <a:lnTo>
                      <a:pt x="303" y="59"/>
                    </a:lnTo>
                    <a:lnTo>
                      <a:pt x="307" y="60"/>
                    </a:lnTo>
                    <a:lnTo>
                      <a:pt x="311" y="61"/>
                    </a:lnTo>
                    <a:lnTo>
                      <a:pt x="315" y="61"/>
                    </a:lnTo>
                    <a:lnTo>
                      <a:pt x="319" y="62"/>
                    </a:lnTo>
                    <a:lnTo>
                      <a:pt x="324" y="63"/>
                    </a:lnTo>
                    <a:lnTo>
                      <a:pt x="328" y="63"/>
                    </a:lnTo>
                    <a:lnTo>
                      <a:pt x="332" y="64"/>
                    </a:lnTo>
                    <a:lnTo>
                      <a:pt x="336" y="65"/>
                    </a:lnTo>
                    <a:lnTo>
                      <a:pt x="340" y="65"/>
                    </a:lnTo>
                    <a:lnTo>
                      <a:pt x="344" y="66"/>
                    </a:lnTo>
                    <a:lnTo>
                      <a:pt x="348" y="67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521720" y="4017600"/>
                <a:ext cx="245520" cy="42480"/>
              </a:xfrm>
              <a:custGeom>
                <a:avLst/>
                <a:gdLst/>
                <a:ahLst/>
                <a:rect l="l" t="t" r="r" b="b"/>
                <a:pathLst>
                  <a:path w="353" h="48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5"/>
                    </a:lnTo>
                    <a:lnTo>
                      <a:pt x="37" y="5"/>
                    </a:lnTo>
                    <a:lnTo>
                      <a:pt x="41" y="6"/>
                    </a:lnTo>
                    <a:lnTo>
                      <a:pt x="45" y="7"/>
                    </a:lnTo>
                    <a:lnTo>
                      <a:pt x="49" y="7"/>
                    </a:lnTo>
                    <a:lnTo>
                      <a:pt x="53" y="8"/>
                    </a:lnTo>
                    <a:lnTo>
                      <a:pt x="58" y="8"/>
                    </a:lnTo>
                    <a:lnTo>
                      <a:pt x="62" y="9"/>
                    </a:lnTo>
                    <a:lnTo>
                      <a:pt x="66" y="10"/>
                    </a:lnTo>
                    <a:lnTo>
                      <a:pt x="70" y="10"/>
                    </a:lnTo>
                    <a:lnTo>
                      <a:pt x="74" y="11"/>
                    </a:lnTo>
                    <a:lnTo>
                      <a:pt x="78" y="12"/>
                    </a:lnTo>
                    <a:lnTo>
                      <a:pt x="82" y="12"/>
                    </a:lnTo>
                    <a:lnTo>
                      <a:pt x="86" y="13"/>
                    </a:lnTo>
                    <a:lnTo>
                      <a:pt x="90" y="13"/>
                    </a:lnTo>
                    <a:lnTo>
                      <a:pt x="94" y="14"/>
                    </a:lnTo>
                    <a:lnTo>
                      <a:pt x="99" y="15"/>
                    </a:lnTo>
                    <a:lnTo>
                      <a:pt x="103" y="15"/>
                    </a:lnTo>
                    <a:lnTo>
                      <a:pt x="107" y="16"/>
                    </a:lnTo>
                    <a:lnTo>
                      <a:pt x="111" y="16"/>
                    </a:lnTo>
                    <a:lnTo>
                      <a:pt x="115" y="17"/>
                    </a:lnTo>
                    <a:lnTo>
                      <a:pt x="119" y="17"/>
                    </a:lnTo>
                    <a:lnTo>
                      <a:pt x="123" y="18"/>
                    </a:lnTo>
                    <a:lnTo>
                      <a:pt x="127" y="19"/>
                    </a:lnTo>
                    <a:lnTo>
                      <a:pt x="131" y="19"/>
                    </a:lnTo>
                    <a:lnTo>
                      <a:pt x="135" y="20"/>
                    </a:lnTo>
                    <a:lnTo>
                      <a:pt x="140" y="20"/>
                    </a:lnTo>
                    <a:lnTo>
                      <a:pt x="144" y="21"/>
                    </a:lnTo>
                    <a:lnTo>
                      <a:pt x="148" y="21"/>
                    </a:lnTo>
                    <a:lnTo>
                      <a:pt x="152" y="22"/>
                    </a:lnTo>
                    <a:lnTo>
                      <a:pt x="156" y="23"/>
                    </a:lnTo>
                    <a:lnTo>
                      <a:pt x="160" y="23"/>
                    </a:lnTo>
                    <a:lnTo>
                      <a:pt x="164" y="24"/>
                    </a:lnTo>
                    <a:lnTo>
                      <a:pt x="168" y="24"/>
                    </a:lnTo>
                    <a:lnTo>
                      <a:pt x="172" y="25"/>
                    </a:lnTo>
                    <a:lnTo>
                      <a:pt x="176" y="25"/>
                    </a:lnTo>
                    <a:lnTo>
                      <a:pt x="181" y="26"/>
                    </a:lnTo>
                    <a:lnTo>
                      <a:pt x="185" y="26"/>
                    </a:lnTo>
                    <a:lnTo>
                      <a:pt x="189" y="27"/>
                    </a:lnTo>
                    <a:lnTo>
                      <a:pt x="193" y="28"/>
                    </a:lnTo>
                    <a:lnTo>
                      <a:pt x="197" y="28"/>
                    </a:lnTo>
                    <a:lnTo>
                      <a:pt x="201" y="29"/>
                    </a:lnTo>
                    <a:lnTo>
                      <a:pt x="205" y="29"/>
                    </a:lnTo>
                    <a:lnTo>
                      <a:pt x="209" y="30"/>
                    </a:lnTo>
                    <a:lnTo>
                      <a:pt x="213" y="30"/>
                    </a:lnTo>
                    <a:lnTo>
                      <a:pt x="217" y="31"/>
                    </a:lnTo>
                    <a:lnTo>
                      <a:pt x="222" y="31"/>
                    </a:lnTo>
                    <a:lnTo>
                      <a:pt x="226" y="32"/>
                    </a:lnTo>
                    <a:lnTo>
                      <a:pt x="230" y="32"/>
                    </a:lnTo>
                    <a:lnTo>
                      <a:pt x="234" y="33"/>
                    </a:lnTo>
                    <a:lnTo>
                      <a:pt x="238" y="33"/>
                    </a:lnTo>
                    <a:lnTo>
                      <a:pt x="242" y="34"/>
                    </a:lnTo>
                    <a:lnTo>
                      <a:pt x="246" y="35"/>
                    </a:lnTo>
                    <a:lnTo>
                      <a:pt x="250" y="35"/>
                    </a:lnTo>
                    <a:lnTo>
                      <a:pt x="254" y="36"/>
                    </a:lnTo>
                    <a:lnTo>
                      <a:pt x="258" y="36"/>
                    </a:lnTo>
                    <a:lnTo>
                      <a:pt x="263" y="37"/>
                    </a:lnTo>
                    <a:lnTo>
                      <a:pt x="267" y="37"/>
                    </a:lnTo>
                    <a:lnTo>
                      <a:pt x="271" y="38"/>
                    </a:lnTo>
                    <a:lnTo>
                      <a:pt x="275" y="38"/>
                    </a:lnTo>
                    <a:lnTo>
                      <a:pt x="279" y="39"/>
                    </a:lnTo>
                    <a:lnTo>
                      <a:pt x="283" y="39"/>
                    </a:lnTo>
                    <a:lnTo>
                      <a:pt x="287" y="40"/>
                    </a:lnTo>
                    <a:lnTo>
                      <a:pt x="291" y="40"/>
                    </a:lnTo>
                    <a:lnTo>
                      <a:pt x="295" y="41"/>
                    </a:lnTo>
                    <a:lnTo>
                      <a:pt x="299" y="41"/>
                    </a:lnTo>
                    <a:lnTo>
                      <a:pt x="304" y="42"/>
                    </a:lnTo>
                    <a:lnTo>
                      <a:pt x="308" y="42"/>
                    </a:lnTo>
                    <a:lnTo>
                      <a:pt x="312" y="43"/>
                    </a:lnTo>
                    <a:lnTo>
                      <a:pt x="316" y="43"/>
                    </a:lnTo>
                    <a:lnTo>
                      <a:pt x="320" y="44"/>
                    </a:lnTo>
                    <a:lnTo>
                      <a:pt x="324" y="44"/>
                    </a:lnTo>
                    <a:lnTo>
                      <a:pt x="328" y="45"/>
                    </a:lnTo>
                    <a:lnTo>
                      <a:pt x="332" y="45"/>
                    </a:lnTo>
                    <a:lnTo>
                      <a:pt x="336" y="46"/>
                    </a:lnTo>
                    <a:lnTo>
                      <a:pt x="340" y="46"/>
                    </a:lnTo>
                    <a:lnTo>
                      <a:pt x="345" y="47"/>
                    </a:lnTo>
                    <a:lnTo>
                      <a:pt x="349" y="47"/>
                    </a:lnTo>
                    <a:lnTo>
                      <a:pt x="353" y="48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767600" y="4060440"/>
                <a:ext cx="244080" cy="33480"/>
              </a:xfrm>
              <a:custGeom>
                <a:avLst/>
                <a:gdLst/>
                <a:ahLst/>
                <a:rect l="l" t="t" r="r" b="b"/>
                <a:pathLst>
                  <a:path w="352" h="37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8" y="3"/>
                    </a:lnTo>
                    <a:lnTo>
                      <a:pt x="33" y="3"/>
                    </a:lnTo>
                    <a:lnTo>
                      <a:pt x="37" y="4"/>
                    </a:lnTo>
                    <a:lnTo>
                      <a:pt x="41" y="4"/>
                    </a:lnTo>
                    <a:lnTo>
                      <a:pt x="45" y="5"/>
                    </a:lnTo>
                    <a:lnTo>
                      <a:pt x="49" y="5"/>
                    </a:lnTo>
                    <a:lnTo>
                      <a:pt x="53" y="6"/>
                    </a:lnTo>
                    <a:lnTo>
                      <a:pt x="57" y="6"/>
                    </a:lnTo>
                    <a:lnTo>
                      <a:pt x="61" y="7"/>
                    </a:lnTo>
                    <a:lnTo>
                      <a:pt x="65" y="7"/>
                    </a:lnTo>
                    <a:lnTo>
                      <a:pt x="69" y="8"/>
                    </a:lnTo>
                    <a:lnTo>
                      <a:pt x="74" y="8"/>
                    </a:lnTo>
                    <a:lnTo>
                      <a:pt x="78" y="9"/>
                    </a:lnTo>
                    <a:lnTo>
                      <a:pt x="82" y="9"/>
                    </a:lnTo>
                    <a:lnTo>
                      <a:pt x="86" y="9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8" y="11"/>
                    </a:lnTo>
                    <a:lnTo>
                      <a:pt x="102" y="11"/>
                    </a:lnTo>
                    <a:lnTo>
                      <a:pt x="106" y="12"/>
                    </a:lnTo>
                    <a:lnTo>
                      <a:pt x="110" y="12"/>
                    </a:lnTo>
                    <a:lnTo>
                      <a:pt x="115" y="13"/>
                    </a:lnTo>
                    <a:lnTo>
                      <a:pt x="119" y="13"/>
                    </a:lnTo>
                    <a:lnTo>
                      <a:pt x="123" y="14"/>
                    </a:lnTo>
                    <a:lnTo>
                      <a:pt x="127" y="14"/>
                    </a:lnTo>
                    <a:lnTo>
                      <a:pt x="131" y="14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43" y="16"/>
                    </a:lnTo>
                    <a:lnTo>
                      <a:pt x="147" y="16"/>
                    </a:lnTo>
                    <a:lnTo>
                      <a:pt x="151" y="17"/>
                    </a:lnTo>
                    <a:lnTo>
                      <a:pt x="156" y="17"/>
                    </a:lnTo>
                    <a:lnTo>
                      <a:pt x="160" y="17"/>
                    </a:lnTo>
                    <a:lnTo>
                      <a:pt x="164" y="18"/>
                    </a:lnTo>
                    <a:lnTo>
                      <a:pt x="168" y="18"/>
                    </a:lnTo>
                    <a:lnTo>
                      <a:pt x="172" y="19"/>
                    </a:lnTo>
                    <a:lnTo>
                      <a:pt x="176" y="19"/>
                    </a:lnTo>
                    <a:lnTo>
                      <a:pt x="180" y="20"/>
                    </a:lnTo>
                    <a:lnTo>
                      <a:pt x="184" y="20"/>
                    </a:lnTo>
                    <a:lnTo>
                      <a:pt x="188" y="20"/>
                    </a:lnTo>
                    <a:lnTo>
                      <a:pt x="192" y="21"/>
                    </a:lnTo>
                    <a:lnTo>
                      <a:pt x="197" y="21"/>
                    </a:lnTo>
                    <a:lnTo>
                      <a:pt x="201" y="22"/>
                    </a:lnTo>
                    <a:lnTo>
                      <a:pt x="205" y="22"/>
                    </a:lnTo>
                    <a:lnTo>
                      <a:pt x="209" y="23"/>
                    </a:lnTo>
                    <a:lnTo>
                      <a:pt x="213" y="23"/>
                    </a:lnTo>
                    <a:lnTo>
                      <a:pt x="217" y="23"/>
                    </a:lnTo>
                    <a:lnTo>
                      <a:pt x="221" y="24"/>
                    </a:lnTo>
                    <a:lnTo>
                      <a:pt x="225" y="24"/>
                    </a:lnTo>
                    <a:lnTo>
                      <a:pt x="229" y="25"/>
                    </a:lnTo>
                    <a:lnTo>
                      <a:pt x="233" y="25"/>
                    </a:lnTo>
                    <a:lnTo>
                      <a:pt x="238" y="25"/>
                    </a:lnTo>
                    <a:lnTo>
                      <a:pt x="242" y="26"/>
                    </a:lnTo>
                    <a:lnTo>
                      <a:pt x="246" y="26"/>
                    </a:lnTo>
                    <a:lnTo>
                      <a:pt x="250" y="27"/>
                    </a:lnTo>
                    <a:lnTo>
                      <a:pt x="254" y="27"/>
                    </a:lnTo>
                    <a:lnTo>
                      <a:pt x="258" y="28"/>
                    </a:lnTo>
                    <a:lnTo>
                      <a:pt x="262" y="28"/>
                    </a:lnTo>
                    <a:lnTo>
                      <a:pt x="266" y="28"/>
                    </a:lnTo>
                    <a:lnTo>
                      <a:pt x="270" y="29"/>
                    </a:lnTo>
                    <a:lnTo>
                      <a:pt x="274" y="29"/>
                    </a:lnTo>
                    <a:lnTo>
                      <a:pt x="279" y="30"/>
                    </a:lnTo>
                    <a:lnTo>
                      <a:pt x="283" y="30"/>
                    </a:lnTo>
                    <a:lnTo>
                      <a:pt x="287" y="30"/>
                    </a:lnTo>
                    <a:lnTo>
                      <a:pt x="291" y="31"/>
                    </a:lnTo>
                    <a:lnTo>
                      <a:pt x="295" y="31"/>
                    </a:lnTo>
                    <a:lnTo>
                      <a:pt x="299" y="32"/>
                    </a:lnTo>
                    <a:lnTo>
                      <a:pt x="303" y="32"/>
                    </a:lnTo>
                    <a:lnTo>
                      <a:pt x="307" y="32"/>
                    </a:lnTo>
                    <a:lnTo>
                      <a:pt x="311" y="33"/>
                    </a:lnTo>
                    <a:lnTo>
                      <a:pt x="315" y="33"/>
                    </a:lnTo>
                    <a:lnTo>
                      <a:pt x="320" y="34"/>
                    </a:lnTo>
                    <a:lnTo>
                      <a:pt x="324" y="34"/>
                    </a:lnTo>
                    <a:lnTo>
                      <a:pt x="328" y="34"/>
                    </a:lnTo>
                    <a:lnTo>
                      <a:pt x="332" y="35"/>
                    </a:lnTo>
                    <a:lnTo>
                      <a:pt x="336" y="35"/>
                    </a:lnTo>
                    <a:lnTo>
                      <a:pt x="340" y="35"/>
                    </a:lnTo>
                    <a:lnTo>
                      <a:pt x="344" y="36"/>
                    </a:lnTo>
                    <a:lnTo>
                      <a:pt x="348" y="36"/>
                    </a:lnTo>
                    <a:lnTo>
                      <a:pt x="352" y="37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012040" y="4093920"/>
                <a:ext cx="242640" cy="25560"/>
              </a:xfrm>
              <a:custGeom>
                <a:avLst/>
                <a:gdLst/>
                <a:ahLst/>
                <a:rect l="l" t="t" r="r" b="b"/>
                <a:pathLst>
                  <a:path w="349" h="29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3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5" y="4"/>
                    </a:lnTo>
                    <a:lnTo>
                      <a:pt x="50" y="4"/>
                    </a:lnTo>
                    <a:lnTo>
                      <a:pt x="54" y="5"/>
                    </a:lnTo>
                    <a:lnTo>
                      <a:pt x="58" y="5"/>
                    </a:lnTo>
                    <a:lnTo>
                      <a:pt x="62" y="5"/>
                    </a:lnTo>
                    <a:lnTo>
                      <a:pt x="66" y="6"/>
                    </a:lnTo>
                    <a:lnTo>
                      <a:pt x="70" y="6"/>
                    </a:lnTo>
                    <a:lnTo>
                      <a:pt x="74" y="6"/>
                    </a:lnTo>
                    <a:lnTo>
                      <a:pt x="78" y="7"/>
                    </a:lnTo>
                    <a:lnTo>
                      <a:pt x="82" y="7"/>
                    </a:lnTo>
                    <a:lnTo>
                      <a:pt x="86" y="8"/>
                    </a:lnTo>
                    <a:lnTo>
                      <a:pt x="91" y="8"/>
                    </a:lnTo>
                    <a:lnTo>
                      <a:pt x="95" y="8"/>
                    </a:lnTo>
                    <a:lnTo>
                      <a:pt x="99" y="9"/>
                    </a:lnTo>
                    <a:lnTo>
                      <a:pt x="103" y="9"/>
                    </a:lnTo>
                    <a:lnTo>
                      <a:pt x="107" y="9"/>
                    </a:lnTo>
                    <a:lnTo>
                      <a:pt x="111" y="10"/>
                    </a:lnTo>
                    <a:lnTo>
                      <a:pt x="115" y="10"/>
                    </a:lnTo>
                    <a:lnTo>
                      <a:pt x="119" y="10"/>
                    </a:lnTo>
                    <a:lnTo>
                      <a:pt x="123" y="11"/>
                    </a:lnTo>
                    <a:lnTo>
                      <a:pt x="128" y="11"/>
                    </a:lnTo>
                    <a:lnTo>
                      <a:pt x="132" y="12"/>
                    </a:lnTo>
                    <a:lnTo>
                      <a:pt x="136" y="12"/>
                    </a:lnTo>
                    <a:lnTo>
                      <a:pt x="140" y="12"/>
                    </a:lnTo>
                    <a:lnTo>
                      <a:pt x="144" y="13"/>
                    </a:lnTo>
                    <a:lnTo>
                      <a:pt x="148" y="13"/>
                    </a:lnTo>
                    <a:lnTo>
                      <a:pt x="152" y="13"/>
                    </a:lnTo>
                    <a:lnTo>
                      <a:pt x="156" y="14"/>
                    </a:lnTo>
                    <a:lnTo>
                      <a:pt x="160" y="14"/>
                    </a:lnTo>
                    <a:lnTo>
                      <a:pt x="164" y="14"/>
                    </a:lnTo>
                    <a:lnTo>
                      <a:pt x="169" y="15"/>
                    </a:lnTo>
                    <a:lnTo>
                      <a:pt x="173" y="15"/>
                    </a:lnTo>
                    <a:lnTo>
                      <a:pt x="177" y="15"/>
                    </a:lnTo>
                    <a:lnTo>
                      <a:pt x="181" y="16"/>
                    </a:lnTo>
                    <a:lnTo>
                      <a:pt x="185" y="16"/>
                    </a:lnTo>
                    <a:lnTo>
                      <a:pt x="189" y="16"/>
                    </a:lnTo>
                    <a:lnTo>
                      <a:pt x="193" y="17"/>
                    </a:lnTo>
                    <a:lnTo>
                      <a:pt x="197" y="17"/>
                    </a:lnTo>
                    <a:lnTo>
                      <a:pt x="201" y="17"/>
                    </a:lnTo>
                    <a:lnTo>
                      <a:pt x="205" y="18"/>
                    </a:lnTo>
                    <a:lnTo>
                      <a:pt x="210" y="18"/>
                    </a:lnTo>
                    <a:lnTo>
                      <a:pt x="214" y="19"/>
                    </a:lnTo>
                    <a:lnTo>
                      <a:pt x="218" y="19"/>
                    </a:lnTo>
                    <a:lnTo>
                      <a:pt x="222" y="19"/>
                    </a:lnTo>
                    <a:lnTo>
                      <a:pt x="226" y="20"/>
                    </a:lnTo>
                    <a:lnTo>
                      <a:pt x="230" y="20"/>
                    </a:lnTo>
                    <a:lnTo>
                      <a:pt x="234" y="20"/>
                    </a:lnTo>
                    <a:lnTo>
                      <a:pt x="238" y="21"/>
                    </a:lnTo>
                    <a:lnTo>
                      <a:pt x="242" y="21"/>
                    </a:lnTo>
                    <a:lnTo>
                      <a:pt x="246" y="21"/>
                    </a:lnTo>
                    <a:lnTo>
                      <a:pt x="251" y="22"/>
                    </a:lnTo>
                    <a:lnTo>
                      <a:pt x="255" y="22"/>
                    </a:lnTo>
                    <a:lnTo>
                      <a:pt x="259" y="22"/>
                    </a:lnTo>
                    <a:lnTo>
                      <a:pt x="263" y="23"/>
                    </a:lnTo>
                    <a:lnTo>
                      <a:pt x="267" y="23"/>
                    </a:lnTo>
                    <a:lnTo>
                      <a:pt x="271" y="23"/>
                    </a:lnTo>
                    <a:lnTo>
                      <a:pt x="275" y="24"/>
                    </a:lnTo>
                    <a:lnTo>
                      <a:pt x="279" y="24"/>
                    </a:lnTo>
                    <a:lnTo>
                      <a:pt x="283" y="24"/>
                    </a:lnTo>
                    <a:lnTo>
                      <a:pt x="287" y="25"/>
                    </a:lnTo>
                    <a:lnTo>
                      <a:pt x="292" y="25"/>
                    </a:lnTo>
                    <a:lnTo>
                      <a:pt x="296" y="25"/>
                    </a:lnTo>
                    <a:lnTo>
                      <a:pt x="300" y="26"/>
                    </a:lnTo>
                    <a:lnTo>
                      <a:pt x="304" y="26"/>
                    </a:lnTo>
                    <a:lnTo>
                      <a:pt x="308" y="26"/>
                    </a:lnTo>
                    <a:lnTo>
                      <a:pt x="312" y="27"/>
                    </a:lnTo>
                    <a:lnTo>
                      <a:pt x="316" y="27"/>
                    </a:lnTo>
                    <a:lnTo>
                      <a:pt x="320" y="27"/>
                    </a:lnTo>
                    <a:lnTo>
                      <a:pt x="324" y="27"/>
                    </a:lnTo>
                    <a:lnTo>
                      <a:pt x="328" y="28"/>
                    </a:lnTo>
                    <a:lnTo>
                      <a:pt x="333" y="28"/>
                    </a:lnTo>
                    <a:lnTo>
                      <a:pt x="337" y="28"/>
                    </a:lnTo>
                    <a:lnTo>
                      <a:pt x="341" y="29"/>
                    </a:lnTo>
                    <a:lnTo>
                      <a:pt x="345" y="29"/>
                    </a:lnTo>
                    <a:lnTo>
                      <a:pt x="349" y="29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254680" y="4119840"/>
                <a:ext cx="243720" cy="22680"/>
              </a:xfrm>
              <a:custGeom>
                <a:avLst/>
                <a:gdLst/>
                <a:ahLst/>
                <a:rect l="l" t="t" r="r" b="b"/>
                <a:pathLst>
                  <a:path w="353" h="26">
                    <a:moveTo>
                      <a:pt x="0" y="0"/>
                    </a:moveTo>
                    <a:lnTo>
                      <a:pt x="4" y="1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5" y="2"/>
                    </a:lnTo>
                    <a:lnTo>
                      <a:pt x="29" y="3"/>
                    </a:lnTo>
                    <a:lnTo>
                      <a:pt x="33" y="3"/>
                    </a:lnTo>
                    <a:lnTo>
                      <a:pt x="37" y="3"/>
                    </a:lnTo>
                    <a:lnTo>
                      <a:pt x="41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3" y="5"/>
                    </a:lnTo>
                    <a:lnTo>
                      <a:pt x="57" y="5"/>
                    </a:lnTo>
                    <a:lnTo>
                      <a:pt x="61" y="5"/>
                    </a:lnTo>
                    <a:lnTo>
                      <a:pt x="66" y="5"/>
                    </a:lnTo>
                    <a:lnTo>
                      <a:pt x="70" y="6"/>
                    </a:lnTo>
                    <a:lnTo>
                      <a:pt x="74" y="6"/>
                    </a:lnTo>
                    <a:lnTo>
                      <a:pt x="78" y="6"/>
                    </a:lnTo>
                    <a:lnTo>
                      <a:pt x="82" y="7"/>
                    </a:lnTo>
                    <a:lnTo>
                      <a:pt x="86" y="7"/>
                    </a:lnTo>
                    <a:lnTo>
                      <a:pt x="90" y="7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8"/>
                    </a:lnTo>
                    <a:lnTo>
                      <a:pt x="107" y="9"/>
                    </a:lnTo>
                    <a:lnTo>
                      <a:pt x="111" y="9"/>
                    </a:lnTo>
                    <a:lnTo>
                      <a:pt x="115" y="9"/>
                    </a:lnTo>
                    <a:lnTo>
                      <a:pt x="119" y="9"/>
                    </a:lnTo>
                    <a:lnTo>
                      <a:pt x="123" y="10"/>
                    </a:lnTo>
                    <a:lnTo>
                      <a:pt x="127" y="10"/>
                    </a:lnTo>
                    <a:lnTo>
                      <a:pt x="131" y="10"/>
                    </a:lnTo>
                    <a:lnTo>
                      <a:pt x="135" y="11"/>
                    </a:lnTo>
                    <a:lnTo>
                      <a:pt x="139" y="11"/>
                    </a:lnTo>
                    <a:lnTo>
                      <a:pt x="143" y="11"/>
                    </a:lnTo>
                    <a:lnTo>
                      <a:pt x="148" y="12"/>
                    </a:lnTo>
                    <a:lnTo>
                      <a:pt x="152" y="12"/>
                    </a:lnTo>
                    <a:lnTo>
                      <a:pt x="156" y="12"/>
                    </a:lnTo>
                    <a:lnTo>
                      <a:pt x="160" y="12"/>
                    </a:lnTo>
                    <a:lnTo>
                      <a:pt x="164" y="13"/>
                    </a:lnTo>
                    <a:lnTo>
                      <a:pt x="168" y="13"/>
                    </a:lnTo>
                    <a:lnTo>
                      <a:pt x="172" y="13"/>
                    </a:lnTo>
                    <a:lnTo>
                      <a:pt x="176" y="14"/>
                    </a:lnTo>
                    <a:lnTo>
                      <a:pt x="180" y="14"/>
                    </a:lnTo>
                    <a:lnTo>
                      <a:pt x="184" y="14"/>
                    </a:lnTo>
                    <a:lnTo>
                      <a:pt x="189" y="14"/>
                    </a:lnTo>
                    <a:lnTo>
                      <a:pt x="193" y="15"/>
                    </a:lnTo>
                    <a:lnTo>
                      <a:pt x="197" y="15"/>
                    </a:lnTo>
                    <a:lnTo>
                      <a:pt x="201" y="15"/>
                    </a:lnTo>
                    <a:lnTo>
                      <a:pt x="205" y="16"/>
                    </a:lnTo>
                    <a:lnTo>
                      <a:pt x="209" y="16"/>
                    </a:lnTo>
                    <a:lnTo>
                      <a:pt x="213" y="16"/>
                    </a:lnTo>
                    <a:lnTo>
                      <a:pt x="217" y="16"/>
                    </a:lnTo>
                    <a:lnTo>
                      <a:pt x="221" y="17"/>
                    </a:lnTo>
                    <a:lnTo>
                      <a:pt x="225" y="17"/>
                    </a:lnTo>
                    <a:lnTo>
                      <a:pt x="230" y="17"/>
                    </a:lnTo>
                    <a:lnTo>
                      <a:pt x="234" y="18"/>
                    </a:lnTo>
                    <a:lnTo>
                      <a:pt x="238" y="18"/>
                    </a:lnTo>
                    <a:lnTo>
                      <a:pt x="242" y="18"/>
                    </a:lnTo>
                    <a:lnTo>
                      <a:pt x="246" y="19"/>
                    </a:lnTo>
                    <a:lnTo>
                      <a:pt x="250" y="19"/>
                    </a:lnTo>
                    <a:lnTo>
                      <a:pt x="254" y="19"/>
                    </a:lnTo>
                    <a:lnTo>
                      <a:pt x="258" y="19"/>
                    </a:lnTo>
                    <a:lnTo>
                      <a:pt x="262" y="20"/>
                    </a:lnTo>
                    <a:lnTo>
                      <a:pt x="266" y="20"/>
                    </a:lnTo>
                    <a:lnTo>
                      <a:pt x="271" y="20"/>
                    </a:lnTo>
                    <a:lnTo>
                      <a:pt x="275" y="20"/>
                    </a:lnTo>
                    <a:lnTo>
                      <a:pt x="279" y="21"/>
                    </a:lnTo>
                    <a:lnTo>
                      <a:pt x="283" y="21"/>
                    </a:lnTo>
                    <a:lnTo>
                      <a:pt x="287" y="21"/>
                    </a:lnTo>
                    <a:lnTo>
                      <a:pt x="291" y="22"/>
                    </a:lnTo>
                    <a:lnTo>
                      <a:pt x="295" y="22"/>
                    </a:lnTo>
                    <a:lnTo>
                      <a:pt x="299" y="22"/>
                    </a:lnTo>
                    <a:lnTo>
                      <a:pt x="303" y="22"/>
                    </a:lnTo>
                    <a:lnTo>
                      <a:pt x="307" y="23"/>
                    </a:lnTo>
                    <a:lnTo>
                      <a:pt x="312" y="23"/>
                    </a:lnTo>
                    <a:lnTo>
                      <a:pt x="316" y="23"/>
                    </a:lnTo>
                    <a:lnTo>
                      <a:pt x="320" y="24"/>
                    </a:lnTo>
                    <a:lnTo>
                      <a:pt x="324" y="24"/>
                    </a:lnTo>
                    <a:lnTo>
                      <a:pt x="328" y="24"/>
                    </a:lnTo>
                    <a:lnTo>
                      <a:pt x="332" y="24"/>
                    </a:lnTo>
                    <a:lnTo>
                      <a:pt x="336" y="25"/>
                    </a:lnTo>
                    <a:lnTo>
                      <a:pt x="340" y="25"/>
                    </a:lnTo>
                    <a:lnTo>
                      <a:pt x="344" y="25"/>
                    </a:lnTo>
                    <a:lnTo>
                      <a:pt x="348" y="25"/>
                    </a:lnTo>
                    <a:lnTo>
                      <a:pt x="353" y="26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498760" y="4142520"/>
                <a:ext cx="245520" cy="19440"/>
              </a:xfrm>
              <a:custGeom>
                <a:avLst/>
                <a:gdLst/>
                <a:ahLst/>
                <a:rect l="l" t="t" r="r" b="b"/>
                <a:pathLst>
                  <a:path w="352" h="22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5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7" y="3"/>
                    </a:lnTo>
                    <a:lnTo>
                      <a:pt x="61" y="4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3" y="5"/>
                    </a:lnTo>
                    <a:lnTo>
                      <a:pt x="77" y="5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6"/>
                    </a:lnTo>
                    <a:lnTo>
                      <a:pt x="94" y="6"/>
                    </a:lnTo>
                    <a:lnTo>
                      <a:pt x="98" y="6"/>
                    </a:lnTo>
                    <a:lnTo>
                      <a:pt x="102" y="6"/>
                    </a:lnTo>
                    <a:lnTo>
                      <a:pt x="106" y="7"/>
                    </a:lnTo>
                    <a:lnTo>
                      <a:pt x="110" y="7"/>
                    </a:lnTo>
                    <a:lnTo>
                      <a:pt x="114" y="7"/>
                    </a:lnTo>
                    <a:lnTo>
                      <a:pt x="118" y="7"/>
                    </a:lnTo>
                    <a:lnTo>
                      <a:pt x="123" y="8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9"/>
                    </a:lnTo>
                    <a:lnTo>
                      <a:pt x="143" y="9"/>
                    </a:lnTo>
                    <a:lnTo>
                      <a:pt x="147" y="9"/>
                    </a:lnTo>
                    <a:lnTo>
                      <a:pt x="151" y="9"/>
                    </a:lnTo>
                    <a:lnTo>
                      <a:pt x="155" y="10"/>
                    </a:lnTo>
                    <a:lnTo>
                      <a:pt x="159" y="10"/>
                    </a:lnTo>
                    <a:lnTo>
                      <a:pt x="164" y="10"/>
                    </a:lnTo>
                    <a:lnTo>
                      <a:pt x="168" y="10"/>
                    </a:lnTo>
                    <a:lnTo>
                      <a:pt x="172" y="11"/>
                    </a:lnTo>
                    <a:lnTo>
                      <a:pt x="176" y="11"/>
                    </a:lnTo>
                    <a:lnTo>
                      <a:pt x="180" y="11"/>
                    </a:lnTo>
                    <a:lnTo>
                      <a:pt x="184" y="12"/>
                    </a:lnTo>
                    <a:lnTo>
                      <a:pt x="188" y="12"/>
                    </a:lnTo>
                    <a:lnTo>
                      <a:pt x="192" y="12"/>
                    </a:lnTo>
                    <a:lnTo>
                      <a:pt x="196" y="12"/>
                    </a:lnTo>
                    <a:lnTo>
                      <a:pt x="200" y="13"/>
                    </a:lnTo>
                    <a:lnTo>
                      <a:pt x="205" y="13"/>
                    </a:lnTo>
                    <a:lnTo>
                      <a:pt x="209" y="13"/>
                    </a:lnTo>
                    <a:lnTo>
                      <a:pt x="213" y="13"/>
                    </a:lnTo>
                    <a:lnTo>
                      <a:pt x="217" y="14"/>
                    </a:lnTo>
                    <a:lnTo>
                      <a:pt x="221" y="14"/>
                    </a:lnTo>
                    <a:lnTo>
                      <a:pt x="225" y="14"/>
                    </a:lnTo>
                    <a:lnTo>
                      <a:pt x="229" y="14"/>
                    </a:lnTo>
                    <a:lnTo>
                      <a:pt x="233" y="15"/>
                    </a:lnTo>
                    <a:lnTo>
                      <a:pt x="237" y="15"/>
                    </a:lnTo>
                    <a:lnTo>
                      <a:pt x="241" y="15"/>
                    </a:lnTo>
                    <a:lnTo>
                      <a:pt x="246" y="15"/>
                    </a:lnTo>
                    <a:lnTo>
                      <a:pt x="250" y="15"/>
                    </a:lnTo>
                    <a:lnTo>
                      <a:pt x="254" y="16"/>
                    </a:lnTo>
                    <a:lnTo>
                      <a:pt x="258" y="16"/>
                    </a:lnTo>
                    <a:lnTo>
                      <a:pt x="262" y="16"/>
                    </a:lnTo>
                    <a:lnTo>
                      <a:pt x="266" y="16"/>
                    </a:lnTo>
                    <a:lnTo>
                      <a:pt x="270" y="17"/>
                    </a:lnTo>
                    <a:lnTo>
                      <a:pt x="274" y="17"/>
                    </a:lnTo>
                    <a:lnTo>
                      <a:pt x="278" y="17"/>
                    </a:lnTo>
                    <a:lnTo>
                      <a:pt x="282" y="17"/>
                    </a:lnTo>
                    <a:lnTo>
                      <a:pt x="287" y="18"/>
                    </a:lnTo>
                    <a:lnTo>
                      <a:pt x="291" y="18"/>
                    </a:lnTo>
                    <a:lnTo>
                      <a:pt x="295" y="18"/>
                    </a:lnTo>
                    <a:lnTo>
                      <a:pt x="299" y="18"/>
                    </a:lnTo>
                    <a:lnTo>
                      <a:pt x="303" y="19"/>
                    </a:lnTo>
                    <a:lnTo>
                      <a:pt x="307" y="19"/>
                    </a:lnTo>
                    <a:lnTo>
                      <a:pt x="311" y="19"/>
                    </a:lnTo>
                    <a:lnTo>
                      <a:pt x="315" y="19"/>
                    </a:lnTo>
                    <a:lnTo>
                      <a:pt x="319" y="20"/>
                    </a:lnTo>
                    <a:lnTo>
                      <a:pt x="323" y="20"/>
                    </a:lnTo>
                    <a:lnTo>
                      <a:pt x="328" y="20"/>
                    </a:lnTo>
                    <a:lnTo>
                      <a:pt x="332" y="20"/>
                    </a:lnTo>
                    <a:lnTo>
                      <a:pt x="336" y="21"/>
                    </a:lnTo>
                    <a:lnTo>
                      <a:pt x="340" y="21"/>
                    </a:lnTo>
                    <a:lnTo>
                      <a:pt x="344" y="21"/>
                    </a:lnTo>
                    <a:lnTo>
                      <a:pt x="348" y="21"/>
                    </a:lnTo>
                    <a:lnTo>
                      <a:pt x="352" y="22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44640" y="4161960"/>
                <a:ext cx="242640" cy="15120"/>
              </a:xfrm>
              <a:custGeom>
                <a:avLst/>
                <a:gdLst/>
                <a:ahLst/>
                <a:rect l="l" t="t" r="r" b="b"/>
                <a:pathLst>
                  <a:path w="349" h="18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3" y="3"/>
                    </a:lnTo>
                    <a:lnTo>
                      <a:pt x="58" y="3"/>
                    </a:lnTo>
                    <a:lnTo>
                      <a:pt x="62" y="3"/>
                    </a:lnTo>
                    <a:lnTo>
                      <a:pt x="66" y="3"/>
                    </a:lnTo>
                    <a:lnTo>
                      <a:pt x="70" y="3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4"/>
                    </a:lnTo>
                    <a:lnTo>
                      <a:pt x="86" y="4"/>
                    </a:lnTo>
                    <a:lnTo>
                      <a:pt x="90" y="5"/>
                    </a:lnTo>
                    <a:lnTo>
                      <a:pt x="95" y="5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7" y="6"/>
                    </a:lnTo>
                    <a:lnTo>
                      <a:pt x="111" y="6"/>
                    </a:lnTo>
                    <a:lnTo>
                      <a:pt x="115" y="6"/>
                    </a:lnTo>
                    <a:lnTo>
                      <a:pt x="119" y="6"/>
                    </a:lnTo>
                    <a:lnTo>
                      <a:pt x="123" y="6"/>
                    </a:lnTo>
                    <a:lnTo>
                      <a:pt x="127" y="7"/>
                    </a:lnTo>
                    <a:lnTo>
                      <a:pt x="131" y="7"/>
                    </a:lnTo>
                    <a:lnTo>
                      <a:pt x="136" y="7"/>
                    </a:lnTo>
                    <a:lnTo>
                      <a:pt x="140" y="7"/>
                    </a:lnTo>
                    <a:lnTo>
                      <a:pt x="144" y="8"/>
                    </a:lnTo>
                    <a:lnTo>
                      <a:pt x="148" y="8"/>
                    </a:lnTo>
                    <a:lnTo>
                      <a:pt x="152" y="8"/>
                    </a:lnTo>
                    <a:lnTo>
                      <a:pt x="156" y="8"/>
                    </a:lnTo>
                    <a:lnTo>
                      <a:pt x="160" y="8"/>
                    </a:lnTo>
                    <a:lnTo>
                      <a:pt x="164" y="9"/>
                    </a:lnTo>
                    <a:lnTo>
                      <a:pt x="168" y="9"/>
                    </a:lnTo>
                    <a:lnTo>
                      <a:pt x="172" y="9"/>
                    </a:lnTo>
                    <a:lnTo>
                      <a:pt x="177" y="9"/>
                    </a:lnTo>
                    <a:lnTo>
                      <a:pt x="181" y="10"/>
                    </a:lnTo>
                    <a:lnTo>
                      <a:pt x="185" y="10"/>
                    </a:lnTo>
                    <a:lnTo>
                      <a:pt x="189" y="10"/>
                    </a:lnTo>
                    <a:lnTo>
                      <a:pt x="193" y="10"/>
                    </a:lnTo>
                    <a:lnTo>
                      <a:pt x="197" y="10"/>
                    </a:lnTo>
                    <a:lnTo>
                      <a:pt x="201" y="11"/>
                    </a:lnTo>
                    <a:lnTo>
                      <a:pt x="205" y="11"/>
                    </a:lnTo>
                    <a:lnTo>
                      <a:pt x="209" y="11"/>
                    </a:lnTo>
                    <a:lnTo>
                      <a:pt x="213" y="11"/>
                    </a:lnTo>
                    <a:lnTo>
                      <a:pt x="218" y="12"/>
                    </a:lnTo>
                    <a:lnTo>
                      <a:pt x="222" y="12"/>
                    </a:lnTo>
                    <a:lnTo>
                      <a:pt x="226" y="12"/>
                    </a:lnTo>
                    <a:lnTo>
                      <a:pt x="230" y="12"/>
                    </a:lnTo>
                    <a:lnTo>
                      <a:pt x="234" y="12"/>
                    </a:lnTo>
                    <a:lnTo>
                      <a:pt x="238" y="13"/>
                    </a:lnTo>
                    <a:lnTo>
                      <a:pt x="242" y="13"/>
                    </a:lnTo>
                    <a:lnTo>
                      <a:pt x="246" y="13"/>
                    </a:lnTo>
                    <a:lnTo>
                      <a:pt x="250" y="13"/>
                    </a:lnTo>
                    <a:lnTo>
                      <a:pt x="254" y="13"/>
                    </a:lnTo>
                    <a:lnTo>
                      <a:pt x="259" y="14"/>
                    </a:lnTo>
                    <a:lnTo>
                      <a:pt x="263" y="14"/>
                    </a:lnTo>
                    <a:lnTo>
                      <a:pt x="267" y="14"/>
                    </a:lnTo>
                    <a:lnTo>
                      <a:pt x="271" y="14"/>
                    </a:lnTo>
                    <a:lnTo>
                      <a:pt x="275" y="15"/>
                    </a:lnTo>
                    <a:lnTo>
                      <a:pt x="279" y="15"/>
                    </a:lnTo>
                    <a:lnTo>
                      <a:pt x="283" y="15"/>
                    </a:lnTo>
                    <a:lnTo>
                      <a:pt x="287" y="15"/>
                    </a:lnTo>
                    <a:lnTo>
                      <a:pt x="291" y="15"/>
                    </a:lnTo>
                    <a:lnTo>
                      <a:pt x="295" y="16"/>
                    </a:lnTo>
                    <a:lnTo>
                      <a:pt x="300" y="16"/>
                    </a:lnTo>
                    <a:lnTo>
                      <a:pt x="304" y="16"/>
                    </a:lnTo>
                    <a:lnTo>
                      <a:pt x="308" y="16"/>
                    </a:lnTo>
                    <a:lnTo>
                      <a:pt x="312" y="16"/>
                    </a:lnTo>
                    <a:lnTo>
                      <a:pt x="316" y="17"/>
                    </a:lnTo>
                    <a:lnTo>
                      <a:pt x="320" y="17"/>
                    </a:lnTo>
                    <a:lnTo>
                      <a:pt x="324" y="17"/>
                    </a:lnTo>
                    <a:lnTo>
                      <a:pt x="328" y="17"/>
                    </a:lnTo>
                    <a:lnTo>
                      <a:pt x="332" y="18"/>
                    </a:lnTo>
                    <a:lnTo>
                      <a:pt x="336" y="18"/>
                    </a:lnTo>
                    <a:lnTo>
                      <a:pt x="341" y="18"/>
                    </a:lnTo>
                    <a:lnTo>
                      <a:pt x="345" y="18"/>
                    </a:lnTo>
                    <a:lnTo>
                      <a:pt x="349" y="18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87280" y="4177440"/>
                <a:ext cx="244080" cy="1548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0"/>
                    </a:moveTo>
                    <a:lnTo>
                      <a:pt x="4" y="1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3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3"/>
                    </a:lnTo>
                    <a:lnTo>
                      <a:pt x="49" y="3"/>
                    </a:lnTo>
                    <a:lnTo>
                      <a:pt x="53" y="3"/>
                    </a:lnTo>
                    <a:lnTo>
                      <a:pt x="57" y="3"/>
                    </a:lnTo>
                    <a:lnTo>
                      <a:pt x="61" y="3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4"/>
                    </a:lnTo>
                    <a:lnTo>
                      <a:pt x="86" y="5"/>
                    </a:lnTo>
                    <a:lnTo>
                      <a:pt x="90" y="5"/>
                    </a:lnTo>
                    <a:lnTo>
                      <a:pt x="94" y="5"/>
                    </a:lnTo>
                    <a:lnTo>
                      <a:pt x="98" y="5"/>
                    </a:lnTo>
                    <a:lnTo>
                      <a:pt x="102" y="6"/>
                    </a:lnTo>
                    <a:lnTo>
                      <a:pt x="106" y="6"/>
                    </a:lnTo>
                    <a:lnTo>
                      <a:pt x="110" y="6"/>
                    </a:lnTo>
                    <a:lnTo>
                      <a:pt x="115" y="6"/>
                    </a:lnTo>
                    <a:lnTo>
                      <a:pt x="119" y="6"/>
                    </a:lnTo>
                    <a:lnTo>
                      <a:pt x="123" y="7"/>
                    </a:lnTo>
                    <a:lnTo>
                      <a:pt x="127" y="7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39" y="7"/>
                    </a:lnTo>
                    <a:lnTo>
                      <a:pt x="143" y="8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0" y="8"/>
                    </a:lnTo>
                    <a:lnTo>
                      <a:pt x="164" y="9"/>
                    </a:lnTo>
                    <a:lnTo>
                      <a:pt x="168" y="9"/>
                    </a:lnTo>
                    <a:lnTo>
                      <a:pt x="172" y="9"/>
                    </a:lnTo>
                    <a:lnTo>
                      <a:pt x="176" y="9"/>
                    </a:lnTo>
                    <a:lnTo>
                      <a:pt x="180" y="9"/>
                    </a:lnTo>
                    <a:lnTo>
                      <a:pt x="184" y="9"/>
                    </a:lnTo>
                    <a:lnTo>
                      <a:pt x="188" y="10"/>
                    </a:lnTo>
                    <a:lnTo>
                      <a:pt x="192" y="10"/>
                    </a:lnTo>
                    <a:lnTo>
                      <a:pt x="197" y="10"/>
                    </a:lnTo>
                    <a:lnTo>
                      <a:pt x="201" y="10"/>
                    </a:lnTo>
                    <a:lnTo>
                      <a:pt x="205" y="10"/>
                    </a:lnTo>
                    <a:lnTo>
                      <a:pt x="209" y="11"/>
                    </a:lnTo>
                    <a:lnTo>
                      <a:pt x="213" y="11"/>
                    </a:lnTo>
                    <a:lnTo>
                      <a:pt x="217" y="11"/>
                    </a:lnTo>
                    <a:lnTo>
                      <a:pt x="221" y="11"/>
                    </a:lnTo>
                    <a:lnTo>
                      <a:pt x="225" y="11"/>
                    </a:lnTo>
                    <a:lnTo>
                      <a:pt x="229" y="12"/>
                    </a:lnTo>
                    <a:lnTo>
                      <a:pt x="233" y="12"/>
                    </a:lnTo>
                    <a:lnTo>
                      <a:pt x="238" y="12"/>
                    </a:lnTo>
                    <a:lnTo>
                      <a:pt x="242" y="12"/>
                    </a:lnTo>
                    <a:lnTo>
                      <a:pt x="246" y="12"/>
                    </a:lnTo>
                    <a:lnTo>
                      <a:pt x="250" y="13"/>
                    </a:lnTo>
                    <a:lnTo>
                      <a:pt x="254" y="13"/>
                    </a:lnTo>
                    <a:lnTo>
                      <a:pt x="258" y="13"/>
                    </a:lnTo>
                    <a:lnTo>
                      <a:pt x="262" y="13"/>
                    </a:lnTo>
                    <a:lnTo>
                      <a:pt x="266" y="13"/>
                    </a:lnTo>
                    <a:lnTo>
                      <a:pt x="270" y="14"/>
                    </a:lnTo>
                    <a:lnTo>
                      <a:pt x="274" y="14"/>
                    </a:lnTo>
                    <a:lnTo>
                      <a:pt x="279" y="14"/>
                    </a:lnTo>
                    <a:lnTo>
                      <a:pt x="283" y="14"/>
                    </a:lnTo>
                    <a:lnTo>
                      <a:pt x="287" y="14"/>
                    </a:lnTo>
                    <a:lnTo>
                      <a:pt x="291" y="15"/>
                    </a:lnTo>
                    <a:lnTo>
                      <a:pt x="295" y="15"/>
                    </a:lnTo>
                    <a:lnTo>
                      <a:pt x="299" y="15"/>
                    </a:lnTo>
                    <a:lnTo>
                      <a:pt x="303" y="15"/>
                    </a:lnTo>
                    <a:lnTo>
                      <a:pt x="307" y="15"/>
                    </a:lnTo>
                    <a:lnTo>
                      <a:pt x="311" y="15"/>
                    </a:lnTo>
                    <a:lnTo>
                      <a:pt x="315" y="16"/>
                    </a:lnTo>
                    <a:lnTo>
                      <a:pt x="320" y="16"/>
                    </a:lnTo>
                    <a:lnTo>
                      <a:pt x="324" y="16"/>
                    </a:lnTo>
                    <a:lnTo>
                      <a:pt x="328" y="16"/>
                    </a:lnTo>
                    <a:lnTo>
                      <a:pt x="332" y="16"/>
                    </a:lnTo>
                    <a:lnTo>
                      <a:pt x="336" y="17"/>
                    </a:lnTo>
                    <a:lnTo>
                      <a:pt x="340" y="17"/>
                    </a:lnTo>
                    <a:lnTo>
                      <a:pt x="344" y="17"/>
                    </a:lnTo>
                    <a:lnTo>
                      <a:pt x="348" y="17"/>
                    </a:lnTo>
                    <a:lnTo>
                      <a:pt x="352" y="17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31720" y="4192920"/>
                <a:ext cx="245160" cy="15120"/>
              </a:xfrm>
              <a:custGeom>
                <a:avLst/>
                <a:gdLst/>
                <a:ahLst/>
                <a:rect l="l" t="t" r="r" b="b"/>
                <a:pathLst>
                  <a:path w="353" h="16">
                    <a:moveTo>
                      <a:pt x="0" y="0"/>
                    </a:moveTo>
                    <a:lnTo>
                      <a:pt x="4" y="1"/>
                    </a:lnTo>
                    <a:lnTo>
                      <a:pt x="9" y="1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3"/>
                    </a:lnTo>
                    <a:lnTo>
                      <a:pt x="62" y="3"/>
                    </a:lnTo>
                    <a:lnTo>
                      <a:pt x="66" y="3"/>
                    </a:lnTo>
                    <a:lnTo>
                      <a:pt x="70" y="3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4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5" y="5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7" y="5"/>
                    </a:lnTo>
                    <a:lnTo>
                      <a:pt x="111" y="5"/>
                    </a:lnTo>
                    <a:lnTo>
                      <a:pt x="115" y="5"/>
                    </a:lnTo>
                    <a:lnTo>
                      <a:pt x="119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2" y="6"/>
                    </a:lnTo>
                    <a:lnTo>
                      <a:pt x="136" y="6"/>
                    </a:lnTo>
                    <a:lnTo>
                      <a:pt x="140" y="7"/>
                    </a:lnTo>
                    <a:lnTo>
                      <a:pt x="144" y="7"/>
                    </a:lnTo>
                    <a:lnTo>
                      <a:pt x="148" y="7"/>
                    </a:lnTo>
                    <a:lnTo>
                      <a:pt x="152" y="7"/>
                    </a:lnTo>
                    <a:lnTo>
                      <a:pt x="156" y="7"/>
                    </a:lnTo>
                    <a:lnTo>
                      <a:pt x="160" y="7"/>
                    </a:lnTo>
                    <a:lnTo>
                      <a:pt x="164" y="8"/>
                    </a:lnTo>
                    <a:lnTo>
                      <a:pt x="168" y="8"/>
                    </a:lnTo>
                    <a:lnTo>
                      <a:pt x="173" y="8"/>
                    </a:lnTo>
                    <a:lnTo>
                      <a:pt x="177" y="8"/>
                    </a:lnTo>
                    <a:lnTo>
                      <a:pt x="181" y="8"/>
                    </a:lnTo>
                    <a:lnTo>
                      <a:pt x="185" y="9"/>
                    </a:lnTo>
                    <a:lnTo>
                      <a:pt x="189" y="9"/>
                    </a:lnTo>
                    <a:lnTo>
                      <a:pt x="193" y="9"/>
                    </a:lnTo>
                    <a:lnTo>
                      <a:pt x="197" y="9"/>
                    </a:lnTo>
                    <a:lnTo>
                      <a:pt x="201" y="9"/>
                    </a:lnTo>
                    <a:lnTo>
                      <a:pt x="205" y="9"/>
                    </a:lnTo>
                    <a:lnTo>
                      <a:pt x="209" y="10"/>
                    </a:lnTo>
                    <a:lnTo>
                      <a:pt x="214" y="10"/>
                    </a:lnTo>
                    <a:lnTo>
                      <a:pt x="218" y="10"/>
                    </a:lnTo>
                    <a:lnTo>
                      <a:pt x="222" y="10"/>
                    </a:lnTo>
                    <a:lnTo>
                      <a:pt x="226" y="10"/>
                    </a:lnTo>
                    <a:lnTo>
                      <a:pt x="230" y="10"/>
                    </a:lnTo>
                    <a:lnTo>
                      <a:pt x="234" y="11"/>
                    </a:lnTo>
                    <a:lnTo>
                      <a:pt x="238" y="11"/>
                    </a:lnTo>
                    <a:lnTo>
                      <a:pt x="242" y="11"/>
                    </a:lnTo>
                    <a:lnTo>
                      <a:pt x="246" y="11"/>
                    </a:lnTo>
                    <a:lnTo>
                      <a:pt x="250" y="11"/>
                    </a:lnTo>
                    <a:lnTo>
                      <a:pt x="255" y="11"/>
                    </a:lnTo>
                    <a:lnTo>
                      <a:pt x="259" y="12"/>
                    </a:lnTo>
                    <a:lnTo>
                      <a:pt x="263" y="12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5" y="12"/>
                    </a:lnTo>
                    <a:lnTo>
                      <a:pt x="279" y="13"/>
                    </a:lnTo>
                    <a:lnTo>
                      <a:pt x="283" y="13"/>
                    </a:lnTo>
                    <a:lnTo>
                      <a:pt x="287" y="13"/>
                    </a:lnTo>
                    <a:lnTo>
                      <a:pt x="291" y="13"/>
                    </a:lnTo>
                    <a:lnTo>
                      <a:pt x="296" y="13"/>
                    </a:lnTo>
                    <a:lnTo>
                      <a:pt x="300" y="13"/>
                    </a:lnTo>
                    <a:lnTo>
                      <a:pt x="304" y="14"/>
                    </a:lnTo>
                    <a:lnTo>
                      <a:pt x="308" y="14"/>
                    </a:lnTo>
                    <a:lnTo>
                      <a:pt x="312" y="14"/>
                    </a:lnTo>
                    <a:lnTo>
                      <a:pt x="316" y="14"/>
                    </a:lnTo>
                    <a:lnTo>
                      <a:pt x="320" y="14"/>
                    </a:lnTo>
                    <a:lnTo>
                      <a:pt x="324" y="14"/>
                    </a:lnTo>
                    <a:lnTo>
                      <a:pt x="328" y="15"/>
                    </a:lnTo>
                    <a:lnTo>
                      <a:pt x="332" y="15"/>
                    </a:lnTo>
                    <a:lnTo>
                      <a:pt x="337" y="15"/>
                    </a:lnTo>
                    <a:lnTo>
                      <a:pt x="341" y="15"/>
                    </a:lnTo>
                    <a:lnTo>
                      <a:pt x="345" y="15"/>
                    </a:lnTo>
                    <a:lnTo>
                      <a:pt x="349" y="15"/>
                    </a:lnTo>
                    <a:lnTo>
                      <a:pt x="353" y="16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476880" y="4208040"/>
                <a:ext cx="243000" cy="10080"/>
              </a:xfrm>
              <a:custGeom>
                <a:avLst/>
                <a:gdLst/>
                <a:ahLst/>
                <a:rect l="l" t="t" r="r" b="b"/>
                <a:pathLst>
                  <a:path w="349" h="1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1"/>
                    </a:lnTo>
                    <a:lnTo>
                      <a:pt x="49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2" y="2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4" y="3"/>
                    </a:lnTo>
                    <a:lnTo>
                      <a:pt x="78" y="3"/>
                    </a:lnTo>
                    <a:lnTo>
                      <a:pt x="82" y="3"/>
                    </a:lnTo>
                    <a:lnTo>
                      <a:pt x="86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8" y="4"/>
                    </a:lnTo>
                    <a:lnTo>
                      <a:pt x="103" y="4"/>
                    </a:lnTo>
                    <a:lnTo>
                      <a:pt x="107" y="4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19" y="4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1" y="5"/>
                    </a:lnTo>
                    <a:lnTo>
                      <a:pt x="135" y="5"/>
                    </a:lnTo>
                    <a:lnTo>
                      <a:pt x="139" y="5"/>
                    </a:lnTo>
                    <a:lnTo>
                      <a:pt x="144" y="5"/>
                    </a:lnTo>
                    <a:lnTo>
                      <a:pt x="148" y="6"/>
                    </a:lnTo>
                    <a:lnTo>
                      <a:pt x="152" y="6"/>
                    </a:lnTo>
                    <a:lnTo>
                      <a:pt x="156" y="6"/>
                    </a:lnTo>
                    <a:lnTo>
                      <a:pt x="160" y="6"/>
                    </a:lnTo>
                    <a:lnTo>
                      <a:pt x="164" y="6"/>
                    </a:lnTo>
                    <a:lnTo>
                      <a:pt x="168" y="6"/>
                    </a:lnTo>
                    <a:lnTo>
                      <a:pt x="172" y="7"/>
                    </a:lnTo>
                    <a:lnTo>
                      <a:pt x="176" y="7"/>
                    </a:lnTo>
                    <a:lnTo>
                      <a:pt x="180" y="7"/>
                    </a:lnTo>
                    <a:lnTo>
                      <a:pt x="185" y="7"/>
                    </a:lnTo>
                    <a:lnTo>
                      <a:pt x="189" y="7"/>
                    </a:lnTo>
                    <a:lnTo>
                      <a:pt x="193" y="7"/>
                    </a:lnTo>
                    <a:lnTo>
                      <a:pt x="197" y="7"/>
                    </a:lnTo>
                    <a:lnTo>
                      <a:pt x="201" y="8"/>
                    </a:lnTo>
                    <a:lnTo>
                      <a:pt x="205" y="8"/>
                    </a:lnTo>
                    <a:lnTo>
                      <a:pt x="209" y="8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8"/>
                    </a:lnTo>
                    <a:lnTo>
                      <a:pt x="226" y="9"/>
                    </a:lnTo>
                    <a:lnTo>
                      <a:pt x="230" y="9"/>
                    </a:lnTo>
                    <a:lnTo>
                      <a:pt x="234" y="9"/>
                    </a:lnTo>
                    <a:lnTo>
                      <a:pt x="238" y="9"/>
                    </a:lnTo>
                    <a:lnTo>
                      <a:pt x="242" y="9"/>
                    </a:lnTo>
                    <a:lnTo>
                      <a:pt x="246" y="9"/>
                    </a:lnTo>
                    <a:lnTo>
                      <a:pt x="250" y="10"/>
                    </a:lnTo>
                    <a:lnTo>
                      <a:pt x="254" y="10"/>
                    </a:lnTo>
                    <a:lnTo>
                      <a:pt x="258" y="10"/>
                    </a:lnTo>
                    <a:lnTo>
                      <a:pt x="262" y="10"/>
                    </a:lnTo>
                    <a:lnTo>
                      <a:pt x="267" y="10"/>
                    </a:lnTo>
                    <a:lnTo>
                      <a:pt x="271" y="10"/>
                    </a:lnTo>
                    <a:lnTo>
                      <a:pt x="275" y="10"/>
                    </a:lnTo>
                    <a:lnTo>
                      <a:pt x="279" y="11"/>
                    </a:lnTo>
                    <a:lnTo>
                      <a:pt x="283" y="11"/>
                    </a:lnTo>
                    <a:lnTo>
                      <a:pt x="287" y="11"/>
                    </a:lnTo>
                    <a:lnTo>
                      <a:pt x="291" y="11"/>
                    </a:lnTo>
                    <a:lnTo>
                      <a:pt x="295" y="11"/>
                    </a:lnTo>
                    <a:lnTo>
                      <a:pt x="299" y="11"/>
                    </a:lnTo>
                    <a:lnTo>
                      <a:pt x="303" y="12"/>
                    </a:lnTo>
                    <a:lnTo>
                      <a:pt x="308" y="12"/>
                    </a:lnTo>
                    <a:lnTo>
                      <a:pt x="312" y="12"/>
                    </a:lnTo>
                    <a:lnTo>
                      <a:pt x="316" y="12"/>
                    </a:lnTo>
                    <a:lnTo>
                      <a:pt x="320" y="12"/>
                    </a:lnTo>
                    <a:lnTo>
                      <a:pt x="324" y="12"/>
                    </a:lnTo>
                    <a:lnTo>
                      <a:pt x="328" y="13"/>
                    </a:lnTo>
                    <a:lnTo>
                      <a:pt x="332" y="13"/>
                    </a:lnTo>
                    <a:lnTo>
                      <a:pt x="336" y="13"/>
                    </a:lnTo>
                    <a:lnTo>
                      <a:pt x="340" y="13"/>
                    </a:lnTo>
                    <a:lnTo>
                      <a:pt x="344" y="13"/>
                    </a:lnTo>
                    <a:lnTo>
                      <a:pt x="349" y="13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720240" y="4218480"/>
                <a:ext cx="243720" cy="12240"/>
              </a:xfrm>
              <a:custGeom>
                <a:avLst/>
                <a:gdLst/>
                <a:ahLst/>
                <a:rect l="l" t="t" r="r" b="b"/>
                <a:pathLst>
                  <a:path w="352" h="13">
                    <a:moveTo>
                      <a:pt x="0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1" y="3"/>
                    </a:lnTo>
                    <a:lnTo>
                      <a:pt x="65" y="3"/>
                    </a:lnTo>
                    <a:lnTo>
                      <a:pt x="69" y="3"/>
                    </a:lnTo>
                    <a:lnTo>
                      <a:pt x="73" y="3"/>
                    </a:lnTo>
                    <a:lnTo>
                      <a:pt x="77" y="3"/>
                    </a:lnTo>
                    <a:lnTo>
                      <a:pt x="82" y="3"/>
                    </a:lnTo>
                    <a:lnTo>
                      <a:pt x="86" y="3"/>
                    </a:lnTo>
                    <a:lnTo>
                      <a:pt x="90" y="4"/>
                    </a:lnTo>
                    <a:lnTo>
                      <a:pt x="94" y="4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4"/>
                    </a:lnTo>
                    <a:lnTo>
                      <a:pt x="110" y="4"/>
                    </a:lnTo>
                    <a:lnTo>
                      <a:pt x="114" y="5"/>
                    </a:lnTo>
                    <a:lnTo>
                      <a:pt x="118" y="5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1" y="5"/>
                    </a:lnTo>
                    <a:lnTo>
                      <a:pt x="135" y="5"/>
                    </a:lnTo>
                    <a:lnTo>
                      <a:pt x="139" y="5"/>
                    </a:lnTo>
                    <a:lnTo>
                      <a:pt x="143" y="6"/>
                    </a:lnTo>
                    <a:lnTo>
                      <a:pt x="147" y="6"/>
                    </a:lnTo>
                    <a:lnTo>
                      <a:pt x="151" y="6"/>
                    </a:lnTo>
                    <a:lnTo>
                      <a:pt x="155" y="6"/>
                    </a:lnTo>
                    <a:lnTo>
                      <a:pt x="159" y="6"/>
                    </a:lnTo>
                    <a:lnTo>
                      <a:pt x="164" y="6"/>
                    </a:lnTo>
                    <a:lnTo>
                      <a:pt x="168" y="6"/>
                    </a:lnTo>
                    <a:lnTo>
                      <a:pt x="172" y="7"/>
                    </a:lnTo>
                    <a:lnTo>
                      <a:pt x="176" y="7"/>
                    </a:lnTo>
                    <a:lnTo>
                      <a:pt x="180" y="7"/>
                    </a:lnTo>
                    <a:lnTo>
                      <a:pt x="184" y="7"/>
                    </a:lnTo>
                    <a:lnTo>
                      <a:pt x="188" y="7"/>
                    </a:lnTo>
                    <a:lnTo>
                      <a:pt x="192" y="7"/>
                    </a:lnTo>
                    <a:lnTo>
                      <a:pt x="196" y="7"/>
                    </a:lnTo>
                    <a:lnTo>
                      <a:pt x="200" y="8"/>
                    </a:lnTo>
                    <a:lnTo>
                      <a:pt x="205" y="8"/>
                    </a:lnTo>
                    <a:lnTo>
                      <a:pt x="209" y="8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8"/>
                    </a:lnTo>
                    <a:lnTo>
                      <a:pt x="225" y="9"/>
                    </a:lnTo>
                    <a:lnTo>
                      <a:pt x="229" y="9"/>
                    </a:lnTo>
                    <a:lnTo>
                      <a:pt x="233" y="9"/>
                    </a:lnTo>
                    <a:lnTo>
                      <a:pt x="237" y="9"/>
                    </a:lnTo>
                    <a:lnTo>
                      <a:pt x="241" y="9"/>
                    </a:lnTo>
                    <a:lnTo>
                      <a:pt x="246" y="9"/>
                    </a:lnTo>
                    <a:lnTo>
                      <a:pt x="250" y="9"/>
                    </a:lnTo>
                    <a:lnTo>
                      <a:pt x="254" y="10"/>
                    </a:lnTo>
                    <a:lnTo>
                      <a:pt x="258" y="10"/>
                    </a:lnTo>
                    <a:lnTo>
                      <a:pt x="262" y="10"/>
                    </a:lnTo>
                    <a:lnTo>
                      <a:pt x="266" y="10"/>
                    </a:lnTo>
                    <a:lnTo>
                      <a:pt x="270" y="10"/>
                    </a:lnTo>
                    <a:lnTo>
                      <a:pt x="274" y="10"/>
                    </a:lnTo>
                    <a:lnTo>
                      <a:pt x="278" y="10"/>
                    </a:lnTo>
                    <a:lnTo>
                      <a:pt x="282" y="11"/>
                    </a:lnTo>
                    <a:lnTo>
                      <a:pt x="287" y="11"/>
                    </a:lnTo>
                    <a:lnTo>
                      <a:pt x="291" y="11"/>
                    </a:lnTo>
                    <a:lnTo>
                      <a:pt x="295" y="11"/>
                    </a:lnTo>
                    <a:lnTo>
                      <a:pt x="299" y="11"/>
                    </a:lnTo>
                    <a:lnTo>
                      <a:pt x="303" y="11"/>
                    </a:lnTo>
                    <a:lnTo>
                      <a:pt x="307" y="11"/>
                    </a:lnTo>
                    <a:lnTo>
                      <a:pt x="311" y="12"/>
                    </a:lnTo>
                    <a:lnTo>
                      <a:pt x="315" y="12"/>
                    </a:lnTo>
                    <a:lnTo>
                      <a:pt x="319" y="12"/>
                    </a:lnTo>
                    <a:lnTo>
                      <a:pt x="323" y="12"/>
                    </a:lnTo>
                    <a:lnTo>
                      <a:pt x="328" y="12"/>
                    </a:lnTo>
                    <a:lnTo>
                      <a:pt x="332" y="12"/>
                    </a:lnTo>
                    <a:lnTo>
                      <a:pt x="336" y="12"/>
                    </a:lnTo>
                    <a:lnTo>
                      <a:pt x="340" y="13"/>
                    </a:lnTo>
                    <a:lnTo>
                      <a:pt x="344" y="13"/>
                    </a:lnTo>
                    <a:lnTo>
                      <a:pt x="348" y="13"/>
                    </a:lnTo>
                    <a:lnTo>
                      <a:pt x="352" y="13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964320" y="4230720"/>
                <a:ext cx="243720" cy="8640"/>
              </a:xfrm>
              <a:custGeom>
                <a:avLst/>
                <a:gdLst/>
                <a:ahLst/>
                <a:rect l="l" t="t" r="r" b="b"/>
                <a:pathLst>
                  <a:path w="349" h="11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1" y="1"/>
                    </a:lnTo>
                    <a:lnTo>
                      <a:pt x="45" y="1"/>
                    </a:lnTo>
                    <a:lnTo>
                      <a:pt x="49" y="2"/>
                    </a:lnTo>
                    <a:lnTo>
                      <a:pt x="53" y="2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66" y="2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8" y="3"/>
                    </a:lnTo>
                    <a:lnTo>
                      <a:pt x="82" y="3"/>
                    </a:lnTo>
                    <a:lnTo>
                      <a:pt x="86" y="3"/>
                    </a:lnTo>
                    <a:lnTo>
                      <a:pt x="90" y="3"/>
                    </a:lnTo>
                    <a:lnTo>
                      <a:pt x="94" y="3"/>
                    </a:lnTo>
                    <a:lnTo>
                      <a:pt x="99" y="3"/>
                    </a:lnTo>
                    <a:lnTo>
                      <a:pt x="103" y="3"/>
                    </a:lnTo>
                    <a:lnTo>
                      <a:pt x="107" y="4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19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1" y="4"/>
                    </a:lnTo>
                    <a:lnTo>
                      <a:pt x="135" y="5"/>
                    </a:lnTo>
                    <a:lnTo>
                      <a:pt x="140" y="5"/>
                    </a:lnTo>
                    <a:lnTo>
                      <a:pt x="144" y="5"/>
                    </a:lnTo>
                    <a:lnTo>
                      <a:pt x="148" y="5"/>
                    </a:lnTo>
                    <a:lnTo>
                      <a:pt x="152" y="5"/>
                    </a:lnTo>
                    <a:lnTo>
                      <a:pt x="156" y="5"/>
                    </a:lnTo>
                    <a:lnTo>
                      <a:pt x="160" y="5"/>
                    </a:lnTo>
                    <a:lnTo>
                      <a:pt x="164" y="5"/>
                    </a:lnTo>
                    <a:lnTo>
                      <a:pt x="168" y="6"/>
                    </a:lnTo>
                    <a:lnTo>
                      <a:pt x="172" y="6"/>
                    </a:lnTo>
                    <a:lnTo>
                      <a:pt x="176" y="6"/>
                    </a:lnTo>
                    <a:lnTo>
                      <a:pt x="181" y="6"/>
                    </a:lnTo>
                    <a:lnTo>
                      <a:pt x="185" y="6"/>
                    </a:lnTo>
                    <a:lnTo>
                      <a:pt x="189" y="6"/>
                    </a:lnTo>
                    <a:lnTo>
                      <a:pt x="193" y="6"/>
                    </a:lnTo>
                    <a:lnTo>
                      <a:pt x="197" y="7"/>
                    </a:lnTo>
                    <a:lnTo>
                      <a:pt x="201" y="7"/>
                    </a:lnTo>
                    <a:lnTo>
                      <a:pt x="205" y="7"/>
                    </a:lnTo>
                    <a:lnTo>
                      <a:pt x="209" y="7"/>
                    </a:lnTo>
                    <a:lnTo>
                      <a:pt x="213" y="7"/>
                    </a:lnTo>
                    <a:lnTo>
                      <a:pt x="217" y="7"/>
                    </a:lnTo>
                    <a:lnTo>
                      <a:pt x="222" y="7"/>
                    </a:lnTo>
                    <a:lnTo>
                      <a:pt x="226" y="8"/>
                    </a:lnTo>
                    <a:lnTo>
                      <a:pt x="230" y="8"/>
                    </a:lnTo>
                    <a:lnTo>
                      <a:pt x="234" y="8"/>
                    </a:lnTo>
                    <a:lnTo>
                      <a:pt x="238" y="8"/>
                    </a:lnTo>
                    <a:lnTo>
                      <a:pt x="242" y="8"/>
                    </a:lnTo>
                    <a:lnTo>
                      <a:pt x="246" y="8"/>
                    </a:lnTo>
                    <a:lnTo>
                      <a:pt x="250" y="8"/>
                    </a:lnTo>
                    <a:lnTo>
                      <a:pt x="254" y="8"/>
                    </a:lnTo>
                    <a:lnTo>
                      <a:pt x="258" y="9"/>
                    </a:lnTo>
                    <a:lnTo>
                      <a:pt x="263" y="9"/>
                    </a:lnTo>
                    <a:lnTo>
                      <a:pt x="267" y="9"/>
                    </a:lnTo>
                    <a:lnTo>
                      <a:pt x="271" y="9"/>
                    </a:lnTo>
                    <a:lnTo>
                      <a:pt x="275" y="9"/>
                    </a:lnTo>
                    <a:lnTo>
                      <a:pt x="279" y="9"/>
                    </a:lnTo>
                    <a:lnTo>
                      <a:pt x="283" y="9"/>
                    </a:lnTo>
                    <a:lnTo>
                      <a:pt x="287" y="10"/>
                    </a:lnTo>
                    <a:lnTo>
                      <a:pt x="291" y="10"/>
                    </a:lnTo>
                    <a:lnTo>
                      <a:pt x="295" y="10"/>
                    </a:lnTo>
                    <a:lnTo>
                      <a:pt x="299" y="10"/>
                    </a:lnTo>
                    <a:lnTo>
                      <a:pt x="304" y="10"/>
                    </a:lnTo>
                    <a:lnTo>
                      <a:pt x="308" y="10"/>
                    </a:lnTo>
                    <a:lnTo>
                      <a:pt x="312" y="10"/>
                    </a:lnTo>
                    <a:lnTo>
                      <a:pt x="316" y="10"/>
                    </a:lnTo>
                    <a:lnTo>
                      <a:pt x="320" y="11"/>
                    </a:lnTo>
                    <a:lnTo>
                      <a:pt x="324" y="11"/>
                    </a:lnTo>
                    <a:lnTo>
                      <a:pt x="328" y="11"/>
                    </a:lnTo>
                    <a:lnTo>
                      <a:pt x="332" y="11"/>
                    </a:lnTo>
                    <a:lnTo>
                      <a:pt x="336" y="11"/>
                    </a:lnTo>
                    <a:lnTo>
                      <a:pt x="340" y="11"/>
                    </a:lnTo>
                    <a:lnTo>
                      <a:pt x="345" y="11"/>
                    </a:lnTo>
                    <a:lnTo>
                      <a:pt x="349" y="11"/>
                    </a:lnTo>
                  </a:path>
                </a:pathLst>
              </a:custGeom>
              <a:noFill/>
              <a:ln w="255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1520" y="5175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89240" y="466020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89240" y="414540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9240" y="363060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89240" y="311472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2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61320" y="577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044720" y="5773320"/>
                <a:ext cx="307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5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450080" y="577332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.0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922760" y="577332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.5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395800" y="577332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2.0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67040" y="577332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2.5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341160" y="577332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3.0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814200" y="577332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3.5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286880" y="577332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4.00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51400" y="6080760"/>
                <a:ext cx="1515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Superficie servi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91760" y="4246200"/>
                <a:ext cx="39600" cy="5148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42" y="0"/>
                    </a:moveTo>
                    <a:lnTo>
                      <a:pt x="83" y="34"/>
                    </a:lnTo>
                    <a:lnTo>
                      <a:pt x="42" y="68"/>
                    </a:lnTo>
                    <a:lnTo>
                      <a:pt x="0" y="3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1066680" y="2286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PPLICAZIONE DELLA 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" y="2638440"/>
            <a:ext cx="861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l CAMPIO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1 aziende di trasporto pubblico locale italiane esercenti serviz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to urbano+extra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1760" y="5486400"/>
            <a:ext cx="45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ANNO DI RIFERIMENT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80880" y="106668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OBIET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re l’analisi degli indicatori di efficienza confrontando i risultati emer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457200" y="4054320"/>
            <a:ext cx="7839720" cy="1191240"/>
            <a:chOff x="457200" y="4054320"/>
            <a:chExt cx="7839720" cy="1191240"/>
          </a:xfrm>
        </p:grpSpPr>
        <p:sp>
          <p:nvSpPr>
            <p:cNvPr id="1054" name=""/>
            <p:cNvSpPr/>
            <p:nvPr/>
          </p:nvSpPr>
          <p:spPr>
            <a:xfrm>
              <a:off x="1139400" y="4054320"/>
              <a:ext cx="7157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imensione azien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 4 milioni a 40 milioni di vetture km prodotte ann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7200" y="43592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181160" y="3207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PPLICAZIONE DELLA 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304920" y="9907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IL MODE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Input oriented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in ipotesi VRS (Variable returns of scal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155160" y="2209680"/>
            <a:ext cx="4397760" cy="2059920"/>
            <a:chOff x="155160" y="2209680"/>
            <a:chExt cx="4397760" cy="2059920"/>
          </a:xfrm>
        </p:grpSpPr>
        <p:sp>
          <p:nvSpPr>
            <p:cNvPr id="1060" name=""/>
            <p:cNvSpPr/>
            <p:nvPr/>
          </p:nvSpPr>
          <p:spPr>
            <a:xfrm>
              <a:off x="838080" y="230184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8360" y="243828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INPU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82920" y="220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umero addet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98760" y="2590560"/>
              <a:ext cx="198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umero mezz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5160" y="3657600"/>
              <a:ext cx="169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OUTPUT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50320" y="3429000"/>
              <a:ext cx="26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etture km prodot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749240" y="3809880"/>
              <a:ext cx="28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sseggeri trasporta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152280" y="5121360"/>
            <a:ext cx="7800480" cy="825480"/>
            <a:chOff x="152280" y="5121360"/>
            <a:chExt cx="7800480" cy="825480"/>
          </a:xfrm>
        </p:grpSpPr>
        <p:sp>
          <p:nvSpPr>
            <p:cNvPr id="1068" name=""/>
            <p:cNvSpPr/>
            <p:nvPr/>
          </p:nvSpPr>
          <p:spPr>
            <a:xfrm>
              <a:off x="1229400" y="5121360"/>
              <a:ext cx="672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I RISULTATI CONFERMANO LA PRESENZ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DI DISECONOMIE DI SCALA NEL SETTO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2280" y="52578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cc00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181160" y="32076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PPLICAZIONE DELLA DEA – I risult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utput: vetture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072" name=""/>
          <p:cNvGrpSpPr/>
          <p:nvPr/>
        </p:nvGrpSpPr>
        <p:grpSpPr>
          <a:xfrm>
            <a:off x="450720" y="1138320"/>
            <a:ext cx="8318520" cy="5495760"/>
            <a:chOff x="450720" y="1138320"/>
            <a:chExt cx="8318520" cy="5495760"/>
          </a:xfrm>
        </p:grpSpPr>
        <p:sp>
          <p:nvSpPr>
            <p:cNvPr id="1073" name=""/>
            <p:cNvSpPr/>
            <p:nvPr/>
          </p:nvSpPr>
          <p:spPr>
            <a:xfrm>
              <a:off x="867240" y="1338120"/>
              <a:ext cx="42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ziende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04480" y="1276200"/>
              <a:ext cx="94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fficienza tecnica -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86480" y="1398600"/>
              <a:ext cx="942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rendimenti costant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9600" y="1276200"/>
              <a:ext cx="89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fficienza tecnica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489480" y="1398600"/>
              <a:ext cx="97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Rendimenti variabil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90680" y="1338120"/>
              <a:ext cx="91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fficienza di scal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1040" y="164448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at Carrar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71040" y="16444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33880" y="164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50760" y="16444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41920" y="164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861240" y="16444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9960" y="1762200"/>
              <a:ext cx="55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Tpt Carasc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71040" y="1762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6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998160" y="1762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9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50760" y="1762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41920" y="1762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861240" y="1762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19960" y="1762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74120" y="1762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8880" y="1879560"/>
              <a:ext cx="57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im Vicenz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71040" y="1879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2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998160" y="1879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9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450760" y="1879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0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541920" y="187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861240" y="1879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19960" y="187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74120" y="1879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9240" y="1996920"/>
              <a:ext cx="59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Gtm Pescar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71040" y="1996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6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998160" y="1996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50760" y="1996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541920" y="199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861240" y="1996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1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419960" y="199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674120" y="1996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89600" y="211608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mi Urb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71040" y="2116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8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998160" y="2116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4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488560" y="2116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41920" y="2116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61240" y="2116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9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419960" y="2116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73760" y="21160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8520" y="2230560"/>
              <a:ext cx="83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ar Ascoli Pice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10000" y="2230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3880" y="2230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586480" y="2230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541920" y="2230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61240" y="22305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0680" y="2355840"/>
              <a:ext cx="59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b Bergam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71040" y="23558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2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998160" y="23558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4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488560" y="2355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504480" y="2355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861240" y="2355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419960" y="2355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674120" y="2355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9600" y="2482920"/>
              <a:ext cx="57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s Savo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71040" y="2482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6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998160" y="2482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5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50760" y="2482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9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504480" y="24829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861240" y="2482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19960" y="2482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674120" y="2482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89600" y="2600280"/>
              <a:ext cx="60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opit Pistoi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12080" y="2600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98160" y="2600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4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450760" y="2600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0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4480" y="2600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861240" y="2600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419960" y="260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674120" y="2600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0320" y="2719440"/>
              <a:ext cx="71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Rama Grosset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71040" y="27194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33880" y="27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450760" y="27194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504480" y="27194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861240" y="271944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9240" y="2833560"/>
              <a:ext cx="51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Stp Brindis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71040" y="2833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0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98160" y="2833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4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50760" y="2833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4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04480" y="2833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861240" y="2833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8920" y="2833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674120" y="2833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140680" y="2833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367480" y="283356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92840" y="2960640"/>
              <a:ext cx="73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ap Pordenon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471040" y="29606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5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35960" y="2960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760" y="29606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6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04480" y="2960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61240" y="29606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378920" y="2960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74120" y="29606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140680" y="296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367840" y="29606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86360" y="3079800"/>
              <a:ext cx="87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ram servizi Rimin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471040" y="3079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0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998160" y="3079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2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50760" y="3079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6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504480" y="3079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61240" y="3079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378920" y="3079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674120" y="3079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099640" y="3079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367480" y="3079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9600" y="3197160"/>
              <a:ext cx="76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empi  Piacenz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471040" y="3197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4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98160" y="3197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450760" y="3197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0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04480" y="31971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60880" y="319716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378920" y="31971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674120" y="3197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40680" y="3197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67840" y="3197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9960" y="3314880"/>
              <a:ext cx="902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Dolomitibus Bellu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471040" y="33148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998160" y="33148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488560" y="3314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04480" y="3314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861240" y="33148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78920" y="3314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674120" y="33148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140680" y="3314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67840" y="33148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0680" y="3432240"/>
              <a:ext cx="51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lap Lucc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471040" y="3432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7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998160" y="3432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50760" y="3432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504480" y="3432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61240" y="3432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378920" y="3432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73760" y="34322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099640" y="3432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367840" y="3432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89240" y="355140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 Tern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71040" y="35514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3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98160" y="35514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4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450760" y="35514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8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504480" y="35514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61240" y="35514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78920" y="35514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74120" y="35514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140680" y="3551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367480" y="35514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9960" y="3668760"/>
              <a:ext cx="54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Ssit Spolet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610000" y="3668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33880" y="3668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86480" y="3668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04480" y="3668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861240" y="36687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8880" y="378612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Bt Bres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71040" y="3786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9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998160" y="3786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4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50760" y="3786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4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504480" y="3786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861240" y="37861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78920" y="3786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74120" y="37861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1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90680" y="3903840"/>
              <a:ext cx="552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ps Padov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71040" y="39038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8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98160" y="39038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450760" y="39038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4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504480" y="3903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61240" y="3903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378920" y="3903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674120" y="3903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89240" y="4022640"/>
              <a:ext cx="36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r Forlì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471040" y="40226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4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133880" y="4022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50760" y="40226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4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504480" y="4022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861240" y="402264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92120" y="4140360"/>
              <a:ext cx="901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onerobus Ancon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471040" y="41403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3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998160" y="41403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7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450760" y="41403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5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04480" y="4140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861240" y="41403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78920" y="4140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674120" y="41403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88880" y="4257720"/>
              <a:ext cx="64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cms Caser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471040" y="4257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998160" y="4257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7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50760" y="4257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5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504480" y="42577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61240" y="42577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1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78920" y="42577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74120" y="42577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9600" y="437508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ctf Ferrar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471040" y="4375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7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98160" y="4375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3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88560" y="43750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04480" y="4375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861240" y="4375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78920" y="4375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674120" y="4375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099640" y="4375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367840" y="4375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8880" y="4494240"/>
              <a:ext cx="837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ct Reggio Emili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512080" y="44942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8160" y="4494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5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450760" y="4494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7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504480" y="4494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61240" y="4494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378920" y="4494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674120" y="4494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099640" y="44942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367840" y="4494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89960" y="4611600"/>
              <a:ext cx="48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l Livor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512080" y="46116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998160" y="4611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50760" y="4611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6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504480" y="4611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61240" y="46116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78920" y="4611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674120" y="46116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89960" y="4729320"/>
              <a:ext cx="6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 La Spez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71040" y="4729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0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998160" y="4729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2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450760" y="4729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6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04480" y="4729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861240" y="47293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78920" y="4729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74120" y="47293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099640" y="4729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367840" y="47293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0320" y="4848120"/>
              <a:ext cx="68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pam Mantov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71040" y="4848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7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998160" y="4848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8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50760" y="4848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7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04480" y="4848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61240" y="48481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78920" y="4848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74120" y="48481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099640" y="4848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367840" y="48481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90680" y="4965840"/>
              <a:ext cx="55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ra,In Sie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512080" y="4965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998160" y="49658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8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450760" y="49658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6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04480" y="4965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861240" y="4965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378920" y="4965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74120" y="4965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9600" y="5083200"/>
              <a:ext cx="38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pt Pis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71040" y="5083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8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998160" y="5083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0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450760" y="5083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7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04480" y="5083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61240" y="5083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78920" y="5083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674120" y="5083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1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90320" y="5200560"/>
              <a:ext cx="61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Fc Catanzar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512080" y="52005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998160" y="5200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450760" y="5200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5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04480" y="5200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861240" y="5200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378920" y="5200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674120" y="5200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099640" y="5200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367840" y="5200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9960" y="5319720"/>
              <a:ext cx="63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m Mode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71040" y="5319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5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98160" y="5319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0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450760" y="5319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504480" y="53197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861240" y="53197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378920" y="53197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674120" y="53197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0680" y="543708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Tep Parm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71040" y="5437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6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98160" y="5437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9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50760" y="5437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6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504480" y="5437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861240" y="5437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378920" y="5437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74120" y="5437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099640" y="5437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67840" y="5437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91040" y="555480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pt Veron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471040" y="5554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998160" y="5554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6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0760" y="5554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2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504480" y="5554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861240" y="5554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78920" y="5554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674120" y="5554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0680" y="5672160"/>
              <a:ext cx="59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stp Saler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471040" y="5672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6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98160" y="5672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7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50760" y="5672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8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504480" y="56721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861240" y="5672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378920" y="56721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74120" y="5672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90320" y="5791320"/>
              <a:ext cx="61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pm Perugi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610000" y="579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133880" y="579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586480" y="579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04480" y="5791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61240" y="579132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90680" y="59086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mt genov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71040" y="59086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98160" y="59086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6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50760" y="59086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04480" y="5908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861240" y="59086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9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78920" y="5908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73760" y="5908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9240" y="6026040"/>
              <a:ext cx="59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ctv Venez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471040" y="60260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133880" y="602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450760" y="60260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504480" y="6026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861240" y="602604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90680" y="6143760"/>
              <a:ext cx="552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 Bolog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471040" y="6143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5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33880" y="614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50760" y="6143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5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504480" y="614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61240" y="61437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90320" y="6262560"/>
              <a:ext cx="52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nm Napol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471040" y="6262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8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035960" y="62625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450760" y="6262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7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504480" y="6262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861240" y="6262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378920" y="6262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674120" y="6262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89600" y="6377040"/>
              <a:ext cx="50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m Tor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71040" y="63770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5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133880" y="637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50760" y="63770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5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04480" y="6377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61240" y="637704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88880" y="650232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MEDI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499480" y="6502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0,7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24800" y="6502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0,8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77400" y="6502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0,9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362000" y="1328760"/>
              <a:ext cx="27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ffff"/>
                  </a:solidFill>
                  <a:latin typeface="Arial"/>
                </a:rPr>
                <a:t>Peer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41400" y="1157400"/>
              <a:ext cx="1800" cy="47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841400" y="1157400"/>
              <a:ext cx="14400" cy="47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30440" y="1157400"/>
              <a:ext cx="1800" cy="47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30440" y="1157400"/>
              <a:ext cx="12960" cy="47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92760" y="1157400"/>
              <a:ext cx="1440" cy="47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892760" y="1157400"/>
              <a:ext cx="12600" cy="47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334200" y="1157400"/>
              <a:ext cx="1440" cy="47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334200" y="1157400"/>
              <a:ext cx="14040" cy="47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1400" y="1647720"/>
              <a:ext cx="1800" cy="484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41400" y="1647720"/>
              <a:ext cx="14400" cy="484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430440" y="1647720"/>
              <a:ext cx="1800" cy="484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30440" y="1647720"/>
              <a:ext cx="12960" cy="484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92760" y="1647720"/>
              <a:ext cx="1440" cy="484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92760" y="1647720"/>
              <a:ext cx="12600" cy="484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334200" y="1647720"/>
              <a:ext cx="1440" cy="484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4200" y="1647720"/>
              <a:ext cx="14040" cy="484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27760" y="1655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27760" y="16556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827760" y="1692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827760" y="16923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827760" y="17272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827760" y="17272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827760" y="1763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27760" y="17636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827760" y="1800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27760" y="18003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827760" y="1836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27760" y="18367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827760" y="1873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827760" y="18730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827760" y="1909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827760" y="19098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827760" y="1946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827760" y="19461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827760" y="1981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27760" y="19810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827760" y="2017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827760" y="20178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827760" y="2054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827760" y="20541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27760" y="2090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827760" y="20908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827760" y="2127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827760" y="21272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827760" y="2163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827760" y="21636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827760" y="21985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27760" y="2198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827760" y="2235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827760" y="22352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827760" y="2271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827760" y="22716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827760" y="2308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827760" y="23083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27760" y="2344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827760" y="23446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827760" y="2381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827760" y="23814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827760" y="2417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827760" y="24177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827760" y="24526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827760" y="2452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827760" y="2489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827760" y="24890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27760" y="2525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27760" y="25257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27760" y="2562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27760" y="2562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27760" y="2598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27760" y="25988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27760" y="2635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27760" y="26352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27760" y="26719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27760" y="26719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27760" y="2706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27760" y="2706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27760" y="2743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7760" y="27432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27760" y="2779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27760" y="27795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27760" y="2816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27760" y="28162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27760" y="2852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27760" y="28526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27760" y="2889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27760" y="28893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27760" y="29242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27760" y="29242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27760" y="2960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27760" y="29606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27760" y="2997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27760" y="29973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27760" y="3033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27760" y="30337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27760" y="3070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27760" y="30700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27760" y="3106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27760" y="31068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27760" y="3143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27760" y="31431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27760" y="3178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27760" y="31780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27760" y="3214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27760" y="32148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27760" y="3251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27760" y="32511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27760" y="328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27760" y="32878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27760" y="3324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27760" y="33242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27760" y="3360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27760" y="33606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27760" y="3397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27760" y="33973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27760" y="3432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27760" y="34322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27760" y="3468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27760" y="34686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27760" y="3505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27760" y="35053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27760" y="3541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27760" y="35416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27760" y="357840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827760" y="3578400"/>
              <a:ext cx="126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827760" y="3614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827760" y="36147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827760" y="36496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27760" y="3649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27760" y="3686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27760" y="36860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827760" y="3722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27760" y="37227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827760" y="3759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827760" y="3759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27760" y="3795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827760" y="37958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827760" y="3832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827760" y="38322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827760" y="3868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827760" y="38685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27760" y="3903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27760" y="3903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827760" y="3940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827760" y="39402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827760" y="397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827760" y="39765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827760" y="4013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827760" y="40132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827760" y="4049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27760" y="40496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827760" y="4086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827760" y="40863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827760" y="4122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827760" y="41227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827760" y="4157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827760" y="41576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827760" y="4194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827760" y="41940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827760" y="4230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827760" y="42307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827760" y="4267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7760" y="42670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27760" y="4303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7760" y="43038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27760" y="4340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827760" y="43401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827760" y="4375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827760" y="43750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827760" y="4411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827760" y="44118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827760" y="4448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827760" y="44481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827760" y="44845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827760" y="44845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827760" y="4521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827760" y="45212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827760" y="4557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27760" y="45576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27760" y="4594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827760" y="45943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827760" y="4629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827760" y="46292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827760" y="4665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827760" y="46656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27760" y="4702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827760" y="47023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27760" y="4738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827760" y="47386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827760" y="4775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827760" y="47750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827760" y="4811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27760" y="48117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27760" y="4848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27760" y="4848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827760" y="48830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827760" y="48830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27760" y="4919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827760" y="49197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827760" y="4956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827760" y="4956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827760" y="4992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827760" y="49928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827760" y="5029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27760" y="50292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27760" y="5065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827760" y="50655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27760" y="51004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27760" y="5100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827760" y="5137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827760" y="51372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827760" y="5173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827760" y="51735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827760" y="5210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827760" y="52102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827760" y="5246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827760" y="52466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27760" y="5283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827760" y="52833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827760" y="5319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27760" y="53197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827760" y="5354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827760" y="53546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827760" y="5391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827760" y="53910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827760" y="5427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827760" y="54277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827760" y="5464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27760" y="54640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827760" y="5500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827760" y="55008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827760" y="5537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27760" y="55371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827760" y="5573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827760" y="55738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827760" y="5608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827760" y="56088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27760" y="5645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827760" y="56451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827760" y="56815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827760" y="56815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827760" y="5718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827760" y="57182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827760" y="5754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827760" y="57546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827760" y="5791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827760" y="57913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827760" y="5826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827760" y="58262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827760" y="5862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827760" y="58626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27760" y="589932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827760" y="5899320"/>
              <a:ext cx="126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27760" y="5935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7760" y="59356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27760" y="5972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27760" y="59720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27760" y="6008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827760" y="60087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827760" y="6045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827760" y="6045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827760" y="60800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27760" y="60800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27760" y="6116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27760" y="61167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827760" y="6153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827760" y="6153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27760" y="618984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27760" y="6189840"/>
              <a:ext cx="126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27760" y="6226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827760" y="62262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827760" y="6262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827760" y="62625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27760" y="62974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27760" y="6297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827760" y="6334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827760" y="63342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827760" y="6370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27760" y="637056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27760" y="6407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827760" y="640728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27760" y="6443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827760" y="644364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827760" y="648000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827760" y="6480000"/>
              <a:ext cx="126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3800" y="1655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273800" y="16556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273800" y="1692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73800" y="16923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273800" y="17272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273800" y="17272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73800" y="1763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273800" y="17636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273800" y="1800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73800" y="18003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273800" y="1836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273800" y="18367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73800" y="1873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273800" y="18730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273800" y="1909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73800" y="19098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273800" y="1946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273800" y="19461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73800" y="1981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273800" y="19810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273800" y="2017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73800" y="20178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273800" y="2054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273800" y="20541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273800" y="2090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273800" y="20908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273800" y="2127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73800" y="21272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273800" y="2163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73800" y="21636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73800" y="21985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73800" y="21985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273800" y="2235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3800" y="22352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273800" y="2271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273800" y="22716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273800" y="2308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273800" y="23083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273800" y="2344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73800" y="23446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273800" y="2381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273800" y="23814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73800" y="2417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273800" y="24177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273800" y="24526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73800" y="24526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273800" y="2489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73800" y="24890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73800" y="2525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273800" y="25257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273800" y="2562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73800" y="25621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273800" y="2598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273800" y="25988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73800" y="2635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273800" y="26352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273800" y="26719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73800" y="26719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273800" y="2706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273800" y="27068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73800" y="2743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273800" y="27432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273800" y="2779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73800" y="27795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273800" y="2816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273800" y="28162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3800" y="2852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273800" y="28526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273800" y="2889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273800" y="28893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273800" y="29242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273800" y="29242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73800" y="2960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273800" y="29606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273800" y="2997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73800" y="29973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273800" y="3033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273800" y="30337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273800" y="3070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273800" y="30700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273800" y="3106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73800" y="31068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273800" y="3143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273800" y="31431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273800" y="3178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273800" y="31780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273800" y="3214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73800" y="32148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273800" y="3251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273800" y="32511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273800" y="328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273800" y="32878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273800" y="3324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73800" y="33242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273800" y="3360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273800" y="33606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73800" y="3397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273800" y="33973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273800" y="3432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73800" y="34322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273800" y="3468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273800" y="34686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73800" y="3505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273800" y="35053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273800" y="3541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73800" y="35416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273800" y="357840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273800" y="3578400"/>
              <a:ext cx="1296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73800" y="3614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273800" y="36147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273800" y="36496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73800" y="36496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273800" y="3686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273800" y="36860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73800" y="3722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273800" y="37227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273800" y="3759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73800" y="37591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273800" y="3795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273800" y="37958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73800" y="3832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273800" y="38322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273800" y="3868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73800" y="38685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273800" y="3903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273800" y="39038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3800" y="3940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73800" y="39402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273800" y="397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3800" y="39765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273800" y="4013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273800" y="40132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273800" y="4049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273800" y="40496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273800" y="4086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273800" y="40863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273800" y="4122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273800" y="41227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3800" y="4157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273800" y="41576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273800" y="4194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73800" y="41940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273800" y="4230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273800" y="42307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73800" y="4267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273800" y="42670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273800" y="4303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273800" y="43038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273800" y="4340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273800" y="43401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73800" y="4375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273800" y="43750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273800" y="4411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3800" y="44118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273800" y="4448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73800" y="44481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273800" y="44845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273800" y="44845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273800" y="4521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73800" y="45212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73800" y="4557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273800" y="45576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73800" y="4594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273800" y="45943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73800" y="4629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273800" y="46292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273800" y="4665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273800" y="46656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73800" y="4702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273800" y="47023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273800" y="4738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73800" y="47386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273800" y="4775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273800" y="47750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3800" y="4811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273800" y="48117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273800" y="4848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73800" y="48481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273800" y="48830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273800" y="48830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73800" y="4919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273800" y="49197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73800" y="4956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73800" y="49561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273800" y="4992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73800" y="49928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3800" y="5029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273800" y="50292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273800" y="5065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73800" y="50655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273800" y="51004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273800" y="51004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3800" y="5137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273800" y="51372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273800" y="5173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3800" y="51735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273800" y="5210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273800" y="52102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273800" y="5246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273800" y="52466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273800" y="5283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273800" y="52833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73800" y="5319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273800" y="53197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273800" y="5354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273800" y="53546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273800" y="5391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273800" y="53910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273800" y="5427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273800" y="54277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273800" y="5464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73800" y="54640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273800" y="5500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273800" y="55008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273800" y="5537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273800" y="55371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273800" y="5573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73800" y="55738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273800" y="5608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273800" y="56088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273800" y="5645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273800" y="56451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273800" y="56815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273800" y="56815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273800" y="5718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273800" y="57182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273800" y="5754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273800" y="57546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273800" y="5791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273800" y="57913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73800" y="5826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273800" y="58262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273800" y="5862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273800" y="58626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273800" y="589932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273800" y="5899320"/>
              <a:ext cx="1296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273800" y="5935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273800" y="59356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273800" y="5972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73800" y="59720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273800" y="6008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273800" y="60087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273800" y="6045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273800" y="60451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273800" y="60800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273800" y="60800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273800" y="6116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273800" y="61167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273800" y="6153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273800" y="61531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273800" y="618984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273800" y="6189840"/>
              <a:ext cx="1296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273800" y="6226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273800" y="62262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273800" y="6262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273800" y="62625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273800" y="62974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73800" y="62974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273800" y="6334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273800" y="63342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273800" y="6370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273800" y="637056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273800" y="6407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273800" y="640728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273800" y="6443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273800" y="644364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273800" y="648000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273800" y="648000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640640" y="1655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640640" y="1655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640640" y="1692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640640" y="1692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640640" y="17272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640640" y="17272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640640" y="1763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640640" y="1763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640640" y="1800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640640" y="1800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640640" y="1836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640640" y="1836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640640" y="18730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640640" y="1873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640640" y="1909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640640" y="1909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640640" y="1946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640640" y="1946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640640" y="19810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640640" y="1981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640640" y="2017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640640" y="2017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640640" y="2054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640640" y="2054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640640" y="2090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640640" y="2090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640640" y="2127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640640" y="2127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640640" y="2163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640640" y="2163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640640" y="2198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640640" y="21985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640640" y="2235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640640" y="2235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640640" y="2271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640640" y="2271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640640" y="2308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640640" y="2308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640640" y="23446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40640" y="2344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640640" y="23814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640640" y="23814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640640" y="2417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640640" y="2417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640640" y="2452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640640" y="2452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640640" y="24890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640640" y="2489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640640" y="2525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640640" y="2525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640640" y="2562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640640" y="2562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640640" y="25988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640640" y="2598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640640" y="2635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640640" y="2635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640640" y="26719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40640" y="26719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40640" y="2706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640640" y="2706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40640" y="2743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640640" y="2743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640640" y="2779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640640" y="2779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640640" y="28162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640640" y="2816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40640" y="2852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40640" y="2852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640640" y="2889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640640" y="2889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640640" y="29242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40640" y="29242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40640" y="2960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40640" y="2960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40640" y="2997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40640" y="2997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40640" y="3033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40640" y="3033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40640" y="30700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640640" y="3070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40640" y="3106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40640" y="3106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640640" y="3143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0640" y="3143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0640" y="31780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640640" y="3178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40640" y="3214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40640" y="3214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40640" y="3251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640640" y="3251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640640" y="328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640640" y="3287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640640" y="3324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640640" y="3324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40640" y="3360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640640" y="3360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640640" y="3397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640640" y="3397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640640" y="34322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40640" y="3432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640640" y="3468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640640" y="3468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640640" y="3505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640640" y="3505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40640" y="35416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640640" y="3541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640640" y="3578400"/>
              <a:ext cx="144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640640" y="357840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640640" y="3614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640640" y="3614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64064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640640" y="3649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640640" y="36860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640640" y="3686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640640" y="3722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640640" y="3722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640640" y="375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640640" y="3759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640640" y="37958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640640" y="3795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640640" y="3832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640640" y="3832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640640" y="3868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640640" y="3868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40640" y="39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640640" y="3903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640640" y="3940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0640" y="3940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40640" y="3976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640640" y="3976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640640" y="40132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640640" y="4013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640640" y="4049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640640" y="4049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640640" y="4086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640640" y="4086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640640" y="4122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640640" y="4122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640640" y="4157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640640" y="4157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640640" y="41940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640640" y="4194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640640" y="4230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640640" y="4230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640640" y="42670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640640" y="4267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640640" y="4303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640640" y="4303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640640" y="4340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640640" y="4340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640640" y="43750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640640" y="4375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640640" y="4411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40640" y="4411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40640" y="4448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0640" y="4448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40640" y="44845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40640" y="44845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640640" y="4521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40640" y="4521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40640" y="4557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0640" y="4557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0640" y="4594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640640" y="4594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640640" y="46292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640640" y="4629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640640" y="4665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640640" y="4665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640640" y="4702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640640" y="4702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640640" y="47386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640640" y="4738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640640" y="47750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640640" y="4775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640640" y="4811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640640" y="4811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640640" y="4848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640640" y="4848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640640" y="48830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40640" y="48830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640640" y="4919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640640" y="4919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640640" y="4956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640640" y="4956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640640" y="49928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640640" y="4992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40640" y="5029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640640" y="5029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640640" y="5065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640640" y="5065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640640" y="5100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640640" y="5100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640640" y="5137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640640" y="5137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640640" y="5173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640640" y="5173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640640" y="52102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640640" y="5210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640640" y="5246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640640" y="5246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640640" y="5283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640640" y="5283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640640" y="5319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640640" y="5319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640640" y="5354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40640" y="5354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640640" y="53910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640640" y="5391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640640" y="5427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640640" y="5427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640640" y="54640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640640" y="5464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640640" y="5500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640640" y="5500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640640" y="5537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640640" y="5537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640640" y="5573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640640" y="5573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640640" y="5608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640640" y="5608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640640" y="5645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640640" y="5645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640640" y="56815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640640" y="56815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640640" y="5718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640640" y="5718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640640" y="5754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640640" y="5754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640640" y="5791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640640" y="5791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640640" y="58262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640640" y="5826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640640" y="5862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640640" y="5862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640640" y="5899320"/>
              <a:ext cx="144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640640" y="589932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640640" y="59356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640640" y="5935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640640" y="59720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640640" y="5972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640640" y="6008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640640" y="6008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640640" y="6045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640640" y="6045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640640" y="60800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640640" y="60800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640640" y="6116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640640" y="6116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640640" y="6153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640640" y="6153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640640" y="6189840"/>
              <a:ext cx="144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640640" y="618984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40640" y="6226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640640" y="6226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640640" y="6262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640640" y="6262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640640" y="6297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40640" y="6297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640640" y="6334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40640" y="6334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40640" y="6370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640640" y="6370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640640" y="64072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640640" y="6407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640640" y="6443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40640" y="6443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640640" y="648000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640640" y="6480000"/>
              <a:ext cx="14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021520" y="1655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021520" y="1655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021520" y="1692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021520" y="1692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021520" y="17272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021520" y="17272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021520" y="1763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021520" y="1763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021520" y="1800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21520" y="1800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021520" y="1836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021520" y="1836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021520" y="1873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021520" y="1873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21520" y="1909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021520" y="1909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021520" y="1946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021520" y="1946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021520" y="1981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21520" y="1981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021520" y="2017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021520" y="2017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021520" y="2054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21520" y="2054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021520" y="2090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021520" y="2090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021520" y="2127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21520" y="2127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021520" y="2163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021520" y="2163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021520" y="21985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021520" y="21985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021520" y="2235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021520" y="2235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021520" y="2271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021520" y="2271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021520" y="2308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021520" y="2308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021520" y="2344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021520" y="2344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021520" y="2381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8021520" y="23814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021520" y="2417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021520" y="2417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021520" y="24526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8021520" y="2452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021520" y="2489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021520" y="2489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021520" y="2525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021520" y="2525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021520" y="2562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021520" y="2562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021520" y="2598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021520" y="2598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021520" y="2635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021520" y="2635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021520" y="26719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21520" y="26719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21520" y="2706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021520" y="2706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021520" y="2743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021520" y="2743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021520" y="2779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021520" y="2779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021520" y="2816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8021520" y="2816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021520" y="2852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021520" y="2852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21520" y="2889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8021520" y="2889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1520" y="29242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8021520" y="29242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021520" y="2960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8021520" y="2960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021520" y="2997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8021520" y="2997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021520" y="3033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021520" y="3033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021520" y="3070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021520" y="3070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021520" y="3106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021520" y="3106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021520" y="3143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021520" y="3143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8021520" y="3178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021520" y="3178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021520" y="3214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021520" y="3214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021520" y="3251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021520" y="3251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021520" y="3287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021520" y="3287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021520" y="3324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021520" y="3324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021520" y="3360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021520" y="3360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021520" y="3397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021520" y="3397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021520" y="3432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021520" y="3432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021520" y="3468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021520" y="3468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021520" y="3505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021520" y="3505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021520" y="3541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021520" y="3541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021520" y="357840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021520" y="357840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021520" y="3614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021520" y="3614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021520" y="36496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021520" y="3649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021520" y="3686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021520" y="3686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021520" y="3722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021520" y="3722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021520" y="3759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021520" y="3759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021520" y="3795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021520" y="3795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021520" y="3832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021520" y="3832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021520" y="3868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021520" y="3868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021520" y="3903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021520" y="3903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021520" y="3940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021520" y="3940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021520" y="397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021520" y="3976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021520" y="4013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021520" y="4013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021520" y="4049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021520" y="4049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021520" y="4086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021520" y="4086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021520" y="4122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021520" y="4122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021520" y="4157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021520" y="4157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021520" y="4194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021520" y="4194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021520" y="4230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021520" y="4230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021520" y="4267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021520" y="4267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021520" y="4303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021520" y="4303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21520" y="4340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021520" y="4340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021520" y="43750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021520" y="4375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021520" y="4411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021520" y="4411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21520" y="4448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21520" y="4448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21520" y="44845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21520" y="44845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021520" y="4521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021520" y="4521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021520" y="4557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021520" y="4557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021520" y="4594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021520" y="4594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021520" y="4629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021520" y="4629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021520" y="4665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021520" y="4665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021520" y="4702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21520" y="4702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21520" y="4738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021520" y="4738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21520" y="4775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021520" y="4775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21520" y="4811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021520" y="4811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021520" y="4848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021520" y="4848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21520" y="48830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021520" y="48830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021520" y="4919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021520" y="4919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021520" y="4956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021520" y="4956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021520" y="49928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021520" y="4992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021520" y="5029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021520" y="5029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021520" y="5065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021520" y="5065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021520" y="51004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021520" y="5100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021520" y="5137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021520" y="5137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021520" y="5173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021520" y="5173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021520" y="5210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021520" y="5210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021520" y="5246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021520" y="5246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021520" y="52833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021520" y="5283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021520" y="5319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021520" y="5319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021520" y="5354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021520" y="5354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021520" y="5391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021520" y="5391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021520" y="5427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021520" y="5427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021520" y="54640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021520" y="5464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21520" y="5500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021520" y="5500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021520" y="5537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021520" y="5537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021520" y="55738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021520" y="5573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021520" y="56088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021520" y="5608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021520" y="56451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021520" y="5645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021520" y="56815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021520" y="56815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8021520" y="57182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021520" y="5718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021520" y="5754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021520" y="5754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021520" y="57913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021520" y="5791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021520" y="58262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021520" y="5826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021520" y="58626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021520" y="5862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021520" y="589932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021520" y="589932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021520" y="5935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021520" y="5935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021520" y="5972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021520" y="5972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021520" y="6008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021520" y="6008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021520" y="6045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021520" y="6045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021520" y="60800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21520" y="60800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21520" y="6116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21520" y="6116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021520" y="6153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021520" y="6153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021520" y="6189840"/>
              <a:ext cx="180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021520" y="618984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21520" y="6226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21520" y="6226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021520" y="6262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021520" y="6262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021520" y="62974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021520" y="6297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021520" y="6334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021520" y="6334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021520" y="6370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021520" y="6370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21520" y="64072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021520" y="6407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021520" y="64436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021520" y="6443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8021520" y="648000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021520" y="6480000"/>
              <a:ext cx="14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334360" y="1655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334360" y="1655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334360" y="1692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334360" y="1692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334360" y="17272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334360" y="17272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334360" y="1763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334360" y="1763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334360" y="1800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334360" y="1800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334360" y="1836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334360" y="1836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334360" y="18730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334360" y="1873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334360" y="1909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8334360" y="1909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8334360" y="1946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8334360" y="1946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334360" y="19810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334360" y="1981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334360" y="2017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334360" y="2017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334360" y="2054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334360" y="2054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334360" y="2090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334360" y="2090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334360" y="2127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334360" y="2127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334360" y="2163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334360" y="2163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334360" y="2198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334360" y="21985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334360" y="2235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334360" y="2235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334360" y="2271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334360" y="2271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334360" y="2308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334360" y="2308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334360" y="23446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334360" y="2344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334360" y="23814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334360" y="23814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334360" y="2417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8334360" y="2417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8334360" y="2452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8334360" y="2452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8334360" y="24890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8334360" y="2489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334360" y="2525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334360" y="2525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334360" y="2562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334360" y="2562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334360" y="25988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8334360" y="2598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8334360" y="2635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334360" y="2635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8334360" y="26719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334360" y="26719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334360" y="2706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334360" y="2706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334360" y="2743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334360" y="2743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334360" y="2779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8334360" y="2779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334360" y="28162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34360" y="2816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334360" y="2852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334360" y="2852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334360" y="2889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8334360" y="2889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8334360" y="29242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8334360" y="29242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334360" y="2960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334360" y="2960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334360" y="2997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8334360" y="2997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334360" y="3033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8334360" y="3033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8334360" y="30700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334360" y="3070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334360" y="3106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8334360" y="3106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8334360" y="3143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8334360" y="3143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8334360" y="31780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8334360" y="3178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8334360" y="3214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334360" y="3214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334360" y="3251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334360" y="3251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8334360" y="3287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334360" y="3287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334360" y="3324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334360" y="3324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334360" y="3360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334360" y="3360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334360" y="3397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334360" y="3397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334360" y="34322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334360" y="3432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334360" y="3468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334360" y="3468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334360" y="3505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334360" y="3505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334360" y="35416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334360" y="3541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334360" y="3578400"/>
              <a:ext cx="144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334360" y="357840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334360" y="3614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334360" y="3614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33436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334360" y="3649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334360" y="36860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334360" y="3686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334360" y="3722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334360" y="3722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334360" y="375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334360" y="3759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334360" y="37958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334360" y="3795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334360" y="3832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334360" y="3832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334360" y="3868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334360" y="3868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8334360" y="39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8334360" y="3903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334360" y="3940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334360" y="3940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334360" y="3976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334360" y="3976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334360" y="40132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8334360" y="4013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8334360" y="4049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8334360" y="4049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334360" y="4086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8334360" y="4086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8334360" y="4122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8334360" y="4122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8334360" y="4157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8334360" y="4157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8334360" y="41940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8334360" y="4194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8334360" y="4230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8334360" y="4230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8334360" y="42670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8334360" y="4267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8334360" y="4303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8334360" y="4303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334360" y="4340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8334360" y="4340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8334360" y="43750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8334360" y="43750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334360" y="4411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8334360" y="4411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8334360" y="4448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8334360" y="4448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8334360" y="44845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8334360" y="44845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334360" y="4521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334360" y="4521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8334360" y="4557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334360" y="4557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334360" y="4594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334360" y="4594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334360" y="46292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334360" y="4629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8334360" y="4665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334360" y="4665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334360" y="4702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334360" y="4702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334360" y="47386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334360" y="4738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334360" y="47750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334360" y="4775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334360" y="4811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8334360" y="4811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8334360" y="4848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334360" y="4848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334360" y="48830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334360" y="48830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334360" y="4919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334360" y="4919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334360" y="4956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334360" y="4956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334360" y="49928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334360" y="49928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334360" y="5029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334360" y="5029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334360" y="5065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334360" y="5065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334360" y="5100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334360" y="5100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334360" y="5137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334360" y="5137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334360" y="5173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334360" y="5173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334360" y="52102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334360" y="5210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8334360" y="5246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8334360" y="5246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8334360" y="52833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334360" y="52833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334360" y="5319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334360" y="5319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334360" y="5354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334360" y="5354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334360" y="53910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334360" y="5391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334360" y="5427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334360" y="5427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334360" y="54640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334360" y="54640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334360" y="5500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334360" y="5500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334360" y="5537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334360" y="5537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334360" y="55738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334360" y="55738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334360" y="56088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334360" y="56088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334360" y="56451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334360" y="56451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334360" y="56815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334360" y="56815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334360" y="57182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334360" y="57182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334360" y="5754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334360" y="5754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334360" y="57913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334360" y="57913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334360" y="58262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334360" y="58262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334360" y="58626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334360" y="58626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334360" y="5899320"/>
              <a:ext cx="144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334360" y="589932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334360" y="59356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334360" y="59356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334360" y="59720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334360" y="59720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34360" y="6008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34360" y="6008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34360" y="6045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334360" y="6045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334360" y="60800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334360" y="60800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334360" y="61167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334360" y="61167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34360" y="6153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34360" y="6153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34360" y="6189840"/>
              <a:ext cx="1440" cy="2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34360" y="6189840"/>
              <a:ext cx="14400" cy="2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34360" y="6226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334360" y="6226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334360" y="6262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334360" y="6262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334360" y="6297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334360" y="6297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34360" y="63342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34360" y="63342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34360" y="637056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34360" y="637056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34360" y="640728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34360" y="640728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34360" y="644364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334360" y="644364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334360" y="6480000"/>
              <a:ext cx="14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334360" y="6480000"/>
              <a:ext cx="14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50720" y="1138320"/>
              <a:ext cx="27000" cy="549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841400" y="6508800"/>
              <a:ext cx="180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841400" y="6508800"/>
              <a:ext cx="14400" cy="10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430440" y="6508800"/>
              <a:ext cx="180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430440" y="6508800"/>
              <a:ext cx="12960" cy="10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892760" y="6508800"/>
              <a:ext cx="144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892760" y="6508800"/>
              <a:ext cx="12600" cy="10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334200" y="6508800"/>
              <a:ext cx="144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334200" y="6508800"/>
              <a:ext cx="14040" cy="10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742240" y="1157400"/>
              <a:ext cx="27000" cy="547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827760" y="6516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827760" y="65167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827760" y="6551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827760" y="65516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827760" y="6588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827760" y="658800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273800" y="6516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273800" y="65167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273800" y="6551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273800" y="65516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273800" y="6588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273800" y="658800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640640" y="6516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640640" y="6516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640640" y="6551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640640" y="6551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640640" y="65880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640640" y="6588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21520" y="65167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021520" y="6516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021520" y="6551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021520" y="6551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021520" y="65880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021520" y="6588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334360" y="65167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334360" y="65167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334360" y="6551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334360" y="6551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334360" y="658800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334360" y="658800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77720" y="1138320"/>
              <a:ext cx="8291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7720" y="1630440"/>
              <a:ext cx="82915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720" y="6491160"/>
              <a:ext cx="82915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77720" y="6615000"/>
              <a:ext cx="8291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"/>
          <p:cNvSpPr/>
          <p:nvPr/>
        </p:nvSpPr>
        <p:spPr>
          <a:xfrm>
            <a:off x="1181160" y="396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PPLICAZIONE DELLA DEA – I risult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utput: vetture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520560" y="182880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icienza tecn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non sembra sussistere alcuna correlazione 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dimensione azienda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518040" y="2911320"/>
            <a:ext cx="83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icienza di sc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resce all’aumentare della dimensione fino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 milioni di vetture km prodotte, poi decres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3" name=""/>
          <p:cNvGrpSpPr/>
          <p:nvPr/>
        </p:nvGrpSpPr>
        <p:grpSpPr>
          <a:xfrm>
            <a:off x="304920" y="4419720"/>
            <a:ext cx="8610480" cy="701640"/>
            <a:chOff x="304920" y="4419720"/>
            <a:chExt cx="8610480" cy="701640"/>
          </a:xfrm>
        </p:grpSpPr>
        <p:sp>
          <p:nvSpPr>
            <p:cNvPr id="2824" name=""/>
            <p:cNvSpPr/>
            <p:nvPr/>
          </p:nvSpPr>
          <p:spPr>
            <a:xfrm>
              <a:off x="304920" y="451188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5" name=""/>
            <p:cNvGrpSpPr/>
            <p:nvPr/>
          </p:nvGrpSpPr>
          <p:grpSpPr>
            <a:xfrm>
              <a:off x="1447920" y="4419720"/>
              <a:ext cx="7467480" cy="701640"/>
              <a:chOff x="1447920" y="4419720"/>
              <a:chExt cx="7467480" cy="701640"/>
            </a:xfrm>
          </p:grpSpPr>
          <p:sp>
            <p:nvSpPr>
              <p:cNvPr id="2826" name=""/>
              <p:cNvSpPr/>
              <p:nvPr/>
            </p:nvSpPr>
            <p:spPr>
              <a:xfrm>
                <a:off x="1812960" y="441972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1447920" y="4511880"/>
                <a:ext cx="7467480" cy="60948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1682280" y="4618080"/>
                <a:ext cx="7040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3366ff"/>
                    </a:solidFill>
                    <a:latin typeface="Times New Roman"/>
                  </a:rPr>
                  <a:t>Dimensione ottimale aziende:15/18 milioni di km prodotti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29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"/>
          <p:cNvSpPr/>
          <p:nvPr/>
        </p:nvSpPr>
        <p:spPr>
          <a:xfrm>
            <a:off x="1181160" y="32076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PPLICAZIONE DELLA DEA – I risult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utput: pax trasportati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8364600" y="656424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2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2833" name=""/>
          <p:cNvSpPr/>
          <p:nvPr/>
        </p:nvSpPr>
        <p:spPr>
          <a:xfrm>
            <a:off x="6515280" y="6688080"/>
            <a:ext cx="14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4" name=""/>
          <p:cNvGrpSpPr/>
          <p:nvPr/>
        </p:nvGrpSpPr>
        <p:grpSpPr>
          <a:xfrm>
            <a:off x="374760" y="1138320"/>
            <a:ext cx="8547120" cy="5572080"/>
            <a:chOff x="374760" y="1138320"/>
            <a:chExt cx="8547120" cy="5572080"/>
          </a:xfrm>
        </p:grpSpPr>
        <p:sp>
          <p:nvSpPr>
            <p:cNvPr id="2835" name=""/>
            <p:cNvSpPr/>
            <p:nvPr/>
          </p:nvSpPr>
          <p:spPr>
            <a:xfrm>
              <a:off x="387360" y="6568920"/>
              <a:ext cx="8524800" cy="13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83360" y="1217520"/>
              <a:ext cx="42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ziende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922040" y="1155600"/>
              <a:ext cx="94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fficienza tecnica -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903680" y="1284120"/>
              <a:ext cx="942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rendimenti costant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592440" y="1155600"/>
              <a:ext cx="89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fficienza tecnica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535560" y="1284120"/>
              <a:ext cx="97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Rendimenti variabil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167080" y="1217520"/>
              <a:ext cx="91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fficienza di scal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12560" y="1409760"/>
              <a:ext cx="83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Star Ascoli Pice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378880" y="1409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3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165560" y="140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617440" y="1409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3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681960" y="140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955200" y="14097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13640" y="1535040"/>
              <a:ext cx="54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Ssit Spolet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378880" y="15350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029840" y="15350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7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653800" y="15350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681960" y="153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954480" y="15350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547040" y="153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797960" y="15350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14000" y="1660680"/>
              <a:ext cx="715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Rama Grosset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378880" y="16606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19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029840" y="16606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6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617440" y="16606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2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681960" y="166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954840" y="16606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47040" y="166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797960" y="16606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86640" y="16606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14720" y="1784520"/>
              <a:ext cx="53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at Carrar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378880" y="17845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8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165560" y="178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617440" y="17845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8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681960" y="178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54840" y="17845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547040" y="178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797960" y="17845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50120" y="178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13640" y="190800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Ami Urb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2418480" y="1908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029840" y="19080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4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617440" y="19080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6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681960" y="190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54840" y="19080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547040" y="190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797960" y="19080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486280" y="1908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12920" y="2039760"/>
              <a:ext cx="51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Stp Brindis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2378880" y="2039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19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029840" y="2039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617440" y="2039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681960" y="203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955200" y="20397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250120" y="203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14000" y="2174760"/>
              <a:ext cx="61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Fc Catanzar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378880" y="2174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10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029840" y="2174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0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5617440" y="2174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5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681960" y="217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955200" y="21747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13640" y="2300400"/>
              <a:ext cx="55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Tpt Carasc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378880" y="23004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4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29840" y="23004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9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5617440" y="23004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7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681960" y="2300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954480" y="23004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547040" y="2300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797960" y="23004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3280" y="2424240"/>
              <a:ext cx="60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opit Pistoi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378880" y="2424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4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069440" y="24242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617440" y="2424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681960" y="242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954480" y="24242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547040" y="2424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797960" y="2424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14360" y="2548080"/>
              <a:ext cx="51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lap Lucc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378880" y="2548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2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029840" y="2548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7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617440" y="2548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9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681960" y="2548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955200" y="2548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13280" y="2682720"/>
              <a:ext cx="576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s Savo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378880" y="2682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5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029840" y="2682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7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617440" y="2682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3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681960" y="268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954480" y="2682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547040" y="268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97960" y="26827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486280" y="2682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16520" y="2806560"/>
              <a:ext cx="73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ap Pordenon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378880" y="2806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8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029840" y="2806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7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617440" y="2806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5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681960" y="2806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954840" y="2806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547040" y="2806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797960" y="2806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8250120" y="2806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486640" y="2806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12920" y="293220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 Tern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378880" y="2932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029840" y="2932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4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617440" y="2932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8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681960" y="2932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954840" y="2932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547040" y="2932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97960" y="2932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250120" y="2932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14000" y="3057480"/>
              <a:ext cx="902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Dolomitibus Bellu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378880" y="30574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029840" y="30574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9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617440" y="30574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9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681960" y="3057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954840" y="30574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547040" y="3057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797960" y="30574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1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14000" y="3182760"/>
              <a:ext cx="68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pam Mantov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378880" y="3182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6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029840" y="3182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6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617440" y="31827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5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68196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954840" y="31827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547040" y="3182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97960" y="31827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12920" y="3306600"/>
              <a:ext cx="36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r Forlì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378880" y="3306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0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029840" y="3306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8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617440" y="3306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4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681960" y="330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954480" y="33066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47040" y="3306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797960" y="33066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13280" y="3432240"/>
              <a:ext cx="76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empi  Piacenz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418480" y="34322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029840" y="3432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8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617440" y="3432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6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68196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954840" y="3432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547040" y="3432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797600" y="34322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86640" y="3432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12560" y="3557520"/>
              <a:ext cx="57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im Vicenz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378880" y="35575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8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029840" y="35575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4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617440" y="35575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681960" y="3557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954840" y="35575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547040" y="3557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797960" y="35575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250120" y="3557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86280" y="35575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3280" y="368316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ctf Ferrar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378880" y="3683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8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029840" y="3683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5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617440" y="36831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8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681960" y="3683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954840" y="3683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547040" y="3683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797600" y="368316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250120" y="3683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13640" y="3808440"/>
              <a:ext cx="63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m Mode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378880" y="38084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9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029840" y="38084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617440" y="38084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8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642360" y="38084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954480" y="38084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547040" y="38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797960" y="38084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13640" y="3932280"/>
              <a:ext cx="38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pt Pis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378880" y="3932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5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029840" y="3932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4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617440" y="3932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6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681960" y="393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954840" y="3932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547040" y="393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797960" y="3932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4720" y="4057560"/>
              <a:ext cx="54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pt Veron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378880" y="4057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5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069440" y="40575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617440" y="4057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4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681960" y="405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954840" y="4057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547040" y="405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797960" y="4057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13280" y="4183200"/>
              <a:ext cx="597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Gtm Pescar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378880" y="4183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6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069440" y="41832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617440" y="41832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4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642360" y="4183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955200" y="418320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13640" y="4308480"/>
              <a:ext cx="48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l Livor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418480" y="43084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2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029840" y="43084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6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653800" y="43084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681960" y="430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954840" y="43084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547040" y="430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797960" y="43084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12560" y="4432320"/>
              <a:ext cx="837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ct Reggio Emili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378880" y="4432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029840" y="4432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5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617440" y="4432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6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68196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954840" y="44323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547040" y="443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797960" y="44323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14360" y="4557600"/>
              <a:ext cx="55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ra.In Sie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378880" y="4557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6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029840" y="4557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7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53800" y="45576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68196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954840" y="45576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4704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797960" y="45576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13640" y="4683240"/>
              <a:ext cx="6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 La Spez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378880" y="4683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6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029840" y="4683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7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617440" y="4683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1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681960" y="4683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954840" y="4683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47040" y="4683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797960" y="4683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6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10040" y="4808520"/>
              <a:ext cx="87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Tram servizi Rimin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378880" y="48085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6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029840" y="48085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0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617440" y="48085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2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681960" y="48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954840" y="48085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47040" y="480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797960" y="48085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486640" y="48085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14360" y="4933800"/>
              <a:ext cx="59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stp Saler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378880" y="4933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30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029840" y="4933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4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617440" y="49338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8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681960" y="49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954840" y="4933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47040" y="49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797960" y="4933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4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250120" y="4933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486280" y="4933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15800" y="5057640"/>
              <a:ext cx="901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Conerobus Ancon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418480" y="5057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029840" y="50576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6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617440" y="50576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68196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54840" y="50576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9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470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797960" y="50576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25012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14360" y="518328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Tep Parm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378880" y="5183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6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029840" y="5183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8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617440" y="5183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6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681960" y="5183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954480" y="51832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547040" y="5183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797960" y="5183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486640" y="5183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14360" y="5315040"/>
              <a:ext cx="61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pm Perugi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378880" y="53150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7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029840" y="53150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9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653800" y="53150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681960" y="531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954840" y="53150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47040" y="531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797960" y="53150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3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250120" y="531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12560" y="544032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Bt Bres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378880" y="5440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5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029840" y="54403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86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653800" y="5440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681960" y="544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954840" y="54403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1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47040" y="544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797600" y="54403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14360" y="5565600"/>
              <a:ext cx="59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b Bergam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514600" y="556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165560" y="556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617440" y="55656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681960" y="556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954840" y="55656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47040" y="556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797960" y="55656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7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14360" y="5691240"/>
              <a:ext cx="552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ps Padov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78880" y="5691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3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029840" y="5691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3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17440" y="569124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9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681960" y="5691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954840" y="5691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4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547040" y="5691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797960" y="56912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12560" y="5815080"/>
              <a:ext cx="64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cms Caser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378880" y="58150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165560" y="581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749920" y="581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681960" y="581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954840" y="5815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6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47040" y="581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797600" y="58150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12920" y="5940360"/>
              <a:ext cx="59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ctv Venez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378880" y="59403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5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165560" y="5940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17440" y="59403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5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642360" y="5940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955200" y="59403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14360" y="6066000"/>
              <a:ext cx="552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c Bolog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378880" y="60660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069440" y="6066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9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617440" y="606600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8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642360" y="606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955200" y="606600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13280" y="6191280"/>
              <a:ext cx="50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tm Tor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378880" y="6191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50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029840" y="6191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79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617440" y="6191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3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642360" y="6191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954840" y="6191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507800" y="6191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797960" y="6191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55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414360" y="631656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mt genov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378880" y="6316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0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165560" y="6316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617440" y="6316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60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642360" y="6316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955200" y="631656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14000" y="6438960"/>
              <a:ext cx="52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ffffff"/>
                  </a:solidFill>
                  <a:latin typeface="Arial"/>
                </a:rPr>
                <a:t>Anm Napol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378880" y="64389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4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4165560" y="643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617440" y="64389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,44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642360" y="6438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954840" y="64389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8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7800" y="6438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797960" y="64389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Arial"/>
                </a:rPr>
                <a:t>32%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25480" y="6568920"/>
              <a:ext cx="35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MEDIA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418480" y="65689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0,4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069440" y="65689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0,6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653800" y="65689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0,6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35160" y="1208160"/>
              <a:ext cx="27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ffff"/>
                  </a:solidFill>
                  <a:latin typeface="Arial"/>
                </a:rPr>
                <a:t>Peer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735200" y="1157400"/>
              <a:ext cx="1440" cy="23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735200" y="1157400"/>
              <a:ext cx="1440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343320" y="116208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343320" y="1162080"/>
              <a:ext cx="12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343320" y="118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343320" y="1185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343320" y="12254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343320" y="12254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343320" y="1263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343320" y="1263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343320" y="130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3343320" y="1301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343320" y="1339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43320" y="1339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343320" y="137808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343320" y="1378080"/>
              <a:ext cx="126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037120" y="116208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037120" y="116208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037120" y="118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37120" y="1185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037120" y="12254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037120" y="12254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037120" y="1263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037120" y="12636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037120" y="130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037120" y="1301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037120" y="1339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037120" y="1339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037120" y="137808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037120" y="1378080"/>
              <a:ext cx="144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515280" y="116208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515280" y="1162080"/>
              <a:ext cx="14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515280" y="118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515280" y="11858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515280" y="12254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515280" y="12254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515280" y="1263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515280" y="126360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515280" y="130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515280" y="13017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515280" y="1339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515280" y="13399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515280" y="1378080"/>
              <a:ext cx="1440" cy="2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515280" y="1378080"/>
              <a:ext cx="140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735200" y="141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735200" y="1419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735200" y="145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735200" y="1455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735200" y="1494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735200" y="1494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735200" y="153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735200" y="15318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735200" y="157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735200" y="1571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735200" y="1609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735200" y="16095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735200" y="1647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735200" y="1647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735200" y="16858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735200" y="168588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735200" y="1725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735200" y="1725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735200" y="1763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735200" y="1763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735200" y="180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735200" y="1801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735200" y="1839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735200" y="18399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735200" y="1879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735200" y="18795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735200" y="1917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735200" y="19177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735200" y="1955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735200" y="1955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735200" y="1994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735200" y="1994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735200" y="2033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735200" y="2033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735200" y="207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735200" y="2071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735200" y="2109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735200" y="2109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1735200" y="2147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1735200" y="21477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1735200" y="2185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1735200" y="21859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1735200" y="2225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1735200" y="22255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735200" y="2263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735200" y="22636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735200" y="230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735200" y="2301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735200" y="2340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735200" y="23400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735200" y="2379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735200" y="23796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735200" y="241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735200" y="2417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735200" y="2455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735200" y="2455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735200" y="24940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1735200" y="249408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1735200" y="2533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1735200" y="2533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1735200" y="257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1735200" y="2571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1735200" y="2610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735200" y="2610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1735200" y="2647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735200" y="26478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1735200" y="268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735200" y="2687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735200" y="2725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1735200" y="27255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1735200" y="2763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1735200" y="2763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1735200" y="2801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1735200" y="28018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1735200" y="2841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735200" y="2841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735200" y="2879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735200" y="2879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735200" y="291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735200" y="2917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735200" y="295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735200" y="2955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735200" y="2994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735200" y="29941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735200" y="3033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735200" y="30337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735200" y="3071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735200" y="3071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735200" y="3110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735200" y="3110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735200" y="31478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735200" y="314784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1735200" y="318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1735200" y="3187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735200" y="322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735200" y="3225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735200" y="3263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1735200" y="32637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1735200" y="3301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1735200" y="33019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1735200" y="3341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735200" y="33415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735200" y="3379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735200" y="33796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735200" y="3417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1735200" y="34178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1735200" y="3456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1735200" y="34560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1735200" y="3495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1735200" y="34956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1735200" y="3533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1735200" y="3533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1735200" y="357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1735200" y="3571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1735200" y="3610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735200" y="36100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73520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735200" y="3649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735200" y="3687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1735200" y="3687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735200" y="3726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735200" y="3726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1735200" y="3763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1735200" y="37638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735200" y="3801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735200" y="38019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735200" y="384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1735200" y="3841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1735200" y="3879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1735200" y="3879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1735200" y="3917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1735200" y="39178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1735200" y="3956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1735200" y="395604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735200" y="3995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1735200" y="3995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1735200" y="403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1735200" y="4033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1735200" y="407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1735200" y="4071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1735200" y="4110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735200" y="41101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1735200" y="4149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1735200" y="41497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1735200" y="418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735200" y="4187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1735200" y="4226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1735200" y="4226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1735200" y="426420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1735200" y="426420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1735200" y="430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1735200" y="4303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1735200" y="434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735200" y="4341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1735200" y="4379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735200" y="43797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1735200" y="4417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1735200" y="44179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1735200" y="445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1735200" y="4457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1735200" y="4495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735200" y="44956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1735200" y="4533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1735200" y="45338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1735200" y="457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1735200" y="4572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735200" y="4611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1735200" y="46116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1735200" y="4649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1735200" y="4649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1735200" y="468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1735200" y="4687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1735200" y="4726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735200" y="47260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1735200" y="4764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1735200" y="476424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735200" y="48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1735200" y="4803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735200" y="484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735200" y="4842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1735200" y="487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1735200" y="48798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1735200" y="4917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1735200" y="49179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1735200" y="495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1735200" y="4957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1735200" y="4995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735200" y="4995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735200" y="5033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735200" y="50338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735200" y="5072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735200" y="507204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1735200" y="5111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1735200" y="5111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735200" y="514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735200" y="51498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735200" y="518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735200" y="5187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735200" y="5226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735200" y="52261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1735200" y="5265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1735200" y="52657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1735200" y="5303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1735200" y="5303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1735200" y="5342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735200" y="5342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1735200" y="5380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735200" y="53802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735200" y="5419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735200" y="5419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735200" y="545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735200" y="5457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1735200" y="5495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1735200" y="54957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735200" y="5533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735200" y="55339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735200" y="55720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735200" y="557208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735200" y="5611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735200" y="56116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735200" y="5649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735200" y="56498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735200" y="568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735200" y="5688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735200" y="5726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735200" y="57261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735200" y="5765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735200" y="5765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735200" y="580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735200" y="5803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735200" y="5842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735200" y="58420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735200" y="5880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735200" y="588024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1735200" y="5919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1735200" y="5919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735200" y="595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1735200" y="5958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1735200" y="59961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735200" y="59961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735200" y="603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735200" y="60339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735200" y="607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735200" y="6073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735200" y="6111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735200" y="6111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735200" y="6149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735200" y="61498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735200" y="618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735200" y="6188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735200" y="6227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735200" y="6227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735200" y="6265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735200" y="62658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735200" y="6303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735200" y="6303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735200" y="63421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735200" y="63421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1735200" y="63802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1735200" y="638028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1735200" y="6419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1735200" y="6419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1735200" y="645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1735200" y="6458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735200" y="6496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1735200" y="64962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735200" y="6534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735200" y="65340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515280" y="141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515280" y="1419120"/>
              <a:ext cx="140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515280" y="145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515280" y="14558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515280" y="1494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515280" y="14940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515280" y="153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515280" y="153180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515280" y="157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515280" y="15717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515280" y="1609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515280" y="160956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515280" y="1647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515280" y="16477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515280" y="16858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515280" y="168588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515280" y="1725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515280" y="17254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515280" y="1763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515280" y="17636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515280" y="180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6515280" y="18018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6515280" y="1839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6515280" y="183996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6515280" y="1879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515280" y="18795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6515280" y="1917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6515280" y="19177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6515280" y="1955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6515280" y="19558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515280" y="1994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515280" y="19940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515280" y="2033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6515280" y="20336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515280" y="207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515280" y="20718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515280" y="2109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515280" y="21099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515280" y="2147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515280" y="214776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6515280" y="2185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515280" y="218592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515280" y="2225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515280" y="22255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6515280" y="2263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515280" y="22636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515280" y="230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515280" y="23018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515280" y="2340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515280" y="234000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515280" y="2379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515280" y="237960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515280" y="241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515280" y="24177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515280" y="2455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515280" y="24559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515280" y="24940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515280" y="2494080"/>
              <a:ext cx="1404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515280" y="2533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515280" y="25336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515280" y="257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515280" y="25718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515280" y="2610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515280" y="26100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515280" y="2647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515280" y="264780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515280" y="268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515280" y="26877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515280" y="2725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515280" y="272556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515280" y="2763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515280" y="27637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15280" y="2801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515280" y="28018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515280" y="2841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515280" y="28414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515280" y="2879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515280" y="28796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515280" y="291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515280" y="29178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515280" y="295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515280" y="29559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515280" y="2994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515280" y="299412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515280" y="3033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515280" y="30337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515280" y="3071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515280" y="30718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515280" y="3110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515280" y="31100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515280" y="31478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515280" y="314784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515280" y="318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515280" y="31878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515280" y="322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515280" y="32259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515280" y="3263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515280" y="326376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515280" y="3301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515280" y="330192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515280" y="3341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515280" y="33415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15280" y="3379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15280" y="33796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515280" y="3417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515280" y="34178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515280" y="3456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515280" y="345600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515280" y="3495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515280" y="349560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515280" y="3533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515280" y="35337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515280" y="357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515280" y="35719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515280" y="3610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515280" y="36100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51528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515280" y="36496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515280" y="3687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515280" y="36878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15280" y="3726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15280" y="37260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515280" y="3763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515280" y="376380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515280" y="3801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515280" y="380196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515280" y="384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15280" y="38419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15280" y="3879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515280" y="38797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515280" y="3917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515280" y="39178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515280" y="3956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515280" y="395604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15280" y="3995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15280" y="39956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15280" y="403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15280" y="40338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15280" y="407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15280" y="40719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15280" y="4110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15280" y="411012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15280" y="4149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15280" y="41497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15280" y="418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515280" y="41878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515280" y="4226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15280" y="42260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515280" y="426420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515280" y="4264200"/>
              <a:ext cx="1404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515280" y="430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515280" y="43038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515280" y="434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515280" y="43419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515280" y="4379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515280" y="437976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515280" y="4417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515280" y="44179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515280" y="445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515280" y="44578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515280" y="4495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515280" y="44956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515280" y="4533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515280" y="45338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515280" y="457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515280" y="45720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515280" y="4611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515280" y="461160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515280" y="4649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515280" y="46497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515280" y="468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515280" y="46879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515280" y="4726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515280" y="47260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15280" y="4764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515280" y="4764240"/>
              <a:ext cx="1404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515280" y="48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515280" y="48038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15280" y="484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15280" y="48420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15280" y="487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15280" y="487980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15280" y="4917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15280" y="491796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15280" y="495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15280" y="49579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15280" y="4995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15280" y="49957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15280" y="5033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15280" y="50338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6515280" y="5072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515280" y="507204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515280" y="5111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515280" y="51116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15280" y="514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6515280" y="514980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515280" y="518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515280" y="51879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6515280" y="5226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6515280" y="522612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6515280" y="5265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6515280" y="52657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6515280" y="5303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6515280" y="53038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6515280" y="5342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6515280" y="53420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515280" y="5380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515280" y="53802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6515280" y="5419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6515280" y="54198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515280" y="545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6515280" y="54579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6515280" y="5495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15280" y="549576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515280" y="5533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515280" y="55339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515280" y="55720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6515280" y="557208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6515280" y="5611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515280" y="56116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515280" y="5649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515280" y="56498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515280" y="568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515280" y="56880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515280" y="5726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6515280" y="572616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515280" y="5765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515280" y="57657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515280" y="580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15280" y="58039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6515280" y="5842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515280" y="58420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515280" y="5880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515280" y="5880240"/>
              <a:ext cx="1404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515280" y="5919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515280" y="59198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515280" y="595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6515280" y="59580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6515280" y="59961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6515280" y="59961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6515280" y="603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515280" y="603396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15280" y="607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6515280" y="60739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515280" y="6111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515280" y="61117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6515280" y="6149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6515280" y="614988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515280" y="618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515280" y="61880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515280" y="6227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6515280" y="622764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6515280" y="6265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6515280" y="626580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6515280" y="6303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6515280" y="630396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6515280" y="63421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515280" y="634212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6515280" y="63802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6515280" y="6380280"/>
              <a:ext cx="1404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6515280" y="6419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6515280" y="641988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6515280" y="645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6515280" y="645804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6515280" y="6496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6515280" y="6496200"/>
              <a:ext cx="14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6515280" y="6534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515280" y="6534000"/>
              <a:ext cx="1404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374760" y="1138320"/>
              <a:ext cx="27000" cy="5572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735200" y="6578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735200" y="6578640"/>
              <a:ext cx="14400" cy="1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343320" y="141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343320" y="1419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343320" y="145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3343320" y="1455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3343320" y="1494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3343320" y="1494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3343320" y="153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3343320" y="1531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3343320" y="157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3343320" y="1571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3343320" y="1609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343320" y="1609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343320" y="1647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343320" y="1647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343320" y="16858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343320" y="16858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343320" y="1725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343320" y="1725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343320" y="1763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343320" y="1763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343320" y="180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43320" y="180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343320" y="1839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3343320" y="1839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343320" y="1879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343320" y="18795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343320" y="1917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343320" y="1917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343320" y="1955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343320" y="1955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343320" y="1994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343320" y="1994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343320" y="2033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343320" y="20336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3343320" y="207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343320" y="207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343320" y="2109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343320" y="2109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343320" y="2147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343320" y="2147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343320" y="2185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343320" y="2185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343320" y="2225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343320" y="2225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343320" y="2263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343320" y="2263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343320" y="230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343320" y="230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3343320" y="2340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3343320" y="2340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3343320" y="2379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343320" y="2379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3343320" y="241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3343320" y="241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3343320" y="2455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3343320" y="2455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3343320" y="24940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3343320" y="24940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3343320" y="2533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3343320" y="2533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3343320" y="257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3343320" y="257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3343320" y="2610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3343320" y="2610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3343320" y="2647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3343320" y="2647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343320" y="268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3343320" y="268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3343320" y="2725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343320" y="2725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3343320" y="2763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3343320" y="2763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3343320" y="2801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343320" y="2801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3343320" y="2841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3343320" y="2841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3343320" y="2879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3343320" y="2879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343320" y="291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3343320" y="291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3343320" y="295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343320" y="295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3343320" y="2994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3343320" y="2994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3343320" y="3033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3343320" y="3033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3343320" y="3071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3343320" y="3071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343320" y="3110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3343320" y="3110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3343320" y="31478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343320" y="31478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3343320" y="318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343320" y="318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43320" y="322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3343320" y="322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3343320" y="3263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3343320" y="3263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3343320" y="3301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3343320" y="3301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3343320" y="3341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3343320" y="3341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3343320" y="3379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3343320" y="3379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3343320" y="3417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3343320" y="3417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3343320" y="3456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3343320" y="3456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3343320" y="3495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3343320" y="3495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3343320" y="3533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3343320" y="3533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3343320" y="357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343320" y="357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343320" y="3610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3343320" y="3610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334332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3343320" y="3649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3343320" y="3687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3343320" y="3687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343320" y="3726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3343320" y="3726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3343320" y="3763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3343320" y="3763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3343320" y="3801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343320" y="3801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3343320" y="384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3343320" y="384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3343320" y="3879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3343320" y="3879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3343320" y="3917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3343320" y="3917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3343320" y="3956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3343320" y="3956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3343320" y="3995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343320" y="3995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3343320" y="403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3343320" y="403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3343320" y="407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3343320" y="407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343320" y="4110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343320" y="4110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343320" y="4149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343320" y="4149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343320" y="418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343320" y="418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343320" y="4226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343320" y="4226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3343320" y="426420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343320" y="426420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343320" y="430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3343320" y="430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3343320" y="434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3343320" y="434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3343320" y="4379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343320" y="4379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343320" y="4417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343320" y="4417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343320" y="445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3343320" y="445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3343320" y="4495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3343320" y="4495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343320" y="4533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343320" y="4533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343320" y="457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343320" y="457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343320" y="4611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343320" y="4611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343320" y="4649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343320" y="4649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343320" y="468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343320" y="468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343320" y="4726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343320" y="4726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343320" y="4764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343320" y="4764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3343320" y="48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3343320" y="4803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3343320" y="484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3343320" y="484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3343320" y="487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343320" y="487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3343320" y="4917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3343320" y="4917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3343320" y="495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3343320" y="495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3343320" y="4995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3343320" y="4995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3343320" y="5033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3343320" y="5033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3343320" y="5072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3343320" y="5072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3343320" y="5111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3343320" y="5111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3343320" y="514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343320" y="514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3343320" y="518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343320" y="518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343320" y="5226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343320" y="5226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3343320" y="5265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343320" y="5265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3343320" y="5303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343320" y="5303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343320" y="5342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343320" y="5342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3343320" y="5380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343320" y="5380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3343320" y="5419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3343320" y="5419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3343320" y="545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3343320" y="545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3343320" y="5495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343320" y="5495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343320" y="5533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343320" y="5533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343320" y="55720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343320" y="55720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3343320" y="5611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3343320" y="5611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3343320" y="5649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343320" y="5649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343320" y="568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343320" y="568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343320" y="5726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3343320" y="57261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3343320" y="5765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343320" y="5765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3343320" y="580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343320" y="580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3343320" y="5842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3343320" y="5842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3343320" y="5880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3343320" y="5880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3343320" y="5919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3343320" y="5919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343320" y="595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3343320" y="595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343320" y="59961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3343320" y="59961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3343320" y="603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3343320" y="6033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3343320" y="607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3343320" y="607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3343320" y="6111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43320" y="6111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343320" y="6149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343320" y="6149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343320" y="618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3343320" y="618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3343320" y="6227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3343320" y="6227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3343320" y="6265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343320" y="6265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343320" y="6303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343320" y="6303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343320" y="63421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3343320" y="63421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3343320" y="63802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3343320" y="63802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3343320" y="6419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3343320" y="6419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343320" y="645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343320" y="645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3343320" y="6496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3343320" y="6496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343320" y="6534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343320" y="6534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037120" y="141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037120" y="1419120"/>
              <a:ext cx="144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037120" y="145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037120" y="1455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037120" y="1494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037120" y="1494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037120" y="153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037120" y="15318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037120" y="157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037120" y="1571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037120" y="1609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037120" y="16095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037120" y="1647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037120" y="1647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037120" y="16858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037120" y="168588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037120" y="1725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037120" y="1725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037120" y="1763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037120" y="1763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037120" y="180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037120" y="1801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037120" y="1839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037120" y="18399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037120" y="1879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037120" y="18795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037120" y="1917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037120" y="19177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037120" y="1955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037120" y="1955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037120" y="1994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037120" y="1994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037120" y="2033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037120" y="20336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037120" y="207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037120" y="2071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037120" y="2109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037120" y="2109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037120" y="2147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037120" y="21477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037120" y="2185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037120" y="21859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037120" y="2225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037120" y="22255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037120" y="2263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037120" y="22636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037120" y="230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037120" y="2301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037120" y="2340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037120" y="23400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037120" y="2379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037120" y="23796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037120" y="241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037120" y="2417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037120" y="2455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037120" y="2455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5037120" y="24940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037120" y="249408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037120" y="2533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037120" y="2533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037120" y="257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037120" y="2571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37120" y="2610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037120" y="2610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037120" y="2647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037120" y="26478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037120" y="268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037120" y="2687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037120" y="2725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037120" y="27255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037120" y="2763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037120" y="2763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037120" y="2801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037120" y="28018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037120" y="2841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037120" y="28414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037120" y="2879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037120" y="2879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037120" y="291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037120" y="2917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037120" y="295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037120" y="2955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037120" y="2994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037120" y="29941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037120" y="3033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037120" y="30337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037120" y="3071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037120" y="3071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7120" y="3110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7120" y="3110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37120" y="31478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037120" y="314784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037120" y="318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037120" y="3187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037120" y="322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037120" y="3225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037120" y="3263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037120" y="32637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037120" y="3301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037120" y="33019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037120" y="3341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037120" y="33415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037120" y="3379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5037120" y="33796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5037120" y="3417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037120" y="34178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037120" y="3456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037120" y="34560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037120" y="3495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037120" y="34956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037120" y="3533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037120" y="3533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037120" y="357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037120" y="3571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037120" y="3610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037120" y="36100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03712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037120" y="36496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037120" y="3687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037120" y="3687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37120" y="3726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037120" y="3726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037120" y="3763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037120" y="37638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037120" y="3801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037120" y="38019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037120" y="384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037120" y="3841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037120" y="3879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037120" y="3879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037120" y="3917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037120" y="39178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037120" y="3956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37120" y="395604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37120" y="3995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037120" y="3995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037120" y="403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037120" y="4033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037120" y="407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037120" y="4071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037120" y="4110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037120" y="41101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037120" y="4149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037120" y="41497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037120" y="418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037120" y="4187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037120" y="4226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037120" y="4226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037120" y="426420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037120" y="426420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5037120" y="430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5037120" y="4303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037120" y="434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037120" y="4341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5037120" y="4379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037120" y="43797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5037120" y="4417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037120" y="44179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037120" y="445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037120" y="4457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037120" y="4495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037120" y="44956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037120" y="4533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037120" y="45338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037120" y="457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037120" y="4572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5037120" y="4611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037120" y="46116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037120" y="4649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037120" y="4649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037120" y="468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037120" y="4687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5037120" y="4726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5037120" y="47260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037120" y="4764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037120" y="476424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5037120" y="48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037120" y="4803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037120" y="484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037120" y="4842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037120" y="487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5037120" y="48798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5037120" y="4917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037120" y="49179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5037120" y="495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037120" y="4957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5037120" y="4995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037120" y="4995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5037120" y="5033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5037120" y="50338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037120" y="5072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037120" y="507204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037120" y="5111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037120" y="5111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037120" y="514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037120" y="51498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037120" y="518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037120" y="5187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037120" y="5226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037120" y="522612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037120" y="5265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037120" y="52657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037120" y="5303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037120" y="5303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037120" y="5342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037120" y="5342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5037120" y="5380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037120" y="53802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37120" y="5419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37120" y="54198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037120" y="545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037120" y="5457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5037120" y="5495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5037120" y="549576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037120" y="5533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5037120" y="55339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5037120" y="55720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037120" y="557208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5037120" y="5611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037120" y="56116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037120" y="5649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037120" y="56498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037120" y="568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5037120" y="5688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037120" y="5726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037120" y="57261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5037120" y="5765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037120" y="57657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037120" y="580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5037120" y="5803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5037120" y="5842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037120" y="58420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037120" y="5880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037120" y="588024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037120" y="5919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037120" y="59198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037120" y="595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037120" y="59580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5037120" y="59961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037120" y="59961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037120" y="603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037120" y="603396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037120" y="607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037120" y="60739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037120" y="6111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037120" y="611172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037120" y="6149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037120" y="614988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037120" y="618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037120" y="6188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037120" y="6227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5037120" y="622764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5037120" y="6265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037120" y="6265800"/>
              <a:ext cx="144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037120" y="6303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5037120" y="630396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037120" y="63421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037120" y="634212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037120" y="63802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037120" y="6380280"/>
              <a:ext cx="144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037120" y="6419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037120" y="641988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037120" y="645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037120" y="645804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037120" y="6496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037120" y="6496200"/>
              <a:ext cx="144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037120" y="6534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037120" y="6534000"/>
              <a:ext cx="144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515280" y="658332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515280" y="6583320"/>
              <a:ext cx="140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515280" y="6611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515280" y="661176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515280" y="6649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515280" y="6649920"/>
              <a:ext cx="14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515280" y="668808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8894880" y="1157400"/>
              <a:ext cx="27000" cy="555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921360" y="14191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921360" y="1419120"/>
              <a:ext cx="129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921360" y="1455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921360" y="14558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921360" y="14940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921360" y="14940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921360" y="1531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921360" y="153180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6921360" y="15717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6921360" y="15717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921360" y="16095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6921360" y="160956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921360" y="16477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6921360" y="16477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6921360" y="168588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6921360" y="168588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921360" y="17254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921360" y="17254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921360" y="17636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921360" y="17636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921360" y="18018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921360" y="18018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921360" y="1839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6921360" y="183996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921360" y="1879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921360" y="18795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6921360" y="19177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6921360" y="19177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921360" y="19558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6921360" y="19558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921360" y="1994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6921360" y="19940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6921360" y="20336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6921360" y="20336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6921360" y="20718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6921360" y="20718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6921360" y="21099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921360" y="21099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921360" y="21477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921360" y="214776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921360" y="218592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921360" y="218592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921360" y="22255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921360" y="22255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921360" y="22636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921360" y="22636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921360" y="2301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6921360" y="23018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921360" y="23400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921360" y="234000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921360" y="237960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921360" y="237960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921360" y="24177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921360" y="24177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921360" y="24559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921360" y="24559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921360" y="24940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921360" y="2494080"/>
              <a:ext cx="1296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921360" y="25336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921360" y="25336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921360" y="2571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921360" y="25718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921360" y="26100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921360" y="26100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921360" y="26478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921360" y="264780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921360" y="26877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921360" y="26877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921360" y="27255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21360" y="272556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921360" y="27637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921360" y="27637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921360" y="28018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921360" y="28018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921360" y="28414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921360" y="28414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921360" y="28796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921360" y="28796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921360" y="29178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921360" y="29178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921360" y="29559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921360" y="29559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921360" y="299412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921360" y="299412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921360" y="30337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921360" y="30337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6921360" y="30718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921360" y="30718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6921360" y="3110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921360" y="31100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6921360" y="31478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921360" y="314784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6921360" y="31878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6921360" y="31878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6921360" y="32259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921360" y="32259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921360" y="32637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921360" y="326376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6921360" y="330192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921360" y="330192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921360" y="33415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6921360" y="33415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6921360" y="33796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6921360" y="33796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6921360" y="34178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921360" y="34178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6921360" y="34560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6921360" y="345600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6921360" y="349560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921360" y="349560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921360" y="35337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921360" y="35337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921360" y="35719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921360" y="35719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921360" y="36100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921360" y="36100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921360" y="36496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921360" y="36496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921360" y="3687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921360" y="36878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6921360" y="37260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921360" y="37260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921360" y="376380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921360" y="376380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921360" y="3801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921360" y="380196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921360" y="38419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921360" y="38419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921360" y="38797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921360" y="38797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921360" y="39178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921360" y="39178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921360" y="39560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921360" y="395604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921360" y="39956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921360" y="39956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921360" y="40338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921360" y="40338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921360" y="40719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921360" y="40719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921360" y="411012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921360" y="411012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6921360" y="41497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921360" y="41497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921360" y="41878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921360" y="41878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6921360" y="4226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6921360" y="42260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6921360" y="426420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6921360" y="4264200"/>
              <a:ext cx="1296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921360" y="43038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921360" y="43038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921360" y="43419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921360" y="43419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921360" y="43797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921360" y="437976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921360" y="44179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921360" y="44179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6921360" y="44578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921360" y="44578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921360" y="44956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921360" y="44956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921360" y="45338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921360" y="45338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921360" y="45720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6921360" y="45720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921360" y="461160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6921360" y="461160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6921360" y="46497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6921360" y="46497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6921360" y="46879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6921360" y="46879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6921360" y="47260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6921360" y="47260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6921360" y="47642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6921360" y="4764240"/>
              <a:ext cx="1296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6921360" y="4803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6921360" y="48038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6921360" y="48420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6921360" y="48420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6921360" y="487980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6921360" y="487980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6921360" y="4917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6921360" y="491796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6921360" y="49579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6921360" y="49579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6921360" y="49957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6921360" y="49957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6921360" y="50338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6921360" y="50338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6921360" y="507204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921360" y="507204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6921360" y="51116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6921360" y="51116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6921360" y="514980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6921360" y="514980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6921360" y="51879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6921360" y="51879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6921360" y="522612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6921360" y="522612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6921360" y="52657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6921360" y="52657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921360" y="53038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6921360" y="53038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921360" y="5342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921360" y="53420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921360" y="53802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921360" y="53802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921360" y="54198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921360" y="54198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921360" y="54579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921360" y="54579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921360" y="54957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921360" y="549576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6921360" y="55339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6921360" y="55339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6921360" y="557208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6921360" y="557208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6921360" y="56116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921360" y="56116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6921360" y="56498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6921360" y="56498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921360" y="56880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921360" y="56880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6921360" y="57261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921360" y="572616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921360" y="57657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6921360" y="57657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6921360" y="58039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921360" y="58039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6921360" y="58420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921360" y="58420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6921360" y="588024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921360" y="5880240"/>
              <a:ext cx="1296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6921360" y="59198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921360" y="59198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921360" y="59580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6921360" y="59580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921360" y="59961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6921360" y="59961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6921360" y="603396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6921360" y="603396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921360" y="60739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921360" y="60739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6921360" y="611172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921360" y="611172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6921360" y="614988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921360" y="614988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6921360" y="6188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6921360" y="61880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6921360" y="622764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6921360" y="622764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921360" y="626580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6921360" y="6265800"/>
              <a:ext cx="1296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921360" y="63039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6921360" y="630396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921360" y="63421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921360" y="634212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6921360" y="6380280"/>
              <a:ext cx="180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921360" y="6380280"/>
              <a:ext cx="1296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921360" y="641988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6921360" y="641988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921360" y="6458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921360" y="645804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6921360" y="649620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6921360" y="6496200"/>
              <a:ext cx="1296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6921360" y="653400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6921360" y="6534000"/>
              <a:ext cx="1296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7404120" y="141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7404120" y="1419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7404120" y="145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404120" y="1455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7404120" y="1494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7404120" y="1494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7404120" y="153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404120" y="1531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404120" y="157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404120" y="1571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7404120" y="1609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7404120" y="1609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7404120" y="1647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7404120" y="1647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7404120" y="16858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7404120" y="16858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7404120" y="1725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7404120" y="1725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7404120" y="1763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7404120" y="1763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7404120" y="180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7404120" y="180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7404120" y="1839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7404120" y="1839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7404120" y="1879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7404120" y="18795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7404120" y="1917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7404120" y="1917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7404120" y="1955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7404120" y="1955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7404120" y="1994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7404120" y="1994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7404120" y="2033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7404120" y="20336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7404120" y="207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7404120" y="207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7404120" y="2109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404120" y="2109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7404120" y="2147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7404120" y="2147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404120" y="2185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7404120" y="2185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7404120" y="2225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7404120" y="2225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7404120" y="2263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7404120" y="2263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7404120" y="230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7404120" y="230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7404120" y="2340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404120" y="2340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7404120" y="2379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7404120" y="2379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7404120" y="241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7404120" y="241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7404120" y="2455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404120" y="2455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7404120" y="24940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7404120" y="24940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404120" y="2533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7404120" y="2533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7404120" y="257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404120" y="257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7404120" y="2610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7404120" y="2610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404120" y="2647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7404120" y="2647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7404120" y="268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404120" y="268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7404120" y="2725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7404120" y="2725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404120" y="2763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7404120" y="2763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7404120" y="2801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404120" y="2801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7404120" y="2841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7404120" y="2841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404120" y="2879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7404120" y="2879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7404120" y="291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7404120" y="291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7404120" y="295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7404120" y="295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7404120" y="2994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404120" y="2994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404120" y="3033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7404120" y="3033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404120" y="3071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404120" y="3071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404120" y="3110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404120" y="3110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404120" y="31478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404120" y="31478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404120" y="318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404120" y="318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404120" y="322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404120" y="322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404120" y="3263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404120" y="3263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7404120" y="3301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7404120" y="3301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404120" y="3341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404120" y="3341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7404120" y="3379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404120" y="3379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404120" y="3417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404120" y="3417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404120" y="3456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404120" y="3456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404120" y="3495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404120" y="3495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404120" y="3533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404120" y="3533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404120" y="357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404120" y="357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404120" y="3610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404120" y="3610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40412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404120" y="3649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404120" y="3687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404120" y="3687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404120" y="3726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404120" y="3726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404120" y="3763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404120" y="3763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404120" y="3801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404120" y="3801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404120" y="384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04120" y="384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404120" y="3879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404120" y="3879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404120" y="3917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404120" y="3917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404120" y="3956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404120" y="3956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404120" y="3995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404120" y="3995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404120" y="403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404120" y="403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404120" y="407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404120" y="407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404120" y="4110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7404120" y="4110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404120" y="4149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7404120" y="4149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7404120" y="418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404120" y="418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7404120" y="4226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7404120" y="4226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404120" y="426420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7404120" y="426420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7404120" y="430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404120" y="430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7404120" y="434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7404120" y="434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404120" y="4379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7404120" y="4379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404120" y="4417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404120" y="4417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7404120" y="445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404120" y="445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404120" y="4495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7404120" y="4495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7404120" y="4533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404120" y="4533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7404120" y="457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7404120" y="457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404120" y="4611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7404120" y="4611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7404120" y="4649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404120" y="4649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7404120" y="468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404120" y="468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404120" y="4726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404120" y="4726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404120" y="4764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404120" y="4764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7404120" y="48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404120" y="4803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404120" y="484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7404120" y="484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404120" y="487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404120" y="487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404120" y="4917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7404120" y="4917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404120" y="495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7404120" y="495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404120" y="4995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7404120" y="4995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404120" y="5033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7404120" y="5033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7404120" y="5072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7404120" y="5072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7404120" y="5111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404120" y="5111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7404120" y="514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7404120" y="514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404120" y="518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7404120" y="518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404120" y="5226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404120" y="5226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404120" y="5265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7404120" y="5265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404120" y="5303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7404120" y="5303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404120" y="5342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404120" y="5342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7404120" y="5380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7404120" y="5380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404120" y="5419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404120" y="5419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404120" y="545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404120" y="545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404120" y="5495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404120" y="5495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404120" y="5533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404120" y="5533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404120" y="55720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404120" y="55720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404120" y="5611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404120" y="5611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404120" y="5649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7404120" y="5649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404120" y="568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404120" y="568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404120" y="5726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7404120" y="57261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404120" y="5765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404120" y="5765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7404120" y="580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404120" y="580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404120" y="5842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404120" y="5842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404120" y="5880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404120" y="5880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7404120" y="5919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404120" y="5919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7404120" y="595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404120" y="595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404120" y="59961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404120" y="59961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7404120" y="603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404120" y="6033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7404120" y="607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404120" y="607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404120" y="6111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7404120" y="6111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7404120" y="6149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404120" y="6149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7404120" y="618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7404120" y="618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404120" y="6227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7404120" y="6227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404120" y="6265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7404120" y="6265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7404120" y="6303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7404120" y="6303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7404120" y="63421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404120" y="63421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404120" y="63802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7404120" y="63802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7404120" y="6419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7404120" y="6419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7404120" y="645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7404120" y="645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7404120" y="6496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7404120" y="6496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7404120" y="6534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404120" y="6534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7764480" y="141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7764480" y="1419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7764480" y="145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7764480" y="1455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7764480" y="1494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7764480" y="1494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7764480" y="153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7764480" y="1531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7764480" y="157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7764480" y="1571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7764480" y="1609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7764480" y="1609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7764480" y="1647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7764480" y="1647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7764480" y="16858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7764480" y="16858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7764480" y="1725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7764480" y="1725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7764480" y="1763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7764480" y="1763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7764480" y="180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7764480" y="180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7764480" y="1839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7764480" y="1839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7764480" y="1879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7764480" y="18795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7764480" y="1917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7764480" y="1917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7764480" y="1955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7764480" y="1955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7764480" y="1994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764480" y="1994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764480" y="2033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764480" y="20336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7764480" y="207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7764480" y="207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7764480" y="2109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7764480" y="2109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7764480" y="2147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7764480" y="2147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7764480" y="2185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7764480" y="2185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7764480" y="2225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7764480" y="2225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7764480" y="2263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7764480" y="2263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7764480" y="230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7764480" y="230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7764480" y="2340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7764480" y="2340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7764480" y="2379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7764480" y="2379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7764480" y="241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7764480" y="241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7764480" y="2455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7764480" y="2455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7764480" y="24940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7764480" y="24940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7764480" y="2533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7764480" y="2533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7764480" y="257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764480" y="257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7764480" y="2610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7764480" y="2610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764480" y="2647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764480" y="2647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764480" y="268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764480" y="268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764480" y="2725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764480" y="2725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764480" y="2763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764480" y="2763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7764480" y="2801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764480" y="2801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7764480" y="2841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7764480" y="2841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7764480" y="2879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7764480" y="2879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7764480" y="291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764480" y="291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7764480" y="295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7764480" y="295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7764480" y="2994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7764480" y="2994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7764480" y="3033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7764480" y="3033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7764480" y="3071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7764480" y="3071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7764480" y="3110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7764480" y="3110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7764480" y="31478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7764480" y="31478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7764480" y="318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7764480" y="318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7764480" y="322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7764480" y="322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7764480" y="3263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7764480" y="3263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7764480" y="3301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7764480" y="3301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764480" y="3341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7764480" y="3341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7764480" y="3379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7764480" y="3379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7764480" y="3417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7764480" y="3417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7764480" y="3456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7764480" y="3456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7764480" y="3495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7764480" y="3495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7764480" y="3533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7764480" y="3533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764480" y="357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7764480" y="357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7764480" y="3610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7764480" y="3610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776448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7764480" y="3649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764480" y="3687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7764480" y="3687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7764480" y="3726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764480" y="3726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7764480" y="3763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7764480" y="3763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7764480" y="3801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7764480" y="3801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7764480" y="384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764480" y="384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7764480" y="3879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7764480" y="3879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764480" y="3917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7764480" y="3917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7764480" y="3956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764480" y="3956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7764480" y="3995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7764480" y="3995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764480" y="403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7764480" y="403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7764480" y="407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7764480" y="407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7764480" y="4110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7764480" y="4110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764480" y="4149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7764480" y="4149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7764480" y="418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764480" y="418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7764480" y="4226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7764480" y="4226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7764480" y="426420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7764480" y="426420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7764480" y="430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764480" y="430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7764480" y="434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7764480" y="434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764480" y="4379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7764480" y="4379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7764480" y="4417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764480" y="4417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7764480" y="445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7764480" y="445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764480" y="4495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7764480" y="4495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7764480" y="4533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764480" y="4533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7764480" y="457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7764480" y="457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764480" y="4611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7764480" y="4611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7764480" y="4649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764480" y="4649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7764480" y="468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7764480" y="468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764480" y="4726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7764480" y="4726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7764480" y="4764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764480" y="4764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7764480" y="48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7764480" y="4803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764480" y="484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7764480" y="484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7764480" y="487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764480" y="487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7764480" y="4917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7764480" y="4917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764480" y="495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7764480" y="495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7764480" y="4995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764480" y="4995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7764480" y="5033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7764480" y="5033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764480" y="5072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7764480" y="5072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7764480" y="5111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764480" y="5111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7764480" y="514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7764480" y="514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764480" y="518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7764480" y="518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7764480" y="5226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764480" y="5226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7764480" y="5265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7764480" y="5265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764480" y="5303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7764480" y="5303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7764480" y="5342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764480" y="5342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764480" y="5380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7764480" y="5380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764480" y="5419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7764480" y="5419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7764480" y="545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7764480" y="545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7764480" y="5495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7764480" y="5495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7764480" y="5533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7764480" y="5533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7764480" y="55720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764480" y="55720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7764480" y="5611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7764480" y="5611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764480" y="5649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7764480" y="5649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7764480" y="568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764480" y="568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7764480" y="5726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7764480" y="57261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764480" y="5765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7764480" y="5765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7764480" y="580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764480" y="580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7764480" y="5842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7764480" y="5842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764480" y="5880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7764480" y="5880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7764480" y="5919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764480" y="5919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7764480" y="595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7764480" y="595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764480" y="59961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7764480" y="59961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764480" y="603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764480" y="6033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7764480" y="607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7764480" y="607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764480" y="6111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7764480" y="6111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7764480" y="6149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764480" y="6149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7764480" y="618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7764480" y="618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764480" y="6227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7764480" y="6227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7764480" y="6265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764480" y="6265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7764480" y="6303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7764480" y="6303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764480" y="63421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7764480" y="63421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7764480" y="63802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764480" y="63802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7764480" y="6419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7764480" y="6419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764480" y="645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7764480" y="645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7764480" y="6496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764480" y="6496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7764480" y="6534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7764480" y="6534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8123400" y="141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8123400" y="1419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8123400" y="145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8123400" y="1455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8123400" y="1494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8123400" y="1494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8123400" y="153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8123400" y="1531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8123400" y="157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8123400" y="1571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8123400" y="1609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8123400" y="1609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8123400" y="1647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8123400" y="1647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8123400" y="16858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8123400" y="16858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8123400" y="1725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8123400" y="1725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8123400" y="1763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8123400" y="1763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8123400" y="180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8123400" y="180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8123400" y="1839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8123400" y="1839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8123400" y="1879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8123400" y="18795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8123400" y="1917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8123400" y="1917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8123400" y="1955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8123400" y="1955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8123400" y="1994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8123400" y="1994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8123400" y="2033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8123400" y="20336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8123400" y="207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8123400" y="207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8123400" y="2109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8123400" y="2109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8123400" y="2147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8123400" y="2147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8123400" y="2185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8123400" y="2185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8123400" y="2225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8123400" y="2225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8123400" y="2263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8123400" y="2263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8123400" y="230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8123400" y="230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8123400" y="2340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8123400" y="2340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8123400" y="2379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8123400" y="2379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8123400" y="241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8123400" y="241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8123400" y="2455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8123400" y="2455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8123400" y="24940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8123400" y="24940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8123400" y="2533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8123400" y="2533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8123400" y="257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8123400" y="257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8123400" y="2610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8123400" y="2610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8123400" y="2647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8123400" y="2647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8123400" y="268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8123400" y="268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8123400" y="2725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8123400" y="2725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8123400" y="2763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8123400" y="2763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8123400" y="2801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8123400" y="2801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8123400" y="2841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8123400" y="2841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8123400" y="2879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8123400" y="2879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8123400" y="291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8123400" y="291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8123400" y="295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8123400" y="295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8123400" y="2994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8123400" y="2994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8123400" y="3033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8123400" y="3033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8123400" y="3071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8123400" y="3071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8123400" y="3110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8123400" y="3110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8123400" y="31478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8123400" y="31478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8123400" y="318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8123400" y="318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8123400" y="322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8123400" y="322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8123400" y="3263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8123400" y="3263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8123400" y="3301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8123400" y="3301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8123400" y="3341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8123400" y="3341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8123400" y="3379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8123400" y="3379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8123400" y="3417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8123400" y="3417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8123400" y="3456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8123400" y="3456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8123400" y="3495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8123400" y="3495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8123400" y="3533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8123400" y="3533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8123400" y="357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8123400" y="357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8123400" y="3610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8123400" y="3610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812340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8123400" y="3649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8123400" y="3687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8123400" y="3687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8123400" y="3726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8123400" y="3726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8123400" y="3763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8123400" y="3763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8123400" y="3801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8123400" y="3801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8123400" y="384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8123400" y="384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8123400" y="3879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8123400" y="3879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8123400" y="3917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8123400" y="3917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8123400" y="3956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8123400" y="3956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8123400" y="3995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8123400" y="3995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8123400" y="403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8123400" y="403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8123400" y="407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8123400" y="407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8123400" y="4110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8123400" y="4110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8123400" y="4149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8123400" y="4149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8123400" y="418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8123400" y="418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8123400" y="4226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8123400" y="4226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8123400" y="426420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8123400" y="426420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8123400" y="430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8123400" y="430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8123400" y="434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8123400" y="434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8123400" y="4379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8123400" y="4379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8123400" y="4417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8123400" y="4417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8123400" y="445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8123400" y="445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8123400" y="4495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8123400" y="4495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8123400" y="4533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8123400" y="4533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8123400" y="457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8123400" y="457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8123400" y="4611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8123400" y="4611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8123400" y="4649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8123400" y="4649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8123400" y="468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8123400" y="468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8123400" y="4726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8123400" y="4726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8123400" y="4764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8123400" y="4764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8123400" y="48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8123400" y="4803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8123400" y="484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8123400" y="484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8123400" y="487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8123400" y="487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8123400" y="4917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8123400" y="4917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8123400" y="495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8123400" y="495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8123400" y="4995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8123400" y="4995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8123400" y="5033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8123400" y="5033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8123400" y="5072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8123400" y="5072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8123400" y="5111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8123400" y="5111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8123400" y="514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8123400" y="514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8123400" y="518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8123400" y="518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8123400" y="5226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8123400" y="5226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8123400" y="5265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8123400" y="5265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8123400" y="5303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8123400" y="5303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8123400" y="5342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8123400" y="5342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8123400" y="5380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8123400" y="5380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8123400" y="5419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8123400" y="5419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8123400" y="545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8123400" y="545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8123400" y="5495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8123400" y="5495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8123400" y="5533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8123400" y="5533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8123400" y="55720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8123400" y="55720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8123400" y="5611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8123400" y="5611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8123400" y="5649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8123400" y="5649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8123400" y="568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8123400" y="568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8123400" y="5726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8123400" y="57261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8123400" y="5765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8123400" y="5765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8123400" y="580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8123400" y="580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8123400" y="5842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8123400" y="5842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8123400" y="5880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8123400" y="5880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8123400" y="5919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8123400" y="5919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8123400" y="595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8123400" y="595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8123400" y="59961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8123400" y="59961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8123400" y="603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8123400" y="6033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8123400" y="607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8123400" y="607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8123400" y="6111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8123400" y="6111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8123400" y="6149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8123400" y="6149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8123400" y="618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8123400" y="618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8123400" y="6227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8123400" y="6227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8123400" y="6265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8123400" y="6265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8123400" y="6303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8123400" y="6303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8123400" y="63421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8123400" y="63421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8123400" y="63802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8123400" y="63802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8123400" y="6419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8123400" y="6419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8123400" y="645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8123400" y="645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8123400" y="6496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8123400" y="6496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8123400" y="6534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8123400" y="6534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8453520" y="1419120"/>
              <a:ext cx="144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8453520" y="1419120"/>
              <a:ext cx="126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8453520" y="1455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8453520" y="1455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8453520" y="1494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8453520" y="1494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8453520" y="1531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8453520" y="1531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8453520" y="1571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8453520" y="1571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8453520" y="1609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8453520" y="1609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8453520" y="1647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8453520" y="1647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8453520" y="16858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8453520" y="16858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8453520" y="1725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8453520" y="1725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8453520" y="1763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8453520" y="1763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8453520" y="180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8453520" y="180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8453520" y="1839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8453520" y="1839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8453520" y="1879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8453520" y="18795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8453520" y="1917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8453520" y="1917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8453520" y="1955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8453520" y="1955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8453520" y="1994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8453520" y="1994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8453520" y="20336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8453520" y="20336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8453520" y="2071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8453520" y="2071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8453520" y="2109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8453520" y="2109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8453520" y="2147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8453520" y="2147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8453520" y="2185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8453520" y="2185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8453520" y="2225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8453520" y="2225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8453520" y="2263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8453520" y="2263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8453520" y="230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8453520" y="230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8453520" y="2340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8453520" y="2340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8453520" y="2379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8453520" y="2379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8453520" y="241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8453520" y="241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8453520" y="2455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8453520" y="2455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8453520" y="24940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8453520" y="24940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8453520" y="2533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8453520" y="2533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8453520" y="2571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8453520" y="2571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8453520" y="2610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8453520" y="2610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8453520" y="26478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8453520" y="26478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8453520" y="2687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8453520" y="2687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8453520" y="2725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8453520" y="27255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8453520" y="2763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8453520" y="2763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8453520" y="2801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8453520" y="2801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8453520" y="28414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8453520" y="28414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8453520" y="2879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8453520" y="2879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8453520" y="291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8453520" y="291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8453520" y="295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8453520" y="295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8453520" y="2994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8453520" y="2994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8453520" y="3033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8453520" y="3033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8453520" y="3071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8453520" y="3071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8453520" y="3110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8453520" y="3110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8453520" y="31478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8453520" y="31478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8453520" y="3187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8453520" y="3187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8453520" y="3225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8453520" y="3225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8453520" y="3263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8453520" y="3263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8453520" y="33019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8453520" y="33019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8453520" y="33415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8453520" y="33415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8453520" y="3379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8453520" y="3379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8453520" y="3417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8453520" y="3417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8453520" y="3456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8453520" y="3456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8453520" y="3495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8453520" y="3495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8453520" y="3533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8453520" y="3533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8453520" y="357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8453520" y="357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8453520" y="3610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8453520" y="3610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8453520" y="36496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8453520" y="36496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8453520" y="3687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8453520" y="3687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8453520" y="3726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8453520" y="3726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8453520" y="3763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8453520" y="3763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8453520" y="3801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8453520" y="3801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8453520" y="3841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8453520" y="3841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8453520" y="3879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8453520" y="3879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8453520" y="3917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8453520" y="3917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8453520" y="3956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8453520" y="3956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8453520" y="3995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8453520" y="3995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8453520" y="403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8453520" y="403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8453520" y="407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8453520" y="407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8453520" y="4110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8453520" y="4110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8453520" y="4149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8453520" y="4149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8453520" y="418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8453520" y="418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8453520" y="4226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8453520" y="4226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8453520" y="426420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8453520" y="426420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8453520" y="4303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8453520" y="4303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8453520" y="4341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8453520" y="4341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8453520" y="4379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8453520" y="4379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8453520" y="4417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8453520" y="4417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8453520" y="4457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8453520" y="4457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8453520" y="4495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8453520" y="4495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8453520" y="4533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8453520" y="4533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8453520" y="457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8453520" y="457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8453520" y="46116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8453520" y="46116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8453520" y="4649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8453520" y="4649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8453520" y="468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8453520" y="468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8453520" y="4726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8453520" y="4726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8453520" y="4764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8453520" y="4764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8453520" y="4803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8453520" y="4803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8453520" y="4842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8453520" y="4842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8453520" y="487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8453520" y="487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8453520" y="4917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8453520" y="4917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8453520" y="4957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8453520" y="4957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8453520" y="4995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8453520" y="4995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8453520" y="5033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8453520" y="5033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8453520" y="50720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8453520" y="507204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8453520" y="5111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8453520" y="5111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8453520" y="5149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8453520" y="5149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8453520" y="518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8453520" y="518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8453520" y="52261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8453520" y="522612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8453520" y="52657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8453520" y="52657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8453520" y="5303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8453520" y="5303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8453520" y="5342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8453520" y="5342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8453520" y="5380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8453520" y="5380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8453520" y="54198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8453520" y="54198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8453520" y="5457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8453520" y="5457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8453520" y="54957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8453520" y="549576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8453520" y="55339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8453520" y="55339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8453520" y="55720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8453520" y="557208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8453520" y="56116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8453520" y="56116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8453520" y="56498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8453520" y="56498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8453520" y="568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8453520" y="568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8453520" y="57261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8453520" y="57261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8453520" y="57657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8453520" y="57657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8453520" y="580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8453520" y="580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8453520" y="58420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8453520" y="58420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8453520" y="588024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8453520" y="588024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8453520" y="59198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8453520" y="59198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8453520" y="59580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8453520" y="59580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8453520" y="59961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8453520" y="59961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8453520" y="603396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8453520" y="603396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8453520" y="60739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8453520" y="60739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8453520" y="611172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8453520" y="611172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8453520" y="614988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8453520" y="614988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8453520" y="618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8453520" y="618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8453520" y="622764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8453520" y="622764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8453520" y="62658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8453520" y="6265800"/>
              <a:ext cx="1260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8453520" y="63039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8453520" y="630396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8453520" y="63421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8453520" y="634212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8453520" y="6380280"/>
              <a:ext cx="1440" cy="2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8453520" y="6380280"/>
              <a:ext cx="1260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8453520" y="641988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8453520" y="641988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8453520" y="6458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8453520" y="645804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8453520" y="649620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8453520" y="6496200"/>
              <a:ext cx="126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8453520" y="653400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8453520" y="6534000"/>
              <a:ext cx="1260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401760" y="1138320"/>
              <a:ext cx="852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401760" y="1395360"/>
              <a:ext cx="852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401760" y="6559560"/>
              <a:ext cx="852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401760" y="6691320"/>
              <a:ext cx="852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8" name=""/>
          <p:cNvSpPr/>
          <p:nvPr/>
        </p:nvSpPr>
        <p:spPr>
          <a:xfrm>
            <a:off x="1181160" y="396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APPLICAZIONE DELLA DEA – I risult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utput: pax trasporta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445320" y="1676520"/>
            <a:ext cx="80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icienza tecn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nche in questo caso non sembra sussist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cuna correlazione con la dimensione azienda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440280" y="2759040"/>
            <a:ext cx="83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icienza di sc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resce all’aumentare della dimensione fino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 milioni di pax trasportati anno, poi decres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llo di correlazione più marcato rispetto al caso pre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1" name=""/>
          <p:cNvGrpSpPr/>
          <p:nvPr/>
        </p:nvGrpSpPr>
        <p:grpSpPr>
          <a:xfrm>
            <a:off x="152280" y="5410080"/>
            <a:ext cx="8903160" cy="701640"/>
            <a:chOff x="152280" y="5410080"/>
            <a:chExt cx="8903160" cy="701640"/>
          </a:xfrm>
        </p:grpSpPr>
        <p:sp>
          <p:nvSpPr>
            <p:cNvPr id="5652" name=""/>
            <p:cNvSpPr/>
            <p:nvPr/>
          </p:nvSpPr>
          <p:spPr>
            <a:xfrm>
              <a:off x="152280" y="5502240"/>
              <a:ext cx="998640" cy="485640"/>
            </a:xfrm>
            <a:prstGeom prst="rightArrow">
              <a:avLst>
                <a:gd name="adj1" fmla="val 50000"/>
                <a:gd name="adj2" fmla="val 51408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1695600" y="5410080"/>
              <a:ext cx="38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1321920" y="5502240"/>
              <a:ext cx="7643160" cy="6094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1364760" y="5608440"/>
              <a:ext cx="769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66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6ff"/>
                  </a:solidFill>
                  <a:latin typeface="Times New Roman"/>
                </a:rPr>
                <a:t>Dimensione ottimale aziende: 35/40 milioni di pax trasportati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656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5657" name=""/>
          <p:cNvSpPr/>
          <p:nvPr/>
        </p:nvSpPr>
        <p:spPr>
          <a:xfrm>
            <a:off x="457200" y="42782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ori dell’indice di efficienza più bassi rispetto al cas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 le vetture km come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"/>
          <p:cNvSpPr/>
          <p:nvPr/>
        </p:nvSpPr>
        <p:spPr>
          <a:xfrm>
            <a:off x="457200" y="488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LUSIONI ED INDICAZIONI DI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6994440" y="4757760"/>
            <a:ext cx="527040" cy="7920"/>
          </a:xfrm>
          <a:prstGeom prst="rect">
            <a:avLst/>
          </a:prstGeom>
          <a:solidFill>
            <a:srgbClr val="6a6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4064040" y="5057640"/>
            <a:ext cx="5019480" cy="271440"/>
          </a:xfrm>
          <a:custGeom>
            <a:avLst/>
            <a:gdLst/>
            <a:ahLst/>
            <a:rect l="l" t="t" r="r" b="b"/>
            <a:pathLst>
              <a:path w="2218" h="171">
                <a:moveTo>
                  <a:pt x="0" y="171"/>
                </a:moveTo>
                <a:lnTo>
                  <a:pt x="222" y="0"/>
                </a:lnTo>
                <a:lnTo>
                  <a:pt x="2218" y="0"/>
                </a:lnTo>
                <a:lnTo>
                  <a:pt x="1996" y="171"/>
                </a:lnTo>
                <a:lnTo>
                  <a:pt x="0" y="1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4064040" y="5057640"/>
            <a:ext cx="5019480" cy="271440"/>
          </a:xfrm>
          <a:custGeom>
            <a:avLst/>
            <a:gdLst/>
            <a:ahLst/>
            <a:rect l="l" t="t" r="r" b="b"/>
            <a:pathLst>
              <a:path w="2218" h="171">
                <a:moveTo>
                  <a:pt x="2218" y="0"/>
                </a:moveTo>
                <a:lnTo>
                  <a:pt x="1996" y="171"/>
                </a:lnTo>
                <a:lnTo>
                  <a:pt x="0" y="171"/>
                </a:lnTo>
                <a:lnTo>
                  <a:pt x="222" y="0"/>
                </a:lnTo>
                <a:lnTo>
                  <a:pt x="22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905120" y="1447920"/>
            <a:ext cx="541008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ONOMIE DI SCA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L SETTORE DEL T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533520" y="3581280"/>
            <a:ext cx="4114800" cy="1219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ONOMIE ENDOG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4800600" y="3581280"/>
            <a:ext cx="3809880" cy="1219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ONOMIE ESOG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914400" y="2057400"/>
            <a:ext cx="990720" cy="1600200"/>
          </a:xfrm>
          <a:custGeom>
            <a:avLst/>
            <a:gdLst>
              <a:gd name="textAreaLeft" fmla="*/ 132480 w 990720"/>
              <a:gd name="textAreaRight" fmla="*/ 858240 w 9907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7315200" y="1981080"/>
            <a:ext cx="838080" cy="1676520"/>
          </a:xfrm>
          <a:custGeom>
            <a:avLst/>
            <a:gdLst>
              <a:gd name="textAreaLeft" fmla="*/ 112320 w 838080"/>
              <a:gd name="textAreaRight" fmla="*/ 725760 w 83808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67" name=""/>
          <p:cNvGrpSpPr/>
          <p:nvPr/>
        </p:nvGrpSpPr>
        <p:grpSpPr>
          <a:xfrm>
            <a:off x="76320" y="4114800"/>
            <a:ext cx="4580280" cy="2061360"/>
            <a:chOff x="76320" y="4114800"/>
            <a:chExt cx="4580280" cy="2061360"/>
          </a:xfrm>
        </p:grpSpPr>
        <p:sp>
          <p:nvSpPr>
            <p:cNvPr id="5668" name=""/>
            <p:cNvSpPr/>
            <p:nvPr/>
          </p:nvSpPr>
          <p:spPr>
            <a:xfrm>
              <a:off x="345960" y="4984920"/>
              <a:ext cx="4310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tilizzazione risorse non otti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ccessiva burocratizzazi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levato peso del sindaca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 flipH="1">
              <a:off x="76320" y="4114800"/>
              <a:ext cx="4572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76320" y="4114800"/>
              <a:ext cx="0" cy="1981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76320" y="6095880"/>
              <a:ext cx="304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76320" y="5638680"/>
              <a:ext cx="304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76320" y="5181480"/>
              <a:ext cx="304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4" name=""/>
          <p:cNvSpPr/>
          <p:nvPr/>
        </p:nvSpPr>
        <p:spPr>
          <a:xfrm>
            <a:off x="8610480" y="4038480"/>
            <a:ext cx="381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8991720" y="4038480"/>
            <a:ext cx="0" cy="190512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76" name=""/>
          <p:cNvGrpSpPr/>
          <p:nvPr/>
        </p:nvGrpSpPr>
        <p:grpSpPr>
          <a:xfrm>
            <a:off x="5201280" y="4038480"/>
            <a:ext cx="3866400" cy="2668320"/>
            <a:chOff x="5201280" y="4038480"/>
            <a:chExt cx="3866400" cy="2668320"/>
          </a:xfrm>
        </p:grpSpPr>
        <p:sp>
          <p:nvSpPr>
            <p:cNvPr id="5677" name=""/>
            <p:cNvSpPr/>
            <p:nvPr/>
          </p:nvSpPr>
          <p:spPr>
            <a:xfrm>
              <a:off x="5201280" y="4857840"/>
              <a:ext cx="3183120" cy="18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truttura del territo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ngesti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adeguate politic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lla mobilità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 flipH="1">
              <a:off x="8610480" y="4038480"/>
              <a:ext cx="4572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H="1">
              <a:off x="8381520" y="5562720"/>
              <a:ext cx="6858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 flipH="1">
              <a:off x="8381520" y="5029200"/>
              <a:ext cx="6858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8381520" y="6019920"/>
              <a:ext cx="6858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9067680" y="4038480"/>
              <a:ext cx="0" cy="1981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683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LUSIONI ED INDICAZIONI DI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6994440" y="4757760"/>
            <a:ext cx="527040" cy="7920"/>
          </a:xfrm>
          <a:prstGeom prst="rect">
            <a:avLst/>
          </a:prstGeom>
          <a:solidFill>
            <a:srgbClr val="6a6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4064040" y="5057640"/>
            <a:ext cx="5019480" cy="271440"/>
          </a:xfrm>
          <a:custGeom>
            <a:avLst/>
            <a:gdLst/>
            <a:ahLst/>
            <a:rect l="l" t="t" r="r" b="b"/>
            <a:pathLst>
              <a:path w="2218" h="171">
                <a:moveTo>
                  <a:pt x="0" y="171"/>
                </a:moveTo>
                <a:lnTo>
                  <a:pt x="222" y="0"/>
                </a:lnTo>
                <a:lnTo>
                  <a:pt x="2218" y="0"/>
                </a:lnTo>
                <a:lnTo>
                  <a:pt x="1996" y="171"/>
                </a:lnTo>
                <a:lnTo>
                  <a:pt x="0" y="1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8610480" y="4038480"/>
            <a:ext cx="381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8991720" y="4038480"/>
            <a:ext cx="0" cy="190512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 flipH="1">
            <a:off x="8534520" y="5334120"/>
            <a:ext cx="457200" cy="0"/>
          </a:xfrm>
          <a:prstGeom prst="line">
            <a:avLst/>
          </a:prstGeom>
          <a:ln w="316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 flipH="1">
            <a:off x="8534520" y="5943600"/>
            <a:ext cx="457200" cy="0"/>
          </a:xfrm>
          <a:prstGeom prst="line">
            <a:avLst/>
          </a:prstGeom>
          <a:ln w="316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152280" y="213372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IENDE DI MEDIO-PICCOLA DIMENSIONE CHE EFFETTUANO IL SERVIZIO DI TRASPO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2" name=""/>
          <p:cNvGrpSpPr/>
          <p:nvPr/>
        </p:nvGrpSpPr>
        <p:grpSpPr>
          <a:xfrm>
            <a:off x="838080" y="990720"/>
            <a:ext cx="7391520" cy="2133360"/>
            <a:chOff x="838080" y="990720"/>
            <a:chExt cx="7391520" cy="2133360"/>
          </a:xfrm>
        </p:grpSpPr>
        <p:sp>
          <p:nvSpPr>
            <p:cNvPr id="5693" name=""/>
            <p:cNvSpPr/>
            <p:nvPr/>
          </p:nvSpPr>
          <p:spPr>
            <a:xfrm>
              <a:off x="838080" y="990720"/>
              <a:ext cx="7391520" cy="1143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AGGIUNGIMENTO DELLE ECONOM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I SCALA ATTRAVERSO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3886200" y="2133720"/>
              <a:ext cx="838080" cy="990360"/>
            </a:xfrm>
            <a:prstGeom prst="downArrow">
              <a:avLst>
                <a:gd name="adj1" fmla="val 50000"/>
                <a:gd name="adj2" fmla="val 29543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5" name=""/>
          <p:cNvSpPr/>
          <p:nvPr/>
        </p:nvSpPr>
        <p:spPr>
          <a:xfrm>
            <a:off x="137160" y="4267080"/>
            <a:ext cx="847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ARAZIONE FRA ATTIVITA’ DI EFFETTUAZI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 SERVIZIO E  PIANFICAZONE, PROGRAMMAZI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CONT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88560" y="5578560"/>
            <a:ext cx="83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E ESTERNALIZZAZIONE DELLE ATTIVITA’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 MANUTEN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7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"/>
          <p:cNvSpPr/>
          <p:nvPr/>
        </p:nvSpPr>
        <p:spPr>
          <a:xfrm>
            <a:off x="457200" y="76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LUSIONI ED INDICAZIONI DI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6994440" y="4757760"/>
            <a:ext cx="527040" cy="7920"/>
          </a:xfrm>
          <a:prstGeom prst="rect">
            <a:avLst/>
          </a:prstGeom>
          <a:solidFill>
            <a:srgbClr val="6a6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4064040" y="5057640"/>
            <a:ext cx="5019480" cy="271440"/>
          </a:xfrm>
          <a:custGeom>
            <a:avLst/>
            <a:gdLst/>
            <a:ahLst/>
            <a:rect l="l" t="t" r="r" b="b"/>
            <a:pathLst>
              <a:path w="2218" h="171">
                <a:moveTo>
                  <a:pt x="0" y="171"/>
                </a:moveTo>
                <a:lnTo>
                  <a:pt x="222" y="0"/>
                </a:lnTo>
                <a:lnTo>
                  <a:pt x="2218" y="0"/>
                </a:lnTo>
                <a:lnTo>
                  <a:pt x="1996" y="171"/>
                </a:lnTo>
                <a:lnTo>
                  <a:pt x="0" y="1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8610480" y="4038480"/>
            <a:ext cx="381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8991720" y="4038480"/>
            <a:ext cx="0" cy="190512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 flipH="1">
            <a:off x="8534520" y="5334120"/>
            <a:ext cx="457200" cy="0"/>
          </a:xfrm>
          <a:prstGeom prst="line">
            <a:avLst/>
          </a:prstGeom>
          <a:ln w="316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 flipH="1">
            <a:off x="8534520" y="5943600"/>
            <a:ext cx="457200" cy="0"/>
          </a:xfrm>
          <a:prstGeom prst="line">
            <a:avLst/>
          </a:prstGeom>
          <a:ln w="316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1219320" y="838080"/>
            <a:ext cx="5943600" cy="1143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ENTE DI PROGRAMMAZION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PIANIFICAZIONE, CONT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(Agenzia della mobilità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5029200" y="1981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2971800" y="1981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304920" y="2676600"/>
            <a:ext cx="160020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Sottoba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2286000" y="2676600"/>
            <a:ext cx="160020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Sottoba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4267080" y="2676600"/>
            <a:ext cx="160020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Sottoba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6477120" y="2676600"/>
            <a:ext cx="160020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Sottoba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2" name=""/>
          <p:cNvGrpSpPr/>
          <p:nvPr/>
        </p:nvGrpSpPr>
        <p:grpSpPr>
          <a:xfrm>
            <a:off x="685800" y="1371600"/>
            <a:ext cx="533520" cy="1219320"/>
            <a:chOff x="685800" y="1371600"/>
            <a:chExt cx="533520" cy="1219320"/>
          </a:xfrm>
        </p:grpSpPr>
        <p:sp>
          <p:nvSpPr>
            <p:cNvPr id="5713" name=""/>
            <p:cNvSpPr/>
            <p:nvPr/>
          </p:nvSpPr>
          <p:spPr>
            <a:xfrm flipH="1">
              <a:off x="685800" y="13716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85800" y="1371600"/>
              <a:ext cx="0" cy="1219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5" name=""/>
          <p:cNvGrpSpPr/>
          <p:nvPr/>
        </p:nvGrpSpPr>
        <p:grpSpPr>
          <a:xfrm>
            <a:off x="7162560" y="1295280"/>
            <a:ext cx="533520" cy="1219320"/>
            <a:chOff x="7162560" y="1295280"/>
            <a:chExt cx="533520" cy="1219320"/>
          </a:xfrm>
        </p:grpSpPr>
        <p:sp>
          <p:nvSpPr>
            <p:cNvPr id="5716" name=""/>
            <p:cNvSpPr/>
            <p:nvPr/>
          </p:nvSpPr>
          <p:spPr>
            <a:xfrm>
              <a:off x="7696080" y="1295280"/>
              <a:ext cx="0" cy="1219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H="1">
              <a:off x="7162560" y="12952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8" name=""/>
          <p:cNvGrpSpPr/>
          <p:nvPr/>
        </p:nvGrpSpPr>
        <p:grpSpPr>
          <a:xfrm>
            <a:off x="7162920" y="990720"/>
            <a:ext cx="1143000" cy="3200400"/>
            <a:chOff x="7162920" y="990720"/>
            <a:chExt cx="1143000" cy="3200400"/>
          </a:xfrm>
        </p:grpSpPr>
        <p:sp>
          <p:nvSpPr>
            <p:cNvPr id="5719" name=""/>
            <p:cNvSpPr/>
            <p:nvPr/>
          </p:nvSpPr>
          <p:spPr>
            <a:xfrm>
              <a:off x="7162920" y="990720"/>
              <a:ext cx="1143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8305920" y="990720"/>
              <a:ext cx="0" cy="3200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1" name=""/>
          <p:cNvSpPr/>
          <p:nvPr/>
        </p:nvSpPr>
        <p:spPr>
          <a:xfrm>
            <a:off x="6400800" y="4267080"/>
            <a:ext cx="1905120" cy="83844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Manuten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3276720" y="3457440"/>
            <a:ext cx="485640" cy="900360"/>
          </a:xfrm>
          <a:prstGeom prst="downArrow">
            <a:avLst>
              <a:gd name="adj1" fmla="val 50000"/>
              <a:gd name="adj2" fmla="val 46349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1600200" y="4433760"/>
            <a:ext cx="38862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GARE MULTILOT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2057400" y="53863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342900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51055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1447920" y="5867280"/>
            <a:ext cx="1143000" cy="609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z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819520" y="5867280"/>
            <a:ext cx="1218960" cy="609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z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4495680" y="5867280"/>
            <a:ext cx="1143000" cy="609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Az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30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20574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362320"/>
            <a:ext cx="3733920" cy="1371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ff"/>
                </a:solidFill>
                <a:latin typeface="Times New Roman"/>
              </a:rPr>
              <a:t>Monopolio pubbl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ff"/>
                </a:solidFill>
                <a:latin typeface="Times New Roman"/>
              </a:rPr>
              <a:t>Sussi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ff"/>
                </a:solidFill>
                <a:latin typeface="Times New Roman"/>
              </a:rPr>
              <a:t>No incentivi nel ridurre le perd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ff"/>
                </a:solidFill>
                <a:latin typeface="Times New Roman"/>
              </a:rPr>
              <a:t>Controllo poli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362320"/>
            <a:ext cx="3962160" cy="1371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Aumento del redd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Bassa qualità del trasporto pubbl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33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imes New Roman"/>
              </a:rPr>
              <a:t>Sostituzione con il trasporto priv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14600" y="4800600"/>
            <a:ext cx="4114800" cy="1752480"/>
            <a:chOff x="2514600" y="4800600"/>
            <a:chExt cx="4114800" cy="1752480"/>
          </a:xfrm>
        </p:grpSpPr>
        <p:sp>
          <p:nvSpPr>
            <p:cNvPr id="99" name=""/>
            <p:cNvSpPr/>
            <p:nvPr/>
          </p:nvSpPr>
          <p:spPr>
            <a:xfrm>
              <a:off x="2514600" y="4800600"/>
              <a:ext cx="3962520" cy="1676520"/>
            </a:xfrm>
            <a:prstGeom prst="flowChartAlternateProcess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4" marL="1828800">
                <a:lnSpc>
                  <a:spcPct val="100000"/>
                </a:lnSpc>
                <a:buClr>
                  <a:srgbClr val="3366ff"/>
                </a:buClr>
                <a:buFont typeface="Wingdings" charset="2"/>
                <a:buChar char="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6880" y="4876920"/>
              <a:ext cx="3962520" cy="1676160"/>
            </a:xfrm>
            <a:prstGeom prst="flowChartAlternateProcess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Rilevanti disavanzi di gesti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Insostenibilità fiscal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Necessità di rifor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52480" y="304920"/>
            <a:ext cx="5867640" cy="1981080"/>
            <a:chOff x="1752480" y="304920"/>
            <a:chExt cx="5867640" cy="1981080"/>
          </a:xfrm>
        </p:grpSpPr>
        <p:sp>
          <p:nvSpPr>
            <p:cNvPr id="102" name=""/>
            <p:cNvSpPr/>
            <p:nvPr/>
          </p:nvSpPr>
          <p:spPr>
            <a:xfrm>
              <a:off x="2666880" y="304920"/>
              <a:ext cx="3886200" cy="9144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LA  CRISI D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TRASPORTO PUBBLICO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LOCA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752480" y="914400"/>
              <a:ext cx="91440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914400"/>
              <a:ext cx="0" cy="13716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3080" y="914400"/>
              <a:ext cx="106704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0120" y="914400"/>
              <a:ext cx="0" cy="12952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76520" y="4114800"/>
            <a:ext cx="685800" cy="2286000"/>
          </a:xfrm>
          <a:custGeom>
            <a:avLst/>
            <a:gdLst>
              <a:gd name="textAreaLeft" fmla="*/ 91800 w 685800"/>
              <a:gd name="textAreaRight" fmla="*/ 594000 w 685800"/>
              <a:gd name="textAreaTop" fmla="*/ 399960 h 2286000"/>
              <a:gd name="textAreaBottom" fmla="*/ 16574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3962520"/>
            <a:ext cx="533520" cy="2514600"/>
          </a:xfrm>
          <a:custGeom>
            <a:avLst/>
            <a:gdLst>
              <a:gd name="textAreaLeft" fmla="*/ 71280 w 533520"/>
              <a:gd name="textAreaRight" fmla="*/ 462240 w 5335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1" name=""/>
          <p:cNvSpPr/>
          <p:nvPr/>
        </p:nvSpPr>
        <p:spPr>
          <a:xfrm>
            <a:off x="457200" y="488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LUSIONI ED INDICAZIONI DI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6994440" y="4757760"/>
            <a:ext cx="527040" cy="7920"/>
          </a:xfrm>
          <a:prstGeom prst="rect">
            <a:avLst/>
          </a:prstGeom>
          <a:solidFill>
            <a:srgbClr val="6a6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4064040" y="5057640"/>
            <a:ext cx="5019480" cy="271440"/>
          </a:xfrm>
          <a:custGeom>
            <a:avLst/>
            <a:gdLst/>
            <a:ahLst/>
            <a:rect l="l" t="t" r="r" b="b"/>
            <a:pathLst>
              <a:path w="2218" h="171">
                <a:moveTo>
                  <a:pt x="0" y="171"/>
                </a:moveTo>
                <a:lnTo>
                  <a:pt x="222" y="0"/>
                </a:lnTo>
                <a:lnTo>
                  <a:pt x="2218" y="0"/>
                </a:lnTo>
                <a:lnTo>
                  <a:pt x="1996" y="171"/>
                </a:lnTo>
                <a:lnTo>
                  <a:pt x="0" y="1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8610480" y="4038480"/>
            <a:ext cx="381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8991720" y="4038480"/>
            <a:ext cx="0" cy="190512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 flipH="1">
            <a:off x="8534520" y="5334120"/>
            <a:ext cx="457200" cy="0"/>
          </a:xfrm>
          <a:prstGeom prst="line">
            <a:avLst/>
          </a:prstGeom>
          <a:ln w="316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 flipH="1">
            <a:off x="8534520" y="5943600"/>
            <a:ext cx="457200" cy="0"/>
          </a:xfrm>
          <a:prstGeom prst="line">
            <a:avLst/>
          </a:prstGeom>
          <a:ln w="316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228600" y="3048120"/>
            <a:ext cx="2286000" cy="1447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DISECONOM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DI SC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9" name=""/>
          <p:cNvGrpSpPr/>
          <p:nvPr/>
        </p:nvGrpSpPr>
        <p:grpSpPr>
          <a:xfrm>
            <a:off x="1295280" y="1371600"/>
            <a:ext cx="2743200" cy="1676520"/>
            <a:chOff x="1295280" y="1371600"/>
            <a:chExt cx="2743200" cy="1676520"/>
          </a:xfrm>
        </p:grpSpPr>
        <p:grpSp>
          <p:nvGrpSpPr>
            <p:cNvPr id="5740" name=""/>
            <p:cNvGrpSpPr/>
            <p:nvPr/>
          </p:nvGrpSpPr>
          <p:grpSpPr>
            <a:xfrm>
              <a:off x="1295280" y="1371600"/>
              <a:ext cx="2743200" cy="1676520"/>
              <a:chOff x="1295280" y="1371600"/>
              <a:chExt cx="2743200" cy="1676520"/>
            </a:xfrm>
          </p:grpSpPr>
          <p:sp>
            <p:nvSpPr>
              <p:cNvPr id="5741" name=""/>
              <p:cNvSpPr/>
              <p:nvPr/>
            </p:nvSpPr>
            <p:spPr>
              <a:xfrm>
                <a:off x="2209680" y="1371600"/>
                <a:ext cx="1828800" cy="11430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Times New Roman"/>
                  </a:rPr>
                  <a:t>ESOGEN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 flipV="1">
                <a:off x="1295280" y="1981080"/>
                <a:ext cx="0" cy="106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3" name=""/>
            <p:cNvSpPr/>
            <p:nvPr/>
          </p:nvSpPr>
          <p:spPr>
            <a:xfrm>
              <a:off x="1295280" y="19810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4" name=""/>
          <p:cNvGrpSpPr/>
          <p:nvPr/>
        </p:nvGrpSpPr>
        <p:grpSpPr>
          <a:xfrm>
            <a:off x="1371600" y="4495680"/>
            <a:ext cx="2590920" cy="1371600"/>
            <a:chOff x="1371600" y="4495680"/>
            <a:chExt cx="2590920" cy="1371600"/>
          </a:xfrm>
        </p:grpSpPr>
        <p:sp>
          <p:nvSpPr>
            <p:cNvPr id="5745" name=""/>
            <p:cNvSpPr/>
            <p:nvPr/>
          </p:nvSpPr>
          <p:spPr>
            <a:xfrm>
              <a:off x="2133720" y="4724280"/>
              <a:ext cx="1828800" cy="114300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ff"/>
                  </a:solidFill>
                  <a:latin typeface="Times New Roman"/>
                </a:rPr>
                <a:t>ENDOGE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1371600" y="4495680"/>
              <a:ext cx="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1371600" y="55627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8" name=""/>
          <p:cNvGrpSpPr/>
          <p:nvPr/>
        </p:nvGrpSpPr>
        <p:grpSpPr>
          <a:xfrm>
            <a:off x="4038480" y="1295280"/>
            <a:ext cx="4038480" cy="1981440"/>
            <a:chOff x="4038480" y="1295280"/>
            <a:chExt cx="4038480" cy="1981440"/>
          </a:xfrm>
        </p:grpSpPr>
        <p:sp>
          <p:nvSpPr>
            <p:cNvPr id="5749" name=""/>
            <p:cNvSpPr/>
            <p:nvPr/>
          </p:nvSpPr>
          <p:spPr>
            <a:xfrm>
              <a:off x="4789800" y="1295280"/>
              <a:ext cx="2160000" cy="914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Congestion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urbana</a:t>
              </a: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4038480" y="2590920"/>
              <a:ext cx="4038480" cy="6858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Politiche di riduzion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congestione e traffico privat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916960" y="2209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2" name=""/>
          <p:cNvGrpSpPr/>
          <p:nvPr/>
        </p:nvGrpSpPr>
        <p:grpSpPr>
          <a:xfrm>
            <a:off x="4114800" y="4038480"/>
            <a:ext cx="4114440" cy="2209320"/>
            <a:chOff x="4114800" y="4038480"/>
            <a:chExt cx="4114440" cy="2209320"/>
          </a:xfrm>
        </p:grpSpPr>
        <p:sp>
          <p:nvSpPr>
            <p:cNvPr id="5753" name=""/>
            <p:cNvSpPr/>
            <p:nvPr/>
          </p:nvSpPr>
          <p:spPr>
            <a:xfrm>
              <a:off x="4830120" y="4038480"/>
              <a:ext cx="2325600" cy="9820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Quale è lo scopo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delle alleanz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4114800" y="5429880"/>
              <a:ext cx="4114440" cy="817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Raggiungimento economi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Times New Roman"/>
                </a:rPr>
                <a:t>di scala o collusione??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992920" y="5102640"/>
              <a:ext cx="1440" cy="245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756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"/>
          <p:cNvSpPr/>
          <p:nvPr/>
        </p:nvSpPr>
        <p:spPr>
          <a:xfrm>
            <a:off x="6994440" y="4757760"/>
            <a:ext cx="527040" cy="7920"/>
          </a:xfrm>
          <a:prstGeom prst="rect">
            <a:avLst/>
          </a:prstGeom>
          <a:solidFill>
            <a:srgbClr val="6a6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4064040" y="5057640"/>
            <a:ext cx="5019480" cy="271440"/>
          </a:xfrm>
          <a:custGeom>
            <a:avLst/>
            <a:gdLst/>
            <a:ahLst/>
            <a:rect l="l" t="t" r="r" b="b"/>
            <a:pathLst>
              <a:path w="2218" h="171">
                <a:moveTo>
                  <a:pt x="0" y="171"/>
                </a:moveTo>
                <a:lnTo>
                  <a:pt x="222" y="0"/>
                </a:lnTo>
                <a:lnTo>
                  <a:pt x="2218" y="0"/>
                </a:lnTo>
                <a:lnTo>
                  <a:pt x="1996" y="171"/>
                </a:lnTo>
                <a:lnTo>
                  <a:pt x="0" y="1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8610480" y="4038480"/>
            <a:ext cx="381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8991720" y="4038480"/>
            <a:ext cx="0" cy="190512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 flipH="1">
            <a:off x="8534520" y="5334120"/>
            <a:ext cx="457200" cy="0"/>
          </a:xfrm>
          <a:prstGeom prst="line">
            <a:avLst/>
          </a:prstGeom>
          <a:ln w="316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 flipH="1">
            <a:off x="8534520" y="5943600"/>
            <a:ext cx="457200" cy="0"/>
          </a:xfrm>
          <a:prstGeom prst="line">
            <a:avLst/>
          </a:prstGeom>
          <a:ln w="316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3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5764" name=""/>
          <p:cNvSpPr/>
          <p:nvPr/>
        </p:nvSpPr>
        <p:spPr>
          <a:xfrm>
            <a:off x="1371960" y="2874960"/>
            <a:ext cx="66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AZIE PER L’ATTENZI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152280"/>
            <a:ext cx="36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RIFORMA DEL TP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066680"/>
            <a:ext cx="9829800" cy="1679760"/>
            <a:chOff x="380880" y="1066680"/>
            <a:chExt cx="9829800" cy="1679760"/>
          </a:xfrm>
        </p:grpSpPr>
        <p:grpSp>
          <p:nvGrpSpPr>
            <p:cNvPr id="112" name=""/>
            <p:cNvGrpSpPr/>
            <p:nvPr/>
          </p:nvGrpSpPr>
          <p:grpSpPr>
            <a:xfrm>
              <a:off x="380880" y="1066680"/>
              <a:ext cx="8610480" cy="1600200"/>
              <a:chOff x="380880" y="1066680"/>
              <a:chExt cx="8610480" cy="160020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80880" y="1447920"/>
                <a:ext cx="2133720" cy="1066680"/>
                <a:chOff x="380880" y="1447920"/>
                <a:chExt cx="2133720" cy="10666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80880" y="1447920"/>
                  <a:ext cx="213372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98320" y="1752840"/>
                  <a:ext cx="180540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BIETTIV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743200" y="1066680"/>
                <a:ext cx="6248160" cy="1600200"/>
                <a:chOff x="2743200" y="1066680"/>
                <a:chExt cx="6248160" cy="16002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743200" y="1066680"/>
                  <a:ext cx="6248160" cy="160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743200" y="1082520"/>
                  <a:ext cx="5527440" cy="825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buClr>
                      <a:srgbClr val="3366ff"/>
                    </a:buClr>
                    <a:buFont typeface="Wingdings" charset="2"/>
                    <a:buChar char="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ff"/>
                      </a:solidFill>
                      <a:latin typeface="Times New Roman"/>
                    </a:rPr>
                    <a:t>Incremento efficienza ed efficacia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ff"/>
                      </a:solidFill>
                      <a:latin typeface="Times New Roman"/>
                    </a:rPr>
                    <a:t>delle aziende di TPL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2711520" y="1920960"/>
              <a:ext cx="749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Riduzione utilizzo trasporto privato e riduzione esternalità nega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80880" y="3581280"/>
            <a:ext cx="8534520" cy="3124440"/>
            <a:chOff x="380880" y="3581280"/>
            <a:chExt cx="8534520" cy="3124440"/>
          </a:xfrm>
        </p:grpSpPr>
        <p:grpSp>
          <p:nvGrpSpPr>
            <p:cNvPr id="121" name=""/>
            <p:cNvGrpSpPr/>
            <p:nvPr/>
          </p:nvGrpSpPr>
          <p:grpSpPr>
            <a:xfrm>
              <a:off x="380880" y="4419720"/>
              <a:ext cx="2133720" cy="1066680"/>
              <a:chOff x="380880" y="4419720"/>
              <a:chExt cx="2133720" cy="1066680"/>
            </a:xfrm>
          </p:grpSpPr>
          <p:sp>
            <p:nvSpPr>
              <p:cNvPr id="122" name=""/>
              <p:cNvSpPr/>
              <p:nvPr/>
            </p:nvSpPr>
            <p:spPr>
              <a:xfrm>
                <a:off x="380880" y="4419720"/>
                <a:ext cx="2133720" cy="10666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9040" y="4724640"/>
                <a:ext cx="1567440" cy="4597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NCIP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666880" y="3581280"/>
              <a:ext cx="6248520" cy="31244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Decentramento funzioni dallo Stato alle Regioni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   </a:t>
              </a: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e agli Enti Local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Liberalizzazione e apertura alla concorrenz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   </a:t>
              </a: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(</a:t>
              </a:r>
              <a:r>
                <a:rPr b="0" i="1" lang="it-IT" sz="2400" spc="-1" strike="noStrike">
                  <a:solidFill>
                    <a:srgbClr val="3366ff"/>
                  </a:solidFill>
                  <a:latin typeface="Times New Roman"/>
                </a:rPr>
                <a:t>Competition for the market</a:t>
              </a: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Separazione fra attività di programmazion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   </a:t>
              </a: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e di gesti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Separazione proprietà delle reti e impianti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   </a:t>
              </a:r>
              <a:r>
                <a:rPr b="0" lang="it-IT" sz="2400" spc="-1" strike="noStrike">
                  <a:solidFill>
                    <a:srgbClr val="3366ff"/>
                  </a:solidFill>
                  <a:latin typeface="Times New Roman"/>
                </a:rPr>
                <a:t>dalla gestione del serviz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3366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0240" y="297180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gls 422 del 1997; Dgls 400 del 99; Art. 35 Finanziaria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4572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AZIENDE ITALIANE DI TPL OG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680" y="13874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l 1991 al 2001 miglioramento dell’efficienza tramite proc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 riorganizzazione aziend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560" y="2666880"/>
            <a:ext cx="4267440" cy="2719800"/>
            <a:chOff x="304560" y="2666880"/>
            <a:chExt cx="4267440" cy="2719800"/>
          </a:xfrm>
        </p:grpSpPr>
        <p:sp>
          <p:nvSpPr>
            <p:cNvPr id="130" name=""/>
            <p:cNvSpPr/>
            <p:nvPr/>
          </p:nvSpPr>
          <p:spPr>
            <a:xfrm>
              <a:off x="304920" y="2666880"/>
              <a:ext cx="42670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L'incidenza del costo del personal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ul costo tota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04560" y="3146400"/>
              <a:ext cx="3961440" cy="2240280"/>
              <a:chOff x="304560" y="3146400"/>
              <a:chExt cx="3961440" cy="2240280"/>
            </a:xfrm>
          </p:grpSpPr>
          <p:sp>
            <p:nvSpPr>
              <p:cNvPr id="132" name=""/>
              <p:cNvSpPr/>
              <p:nvPr/>
            </p:nvSpPr>
            <p:spPr>
              <a:xfrm>
                <a:off x="412920" y="3146400"/>
                <a:ext cx="3655800" cy="1941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2920" y="3146400"/>
                <a:ext cx="3655800" cy="194148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2920" y="5087880"/>
                <a:ext cx="3655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12920" y="5087880"/>
                <a:ext cx="288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819000" y="508788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1222200" y="508788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636560" y="508788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2041560" y="508788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444760" y="508788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849400" y="508788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3262320" y="508788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3665520" y="508788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4068720" y="5087880"/>
                <a:ext cx="32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3280" y="3625920"/>
                <a:ext cx="128520" cy="1350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77920" y="3605040"/>
                <a:ext cx="127080" cy="1350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90840" y="4024440"/>
                <a:ext cx="128520" cy="1364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95480" y="3876840"/>
                <a:ext cx="127080" cy="1378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98680" y="3936960"/>
                <a:ext cx="128520" cy="1364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5" y="0"/>
                    </a:moveTo>
                    <a:lnTo>
                      <a:pt x="69" y="34"/>
                    </a:lnTo>
                    <a:lnTo>
                      <a:pt x="35" y="68"/>
                    </a:lnTo>
                    <a:lnTo>
                      <a:pt x="0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01880" y="4044960"/>
                <a:ext cx="131760" cy="1364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5" y="0"/>
                    </a:moveTo>
                    <a:lnTo>
                      <a:pt x="69" y="34"/>
                    </a:lnTo>
                    <a:lnTo>
                      <a:pt x="35" y="68"/>
                    </a:lnTo>
                    <a:lnTo>
                      <a:pt x="0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19440" y="4335480"/>
                <a:ext cx="130320" cy="1364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9640" y="3662280"/>
                <a:ext cx="55440" cy="30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74880" y="3654360"/>
                <a:ext cx="55440" cy="28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39760" y="3643200"/>
                <a:ext cx="57240" cy="28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97000" y="3635280"/>
                <a:ext cx="54000" cy="77760"/>
              </a:xfrm>
              <a:custGeom>
                <a:avLst/>
                <a:gdLst/>
                <a:ahLst/>
                <a:rect l="l" t="t" r="r" b="b"/>
                <a:pathLst>
                  <a:path w="29" h="39">
                    <a:moveTo>
                      <a:pt x="0" y="19"/>
                    </a:moveTo>
                    <a:lnTo>
                      <a:pt x="24" y="39"/>
                    </a:lnTo>
                    <a:lnTo>
                      <a:pt x="29" y="19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14360" y="3760920"/>
                <a:ext cx="73080" cy="489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0" y="0"/>
                    </a:moveTo>
                    <a:lnTo>
                      <a:pt x="20" y="19"/>
                    </a:lnTo>
                    <a:lnTo>
                      <a:pt x="39" y="24"/>
                    </a:lnTo>
                    <a:lnTo>
                      <a:pt x="2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2880" y="3867120"/>
                <a:ext cx="55800" cy="7956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0" y="20"/>
                    </a:moveTo>
                    <a:lnTo>
                      <a:pt x="25" y="39"/>
                    </a:lnTo>
                    <a:lnTo>
                      <a:pt x="30" y="20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62040" y="3994200"/>
                <a:ext cx="74520" cy="5076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0" y="0"/>
                    </a:moveTo>
                    <a:lnTo>
                      <a:pt x="19" y="20"/>
                    </a:lnTo>
                    <a:lnTo>
                      <a:pt x="39" y="25"/>
                    </a:lnTo>
                    <a:lnTo>
                      <a:pt x="1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17840" y="4044960"/>
                <a:ext cx="63360" cy="4608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30" y="0"/>
                    </a:lnTo>
                    <a:lnTo>
                      <a:pt x="34" y="14"/>
                    </a:lnTo>
                    <a:lnTo>
                      <a:pt x="5" y="2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74800" y="3984480"/>
                <a:ext cx="61920" cy="493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30" y="0"/>
                    </a:lnTo>
                    <a:lnTo>
                      <a:pt x="34" y="14"/>
                    </a:lnTo>
                    <a:lnTo>
                      <a:pt x="5" y="2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38240" y="39369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10"/>
                    </a:moveTo>
                    <a:lnTo>
                      <a:pt x="25" y="0"/>
                    </a:lnTo>
                    <a:lnTo>
                      <a:pt x="30" y="15"/>
                    </a:lnTo>
                    <a:lnTo>
                      <a:pt x="5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1040" y="3917880"/>
                <a:ext cx="64800" cy="3816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14"/>
                    </a:moveTo>
                    <a:lnTo>
                      <a:pt x="29" y="19"/>
                    </a:lnTo>
                    <a:lnTo>
                      <a:pt x="34" y="4"/>
                    </a:lnTo>
                    <a:lnTo>
                      <a:pt x="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87720" y="393696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5"/>
                    </a:moveTo>
                    <a:lnTo>
                      <a:pt x="29" y="20"/>
                    </a:lnTo>
                    <a:lnTo>
                      <a:pt x="34" y="5"/>
                    </a:lnTo>
                    <a:lnTo>
                      <a:pt x="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62320" y="3967200"/>
                <a:ext cx="55440" cy="27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27120" y="39765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14"/>
                    </a:moveTo>
                    <a:lnTo>
                      <a:pt x="29" y="19"/>
                    </a:lnTo>
                    <a:lnTo>
                      <a:pt x="34" y="5"/>
                    </a:lnTo>
                    <a:lnTo>
                      <a:pt x="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92360" y="401472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15"/>
                    </a:moveTo>
                    <a:lnTo>
                      <a:pt x="24" y="24"/>
                    </a:lnTo>
                    <a:lnTo>
                      <a:pt x="29" y="10"/>
                    </a:lnTo>
                    <a:lnTo>
                      <a:pt x="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46440" y="4054320"/>
                <a:ext cx="65160" cy="4788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14"/>
                    </a:moveTo>
                    <a:lnTo>
                      <a:pt x="29" y="24"/>
                    </a:lnTo>
                    <a:lnTo>
                      <a:pt x="34" y="9"/>
                    </a:lnTo>
                    <a:lnTo>
                      <a:pt x="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30680" y="4083120"/>
                <a:ext cx="63360" cy="47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15"/>
                    </a:moveTo>
                    <a:lnTo>
                      <a:pt x="29" y="24"/>
                    </a:lnTo>
                    <a:lnTo>
                      <a:pt x="34" y="10"/>
                    </a:lnTo>
                    <a:lnTo>
                      <a:pt x="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86200" y="4140360"/>
                <a:ext cx="64800" cy="507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0" y="15"/>
                    </a:moveTo>
                    <a:lnTo>
                      <a:pt x="29" y="25"/>
                    </a:lnTo>
                    <a:lnTo>
                      <a:pt x="34" y="10"/>
                    </a:lnTo>
                    <a:lnTo>
                      <a:pt x="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43160" y="4191120"/>
                <a:ext cx="63720" cy="47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14"/>
                    </a:moveTo>
                    <a:lnTo>
                      <a:pt x="29" y="24"/>
                    </a:lnTo>
                    <a:lnTo>
                      <a:pt x="34" y="9"/>
                    </a:lnTo>
                    <a:lnTo>
                      <a:pt x="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08400" y="4248000"/>
                <a:ext cx="54000" cy="493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14"/>
                    </a:moveTo>
                    <a:lnTo>
                      <a:pt x="24" y="24"/>
                    </a:lnTo>
                    <a:lnTo>
                      <a:pt x="29" y="9"/>
                    </a:lnTo>
                    <a:lnTo>
                      <a:pt x="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65360" y="4308480"/>
                <a:ext cx="61920" cy="47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14"/>
                    </a:moveTo>
                    <a:lnTo>
                      <a:pt x="29" y="24"/>
                    </a:lnTo>
                    <a:lnTo>
                      <a:pt x="34" y="9"/>
                    </a:lnTo>
                    <a:lnTo>
                      <a:pt x="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19440" y="4356000"/>
                <a:ext cx="55800" cy="478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15"/>
                    </a:moveTo>
                    <a:lnTo>
                      <a:pt x="24" y="24"/>
                    </a:lnTo>
                    <a:lnTo>
                      <a:pt x="29" y="10"/>
                    </a:lnTo>
                    <a:lnTo>
                      <a:pt x="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4200" y="3605040"/>
                <a:ext cx="126720" cy="1350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66cc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58840" y="3586320"/>
                <a:ext cx="127080" cy="1364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66cc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71760" y="4003560"/>
                <a:ext cx="128520" cy="1368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66cc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76400" y="3860640"/>
                <a:ext cx="128520" cy="1335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34" y="0"/>
                    </a:moveTo>
                    <a:lnTo>
                      <a:pt x="68" y="33"/>
                    </a:lnTo>
                    <a:lnTo>
                      <a:pt x="34" y="67"/>
                    </a:lnTo>
                    <a:lnTo>
                      <a:pt x="0" y="3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66cc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81400" y="3917880"/>
                <a:ext cx="128520" cy="1364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66cc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86040" y="4024440"/>
                <a:ext cx="127080" cy="1364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68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66cc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02160" y="431784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4" y="0"/>
                    </a:moveTo>
                    <a:lnTo>
                      <a:pt x="69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66cc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37000" y="4044960"/>
                <a:ext cx="304920" cy="23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7160" y="40831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1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03400" y="3819600"/>
                <a:ext cx="303480" cy="23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22120" y="38606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5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08400" y="3683160"/>
                <a:ext cx="303120" cy="23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26760" y="3722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7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35040" y="3722760"/>
                <a:ext cx="301680" cy="23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3760" y="37609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6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95480" y="3313080"/>
                <a:ext cx="301680" cy="23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12400" y="33512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72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1400" y="3330720"/>
                <a:ext cx="303480" cy="23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0120" y="3371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72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95480" y="3556080"/>
                <a:ext cx="301680" cy="23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12760" y="35942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8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456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920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1240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532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2852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3496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3816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8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5252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9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5716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60360" y="5203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0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4274280" y="2620800"/>
            <a:ext cx="4410000" cy="2784600"/>
            <a:chOff x="4274280" y="2620800"/>
            <a:chExt cx="4410000" cy="2784600"/>
          </a:xfrm>
        </p:grpSpPr>
        <p:sp>
          <p:nvSpPr>
            <p:cNvPr id="206" name=""/>
            <p:cNvSpPr/>
            <p:nvPr/>
          </p:nvSpPr>
          <p:spPr>
            <a:xfrm>
              <a:off x="4681440" y="3147480"/>
              <a:ext cx="3824280" cy="193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81440" y="3147480"/>
              <a:ext cx="3824280" cy="19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1440" y="5087520"/>
              <a:ext cx="382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681440" y="5087160"/>
              <a:ext cx="32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104080" y="5087160"/>
              <a:ext cx="14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526360" y="5087160"/>
              <a:ext cx="14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960160" y="5087160"/>
              <a:ext cx="14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382440" y="5087160"/>
              <a:ext cx="14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804720" y="5087160"/>
              <a:ext cx="180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227360" y="5087160"/>
              <a:ext cx="180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659360" y="5087160"/>
              <a:ext cx="14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83440" y="5087160"/>
              <a:ext cx="14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506080" y="5087160"/>
              <a:ext cx="32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51160" y="4509000"/>
              <a:ext cx="148680" cy="159120"/>
            </a:xfrm>
            <a:custGeom>
              <a:avLst/>
              <a:gdLst/>
              <a:ahLst/>
              <a:rect l="l" t="t" r="r" b="b"/>
              <a:pathLst>
                <a:path w="82" h="88">
                  <a:moveTo>
                    <a:pt x="41" y="0"/>
                  </a:moveTo>
                  <a:lnTo>
                    <a:pt x="82" y="44"/>
                  </a:lnTo>
                  <a:lnTo>
                    <a:pt x="41" y="88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73440" y="4384440"/>
              <a:ext cx="147240" cy="1594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40" y="0"/>
                  </a:moveTo>
                  <a:lnTo>
                    <a:pt x="81" y="44"/>
                  </a:lnTo>
                  <a:lnTo>
                    <a:pt x="40" y="88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07240" y="4123440"/>
              <a:ext cx="148680" cy="15768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41" y="0"/>
                  </a:moveTo>
                  <a:lnTo>
                    <a:pt x="82" y="44"/>
                  </a:lnTo>
                  <a:lnTo>
                    <a:pt x="41" y="87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29520" y="3998880"/>
              <a:ext cx="147240" cy="15768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40" y="0"/>
                  </a:moveTo>
                  <a:lnTo>
                    <a:pt x="81" y="44"/>
                  </a:lnTo>
                  <a:lnTo>
                    <a:pt x="40" y="87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52160" y="3862800"/>
              <a:ext cx="148680" cy="157320"/>
            </a:xfrm>
            <a:custGeom>
              <a:avLst/>
              <a:gdLst/>
              <a:ahLst/>
              <a:rect l="l" t="t" r="r" b="b"/>
              <a:pathLst>
                <a:path w="82" h="88">
                  <a:moveTo>
                    <a:pt x="41" y="0"/>
                  </a:moveTo>
                  <a:lnTo>
                    <a:pt x="82" y="44"/>
                  </a:lnTo>
                  <a:lnTo>
                    <a:pt x="41" y="88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74440" y="3737880"/>
              <a:ext cx="146880" cy="157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41" y="0"/>
                  </a:moveTo>
                  <a:lnTo>
                    <a:pt x="81" y="44"/>
                  </a:lnTo>
                  <a:lnTo>
                    <a:pt x="41" y="88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30520" y="3613320"/>
              <a:ext cx="147240" cy="157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41" y="0"/>
                  </a:moveTo>
                  <a:lnTo>
                    <a:pt x="81" y="44"/>
                  </a:lnTo>
                  <a:lnTo>
                    <a:pt x="41" y="88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82840" y="4544280"/>
              <a:ext cx="52920" cy="33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6"/>
                  </a:moveTo>
                  <a:lnTo>
                    <a:pt x="23" y="0"/>
                  </a:lnTo>
                  <a:lnTo>
                    <a:pt x="29" y="12"/>
                  </a:lnTo>
                  <a:lnTo>
                    <a:pt x="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09560" y="4509000"/>
              <a:ext cx="52560" cy="349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6"/>
                  </a:moveTo>
                  <a:lnTo>
                    <a:pt x="24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24760" y="4474080"/>
              <a:ext cx="52920" cy="349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6"/>
                  </a:moveTo>
                  <a:lnTo>
                    <a:pt x="24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52920" y="4440960"/>
              <a:ext cx="52560" cy="33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7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05480" y="4407840"/>
              <a:ext cx="52920" cy="4464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12"/>
                  </a:moveTo>
                  <a:lnTo>
                    <a:pt x="23" y="0"/>
                  </a:lnTo>
                  <a:lnTo>
                    <a:pt x="29" y="12"/>
                  </a:lnTo>
                  <a:lnTo>
                    <a:pt x="6" y="2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20680" y="4339440"/>
              <a:ext cx="41400" cy="5472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12"/>
                  </a:moveTo>
                  <a:lnTo>
                    <a:pt x="18" y="0"/>
                  </a:lnTo>
                  <a:lnTo>
                    <a:pt x="23" y="19"/>
                  </a:lnTo>
                  <a:lnTo>
                    <a:pt x="6" y="3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37680" y="4281480"/>
              <a:ext cx="41400" cy="345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7"/>
                  </a:moveTo>
                  <a:lnTo>
                    <a:pt x="18" y="0"/>
                  </a:lnTo>
                  <a:lnTo>
                    <a:pt x="23" y="13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43160" y="4214880"/>
              <a:ext cx="52560" cy="4464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12"/>
                  </a:moveTo>
                  <a:lnTo>
                    <a:pt x="24" y="0"/>
                  </a:lnTo>
                  <a:lnTo>
                    <a:pt x="29" y="12"/>
                  </a:lnTo>
                  <a:lnTo>
                    <a:pt x="6" y="2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38920" y="4156560"/>
              <a:ext cx="52920" cy="349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7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63840" y="4123440"/>
              <a:ext cx="52920" cy="331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6"/>
                  </a:moveTo>
                  <a:lnTo>
                    <a:pt x="24" y="0"/>
                  </a:lnTo>
                  <a:lnTo>
                    <a:pt x="29" y="12"/>
                  </a:lnTo>
                  <a:lnTo>
                    <a:pt x="6" y="1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80840" y="4090320"/>
              <a:ext cx="52920" cy="33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6"/>
                  </a:moveTo>
                  <a:lnTo>
                    <a:pt x="24" y="0"/>
                  </a:lnTo>
                  <a:lnTo>
                    <a:pt x="29" y="12"/>
                  </a:lnTo>
                  <a:lnTo>
                    <a:pt x="6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08640" y="4055400"/>
              <a:ext cx="51120" cy="349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6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59760" y="4032000"/>
              <a:ext cx="52920" cy="349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7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87920" y="3998880"/>
              <a:ext cx="52920" cy="331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6"/>
                  </a:moveTo>
                  <a:lnTo>
                    <a:pt x="23" y="0"/>
                  </a:lnTo>
                  <a:lnTo>
                    <a:pt x="29" y="12"/>
                  </a:lnTo>
                  <a:lnTo>
                    <a:pt x="6" y="1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04920" y="3952440"/>
              <a:ext cx="52560" cy="345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7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31280" y="3920760"/>
              <a:ext cx="52920" cy="313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6"/>
                  </a:moveTo>
                  <a:lnTo>
                    <a:pt x="23" y="0"/>
                  </a:lnTo>
                  <a:lnTo>
                    <a:pt x="29" y="12"/>
                  </a:lnTo>
                  <a:lnTo>
                    <a:pt x="6" y="1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4200" y="3895920"/>
              <a:ext cx="52560" cy="345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6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12360" y="3862800"/>
              <a:ext cx="51120" cy="33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7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27200" y="3827520"/>
              <a:ext cx="52920" cy="349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7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53560" y="3795840"/>
              <a:ext cx="51480" cy="313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6"/>
                  </a:moveTo>
                  <a:lnTo>
                    <a:pt x="24" y="0"/>
                  </a:lnTo>
                  <a:lnTo>
                    <a:pt x="29" y="12"/>
                  </a:lnTo>
                  <a:lnTo>
                    <a:pt x="6" y="1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05040" y="3771000"/>
              <a:ext cx="52560" cy="349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6"/>
                  </a:moveTo>
                  <a:lnTo>
                    <a:pt x="24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44000" y="3761280"/>
              <a:ext cx="41400" cy="2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59560" y="3737880"/>
              <a:ext cx="52560" cy="33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7"/>
                  </a:moveTo>
                  <a:lnTo>
                    <a:pt x="23" y="0"/>
                  </a:lnTo>
                  <a:lnTo>
                    <a:pt x="29" y="13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8520" y="3726360"/>
              <a:ext cx="41400" cy="230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11920" y="3702960"/>
              <a:ext cx="54360" cy="349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7"/>
                  </a:moveTo>
                  <a:lnTo>
                    <a:pt x="24" y="0"/>
                  </a:lnTo>
                  <a:lnTo>
                    <a:pt x="30" y="13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51240" y="3693240"/>
              <a:ext cx="41400" cy="22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77600" y="3671280"/>
              <a:ext cx="41400" cy="21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30280" y="4485960"/>
              <a:ext cx="146880" cy="157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40" y="0"/>
                  </a:moveTo>
                  <a:lnTo>
                    <a:pt x="81" y="44"/>
                  </a:lnTo>
                  <a:lnTo>
                    <a:pt x="40" y="88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52920" y="4361040"/>
              <a:ext cx="148680" cy="157680"/>
            </a:xfrm>
            <a:custGeom>
              <a:avLst/>
              <a:gdLst/>
              <a:ahLst/>
              <a:rect l="l" t="t" r="r" b="b"/>
              <a:pathLst>
                <a:path w="82" h="88">
                  <a:moveTo>
                    <a:pt x="41" y="0"/>
                  </a:moveTo>
                  <a:lnTo>
                    <a:pt x="82" y="44"/>
                  </a:lnTo>
                  <a:lnTo>
                    <a:pt x="41" y="88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86360" y="4100040"/>
              <a:ext cx="147240" cy="15912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40" y="0"/>
                  </a:moveTo>
                  <a:lnTo>
                    <a:pt x="81" y="44"/>
                  </a:lnTo>
                  <a:lnTo>
                    <a:pt x="40" y="88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08640" y="3975480"/>
              <a:ext cx="148680" cy="159480"/>
            </a:xfrm>
            <a:custGeom>
              <a:avLst/>
              <a:gdLst/>
              <a:ahLst/>
              <a:rect l="l" t="t" r="r" b="b"/>
              <a:pathLst>
                <a:path w="82" h="88">
                  <a:moveTo>
                    <a:pt x="41" y="0"/>
                  </a:moveTo>
                  <a:lnTo>
                    <a:pt x="82" y="44"/>
                  </a:lnTo>
                  <a:lnTo>
                    <a:pt x="41" y="88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31280" y="3840840"/>
              <a:ext cx="147240" cy="157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40" y="0"/>
                  </a:moveTo>
                  <a:lnTo>
                    <a:pt x="81" y="44"/>
                  </a:lnTo>
                  <a:lnTo>
                    <a:pt x="40" y="88"/>
                  </a:lnTo>
                  <a:lnTo>
                    <a:pt x="0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53560" y="3715920"/>
              <a:ext cx="149040" cy="157680"/>
            </a:xfrm>
            <a:custGeom>
              <a:avLst/>
              <a:gdLst/>
              <a:ahLst/>
              <a:rect l="l" t="t" r="r" b="b"/>
              <a:pathLst>
                <a:path w="82" h="88">
                  <a:moveTo>
                    <a:pt x="41" y="0"/>
                  </a:moveTo>
                  <a:lnTo>
                    <a:pt x="82" y="44"/>
                  </a:lnTo>
                  <a:lnTo>
                    <a:pt x="41" y="88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08200" y="3591720"/>
              <a:ext cx="148680" cy="157680"/>
            </a:xfrm>
            <a:custGeom>
              <a:avLst/>
              <a:gdLst/>
              <a:ahLst/>
              <a:rect l="l" t="t" r="r" b="b"/>
              <a:pathLst>
                <a:path w="82" h="88">
                  <a:moveTo>
                    <a:pt x="41" y="0"/>
                  </a:moveTo>
                  <a:lnTo>
                    <a:pt x="82" y="44"/>
                  </a:lnTo>
                  <a:lnTo>
                    <a:pt x="41" y="88"/>
                  </a:lnTo>
                  <a:lnTo>
                    <a:pt x="0" y="4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74280" y="2620800"/>
              <a:ext cx="4284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 ricavi da traffico sui costi della produ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36200" y="3328920"/>
              <a:ext cx="347040" cy="27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54920" y="33739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1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63280" y="3408840"/>
              <a:ext cx="348480" cy="27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85960" y="34538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78360" y="3521880"/>
              <a:ext cx="3484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98520" y="3568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9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03160" y="3646440"/>
              <a:ext cx="34848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23680" y="36932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8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9720" y="3827520"/>
              <a:ext cx="347040" cy="27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90240" y="38739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7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16840" y="4010400"/>
              <a:ext cx="345600" cy="27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35200" y="4055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39840" y="4169880"/>
              <a:ext cx="348480" cy="27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62520" y="42148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4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5436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7592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9964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3200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5608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7764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0028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3372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492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78640" y="5222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48880" y="53352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 SCENARIO ATTUALE DEL SETTORE DEL TP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23652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ormazione di alleanze fra azi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ilevanti barriere all’entr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simmetrie inform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orte presenza degli incumb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4572000"/>
            <a:ext cx="8076960" cy="8254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enario modificato dal decreto 269 del 30 settembre 2003 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1600200"/>
            <a:ext cx="7620120" cy="947160"/>
            <a:chOff x="228600" y="1600200"/>
            <a:chExt cx="7620120" cy="947160"/>
          </a:xfrm>
        </p:grpSpPr>
        <p:sp>
          <p:nvSpPr>
            <p:cNvPr id="290" name=""/>
            <p:cNvSpPr/>
            <p:nvPr/>
          </p:nvSpPr>
          <p:spPr>
            <a:xfrm>
              <a:off x="990720" y="1600200"/>
              <a:ext cx="685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cora pochi servizi assegnati tramite gar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167652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50520" y="625320"/>
            <a:ext cx="782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C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FFETTUARE UN’ANALISI DI EFFICI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ICATA ALLE AZIENDE DI TP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4290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 fine di avere gli strumenti per effettuare una corretta pianificazione ed individuazione dei bacini di traffico da mettere a gara individuando se sussistono economie di scala e/o economie di densità nel setto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3581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 fine di comprendere quale è la causa predominante della crescita dei costi di Tpl e individuare le possibili strategie da adott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3581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3840" y="380880"/>
            <a:ext cx="78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 COSTI NEL SETTORE DEL TRASPORTO PUB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1676520"/>
            <a:ext cx="2514600" cy="761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sti fissi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3048120"/>
            <a:ext cx="2590920" cy="7617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sti variabi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581280" y="1203480"/>
            <a:ext cx="5019120" cy="1465920"/>
            <a:chOff x="3581280" y="1203480"/>
            <a:chExt cx="5019120" cy="1465920"/>
          </a:xfrm>
        </p:grpSpPr>
        <p:sp>
          <p:nvSpPr>
            <p:cNvPr id="303" name=""/>
            <p:cNvSpPr/>
            <p:nvPr/>
          </p:nvSpPr>
          <p:spPr>
            <a:xfrm flipV="1">
              <a:off x="3581280" y="1523520"/>
              <a:ext cx="838440" cy="381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280" y="1981080"/>
              <a:ext cx="914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057400"/>
              <a:ext cx="91440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45560" y="1203480"/>
              <a:ext cx="33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mmortamento mezz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56160" y="167652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sti del persona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47600" y="2209680"/>
              <a:ext cx="39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lcuni costi di manutenzi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657600" y="2895480"/>
            <a:ext cx="4612320" cy="1145520"/>
            <a:chOff x="3657600" y="2895480"/>
            <a:chExt cx="4612320" cy="1145520"/>
          </a:xfrm>
        </p:grpSpPr>
        <p:sp>
          <p:nvSpPr>
            <p:cNvPr id="310" name=""/>
            <p:cNvSpPr/>
            <p:nvPr/>
          </p:nvSpPr>
          <p:spPr>
            <a:xfrm flipV="1">
              <a:off x="3657600" y="3123720"/>
              <a:ext cx="838080" cy="381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57600" y="3505320"/>
              <a:ext cx="91440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9400" y="2895480"/>
              <a:ext cx="36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sti consumo carbura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25000" y="358128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sti manutenzi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066680" y="4267080"/>
            <a:ext cx="2590920" cy="8384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sti esoge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657600" y="4495680"/>
            <a:ext cx="4773240" cy="459720"/>
            <a:chOff x="3657600" y="4495680"/>
            <a:chExt cx="4773240" cy="459720"/>
          </a:xfrm>
        </p:grpSpPr>
        <p:sp>
          <p:nvSpPr>
            <p:cNvPr id="316" name=""/>
            <p:cNvSpPr/>
            <p:nvPr/>
          </p:nvSpPr>
          <p:spPr>
            <a:xfrm>
              <a:off x="3657600" y="4724280"/>
              <a:ext cx="914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5800" y="4495680"/>
              <a:ext cx="37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sti legati alla congesti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066680" y="5991120"/>
            <a:ext cx="5577480" cy="561960"/>
            <a:chOff x="1066680" y="5991120"/>
            <a:chExt cx="5577480" cy="561960"/>
          </a:xfrm>
        </p:grpSpPr>
        <p:sp>
          <p:nvSpPr>
            <p:cNvPr id="319" name=""/>
            <p:cNvSpPr/>
            <p:nvPr/>
          </p:nvSpPr>
          <p:spPr>
            <a:xfrm>
              <a:off x="1066680" y="6019920"/>
              <a:ext cx="1295640" cy="533160"/>
            </a:xfrm>
            <a:custGeom>
              <a:avLst/>
              <a:gdLst>
                <a:gd name="textAreaLeft" fmla="*/ 162000 w 1295640"/>
                <a:gd name="textAreaRight" fmla="*/ 1134000 w 129564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00920" y="5991120"/>
              <a:ext cx="41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ECONOMIE DI SCALA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854800" y="5410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onderanza costi fi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2346b1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585280" y="152280"/>
            <a:ext cx="406440" cy="533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750040" y="30492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CIDENZA DEI C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23960" y="1025640"/>
            <a:ext cx="7780320" cy="5565600"/>
            <a:chOff x="723960" y="1025640"/>
            <a:chExt cx="7780320" cy="5565600"/>
          </a:xfrm>
        </p:grpSpPr>
        <p:sp>
          <p:nvSpPr>
            <p:cNvPr id="326" name=""/>
            <p:cNvSpPr/>
            <p:nvPr/>
          </p:nvSpPr>
          <p:spPr>
            <a:xfrm>
              <a:off x="723960" y="1025640"/>
              <a:ext cx="7780320" cy="55656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03680" y="1933560"/>
              <a:ext cx="216000" cy="1544760"/>
            </a:xfrm>
            <a:custGeom>
              <a:avLst/>
              <a:gdLst/>
              <a:ahLst/>
              <a:rect l="l" t="t" r="r" b="b"/>
              <a:pathLst>
                <a:path w="136" h="973">
                  <a:moveTo>
                    <a:pt x="136" y="786"/>
                  </a:moveTo>
                  <a:lnTo>
                    <a:pt x="0" y="0"/>
                  </a:lnTo>
                  <a:lnTo>
                    <a:pt x="0" y="187"/>
                  </a:lnTo>
                  <a:lnTo>
                    <a:pt x="136" y="973"/>
                  </a:lnTo>
                  <a:lnTo>
                    <a:pt x="136" y="786"/>
                  </a:lnTo>
                  <a:close/>
                </a:path>
              </a:pathLst>
            </a:custGeom>
            <a:solidFill>
              <a:srgbClr val="800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19680" y="2359080"/>
              <a:ext cx="1334880" cy="1119240"/>
            </a:xfrm>
            <a:custGeom>
              <a:avLst/>
              <a:gdLst/>
              <a:ahLst/>
              <a:rect l="l" t="t" r="r" b="b"/>
              <a:pathLst>
                <a:path w="841" h="705">
                  <a:moveTo>
                    <a:pt x="0" y="518"/>
                  </a:moveTo>
                  <a:lnTo>
                    <a:pt x="841" y="0"/>
                  </a:lnTo>
                  <a:lnTo>
                    <a:pt x="841" y="187"/>
                  </a:lnTo>
                  <a:lnTo>
                    <a:pt x="0" y="705"/>
                  </a:lnTo>
                  <a:lnTo>
                    <a:pt x="0" y="518"/>
                  </a:lnTo>
                  <a:close/>
                </a:path>
              </a:pathLst>
            </a:custGeom>
            <a:solidFill>
              <a:srgbClr val="800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03680" y="1925640"/>
              <a:ext cx="1550880" cy="1255680"/>
            </a:xfrm>
            <a:custGeom>
              <a:avLst/>
              <a:gdLst/>
              <a:ahLst/>
              <a:rect l="l" t="t" r="r" b="b"/>
              <a:pathLst>
                <a:path w="977" h="791">
                  <a:moveTo>
                    <a:pt x="0" y="5"/>
                  </a:moveTo>
                  <a:lnTo>
                    <a:pt x="20" y="5"/>
                  </a:lnTo>
                  <a:lnTo>
                    <a:pt x="39" y="0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6" y="0"/>
                  </a:lnTo>
                  <a:lnTo>
                    <a:pt x="136" y="0"/>
                  </a:lnTo>
                  <a:lnTo>
                    <a:pt x="155" y="0"/>
                  </a:lnTo>
                  <a:lnTo>
                    <a:pt x="174" y="0"/>
                  </a:lnTo>
                  <a:lnTo>
                    <a:pt x="194" y="0"/>
                  </a:lnTo>
                  <a:lnTo>
                    <a:pt x="213" y="0"/>
                  </a:lnTo>
                  <a:lnTo>
                    <a:pt x="232" y="0"/>
                  </a:lnTo>
                  <a:lnTo>
                    <a:pt x="252" y="5"/>
                  </a:lnTo>
                  <a:lnTo>
                    <a:pt x="271" y="5"/>
                  </a:lnTo>
                  <a:lnTo>
                    <a:pt x="290" y="5"/>
                  </a:lnTo>
                  <a:lnTo>
                    <a:pt x="310" y="9"/>
                  </a:lnTo>
                  <a:lnTo>
                    <a:pt x="329" y="9"/>
                  </a:lnTo>
                  <a:lnTo>
                    <a:pt x="348" y="14"/>
                  </a:lnTo>
                  <a:lnTo>
                    <a:pt x="368" y="18"/>
                  </a:lnTo>
                  <a:lnTo>
                    <a:pt x="387" y="18"/>
                  </a:lnTo>
                  <a:lnTo>
                    <a:pt x="407" y="23"/>
                  </a:lnTo>
                  <a:lnTo>
                    <a:pt x="426" y="27"/>
                  </a:lnTo>
                  <a:lnTo>
                    <a:pt x="440" y="32"/>
                  </a:lnTo>
                  <a:lnTo>
                    <a:pt x="460" y="36"/>
                  </a:lnTo>
                  <a:lnTo>
                    <a:pt x="479" y="36"/>
                  </a:lnTo>
                  <a:lnTo>
                    <a:pt x="498" y="41"/>
                  </a:lnTo>
                  <a:lnTo>
                    <a:pt x="518" y="45"/>
                  </a:lnTo>
                  <a:lnTo>
                    <a:pt x="537" y="54"/>
                  </a:lnTo>
                  <a:lnTo>
                    <a:pt x="537" y="54"/>
                  </a:lnTo>
                  <a:lnTo>
                    <a:pt x="552" y="58"/>
                  </a:lnTo>
                  <a:lnTo>
                    <a:pt x="571" y="63"/>
                  </a:lnTo>
                  <a:lnTo>
                    <a:pt x="590" y="67"/>
                  </a:lnTo>
                  <a:lnTo>
                    <a:pt x="605" y="72"/>
                  </a:lnTo>
                  <a:lnTo>
                    <a:pt x="624" y="81"/>
                  </a:lnTo>
                  <a:lnTo>
                    <a:pt x="644" y="85"/>
                  </a:lnTo>
                  <a:lnTo>
                    <a:pt x="658" y="94"/>
                  </a:lnTo>
                  <a:lnTo>
                    <a:pt x="677" y="99"/>
                  </a:lnTo>
                  <a:lnTo>
                    <a:pt x="692" y="108"/>
                  </a:lnTo>
                  <a:lnTo>
                    <a:pt x="711" y="112"/>
                  </a:lnTo>
                  <a:lnTo>
                    <a:pt x="726" y="121"/>
                  </a:lnTo>
                  <a:lnTo>
                    <a:pt x="745" y="125"/>
                  </a:lnTo>
                  <a:lnTo>
                    <a:pt x="760" y="134"/>
                  </a:lnTo>
                  <a:lnTo>
                    <a:pt x="774" y="143"/>
                  </a:lnTo>
                  <a:lnTo>
                    <a:pt x="794" y="152"/>
                  </a:lnTo>
                  <a:lnTo>
                    <a:pt x="808" y="157"/>
                  </a:lnTo>
                  <a:lnTo>
                    <a:pt x="823" y="166"/>
                  </a:lnTo>
                  <a:lnTo>
                    <a:pt x="837" y="175"/>
                  </a:lnTo>
                  <a:lnTo>
                    <a:pt x="852" y="184"/>
                  </a:lnTo>
                  <a:lnTo>
                    <a:pt x="866" y="192"/>
                  </a:lnTo>
                  <a:lnTo>
                    <a:pt x="881" y="201"/>
                  </a:lnTo>
                  <a:lnTo>
                    <a:pt x="895" y="210"/>
                  </a:lnTo>
                  <a:lnTo>
                    <a:pt x="910" y="224"/>
                  </a:lnTo>
                  <a:lnTo>
                    <a:pt x="924" y="233"/>
                  </a:lnTo>
                  <a:lnTo>
                    <a:pt x="939" y="242"/>
                  </a:lnTo>
                  <a:lnTo>
                    <a:pt x="953" y="250"/>
                  </a:lnTo>
                  <a:lnTo>
                    <a:pt x="963" y="259"/>
                  </a:lnTo>
                  <a:lnTo>
                    <a:pt x="977" y="273"/>
                  </a:lnTo>
                  <a:lnTo>
                    <a:pt x="136" y="79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6840" y="2224080"/>
              <a:ext cx="1136520" cy="1262160"/>
            </a:xfrm>
            <a:custGeom>
              <a:avLst/>
              <a:gdLst/>
              <a:ahLst/>
              <a:rect l="l" t="t" r="r" b="b"/>
              <a:pathLst>
                <a:path w="716" h="795">
                  <a:moveTo>
                    <a:pt x="716" y="607"/>
                  </a:moveTo>
                  <a:lnTo>
                    <a:pt x="0" y="0"/>
                  </a:lnTo>
                  <a:lnTo>
                    <a:pt x="0" y="188"/>
                  </a:lnTo>
                  <a:lnTo>
                    <a:pt x="716" y="795"/>
                  </a:lnTo>
                  <a:lnTo>
                    <a:pt x="716" y="607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28920" y="1940040"/>
              <a:ext cx="1144440" cy="1247760"/>
            </a:xfrm>
            <a:custGeom>
              <a:avLst/>
              <a:gdLst/>
              <a:ahLst/>
              <a:rect l="l" t="t" r="r" b="b"/>
              <a:pathLst>
                <a:path w="721" h="786">
                  <a:moveTo>
                    <a:pt x="0" y="179"/>
                  </a:moveTo>
                  <a:lnTo>
                    <a:pt x="15" y="170"/>
                  </a:lnTo>
                  <a:lnTo>
                    <a:pt x="34" y="161"/>
                  </a:lnTo>
                  <a:lnTo>
                    <a:pt x="49" y="152"/>
                  </a:lnTo>
                  <a:lnTo>
                    <a:pt x="63" y="148"/>
                  </a:lnTo>
                  <a:lnTo>
                    <a:pt x="78" y="139"/>
                  </a:lnTo>
                  <a:lnTo>
                    <a:pt x="97" y="130"/>
                  </a:lnTo>
                  <a:lnTo>
                    <a:pt x="111" y="121"/>
                  </a:lnTo>
                  <a:lnTo>
                    <a:pt x="126" y="116"/>
                  </a:lnTo>
                  <a:lnTo>
                    <a:pt x="145" y="108"/>
                  </a:lnTo>
                  <a:lnTo>
                    <a:pt x="160" y="103"/>
                  </a:lnTo>
                  <a:lnTo>
                    <a:pt x="179" y="94"/>
                  </a:lnTo>
                  <a:lnTo>
                    <a:pt x="194" y="90"/>
                  </a:lnTo>
                  <a:lnTo>
                    <a:pt x="213" y="81"/>
                  </a:lnTo>
                  <a:lnTo>
                    <a:pt x="227" y="76"/>
                  </a:lnTo>
                  <a:lnTo>
                    <a:pt x="247" y="67"/>
                  </a:lnTo>
                  <a:lnTo>
                    <a:pt x="266" y="63"/>
                  </a:lnTo>
                  <a:lnTo>
                    <a:pt x="281" y="58"/>
                  </a:lnTo>
                  <a:lnTo>
                    <a:pt x="300" y="54"/>
                  </a:lnTo>
                  <a:lnTo>
                    <a:pt x="319" y="49"/>
                  </a:lnTo>
                  <a:lnTo>
                    <a:pt x="339" y="41"/>
                  </a:lnTo>
                  <a:lnTo>
                    <a:pt x="358" y="36"/>
                  </a:lnTo>
                  <a:lnTo>
                    <a:pt x="373" y="32"/>
                  </a:lnTo>
                  <a:lnTo>
                    <a:pt x="392" y="32"/>
                  </a:lnTo>
                  <a:lnTo>
                    <a:pt x="411" y="27"/>
                  </a:lnTo>
                  <a:lnTo>
                    <a:pt x="431" y="23"/>
                  </a:lnTo>
                  <a:lnTo>
                    <a:pt x="450" y="18"/>
                  </a:lnTo>
                  <a:lnTo>
                    <a:pt x="469" y="14"/>
                  </a:lnTo>
                  <a:lnTo>
                    <a:pt x="489" y="14"/>
                  </a:lnTo>
                  <a:lnTo>
                    <a:pt x="508" y="9"/>
                  </a:lnTo>
                  <a:lnTo>
                    <a:pt x="527" y="5"/>
                  </a:lnTo>
                  <a:lnTo>
                    <a:pt x="547" y="5"/>
                  </a:lnTo>
                  <a:lnTo>
                    <a:pt x="566" y="0"/>
                  </a:lnTo>
                  <a:lnTo>
                    <a:pt x="585" y="0"/>
                  </a:lnTo>
                  <a:lnTo>
                    <a:pt x="721" y="786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2054160"/>
              <a:ext cx="1182600" cy="1233720"/>
            </a:xfrm>
            <a:custGeom>
              <a:avLst/>
              <a:gdLst/>
              <a:ahLst/>
              <a:rect l="l" t="t" r="r" b="b"/>
              <a:pathLst>
                <a:path w="745" h="777">
                  <a:moveTo>
                    <a:pt x="745" y="589"/>
                  </a:moveTo>
                  <a:lnTo>
                    <a:pt x="0" y="0"/>
                  </a:lnTo>
                  <a:lnTo>
                    <a:pt x="0" y="187"/>
                  </a:lnTo>
                  <a:lnTo>
                    <a:pt x="745" y="777"/>
                  </a:lnTo>
                  <a:lnTo>
                    <a:pt x="745" y="589"/>
                  </a:lnTo>
                  <a:close/>
                </a:path>
              </a:pathLst>
            </a:custGeom>
            <a:solidFill>
              <a:srgbClr val="8066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76400" y="2025720"/>
              <a:ext cx="1190520" cy="963720"/>
            </a:xfrm>
            <a:custGeom>
              <a:avLst/>
              <a:gdLst/>
              <a:ahLst/>
              <a:rect l="l" t="t" r="r" b="b"/>
              <a:pathLst>
                <a:path w="750" h="607">
                  <a:moveTo>
                    <a:pt x="0" y="18"/>
                  </a:moveTo>
                  <a:lnTo>
                    <a:pt x="14" y="9"/>
                  </a:lnTo>
                  <a:lnTo>
                    <a:pt x="14" y="9"/>
                  </a:lnTo>
                  <a:lnTo>
                    <a:pt x="29" y="0"/>
                  </a:lnTo>
                  <a:lnTo>
                    <a:pt x="750" y="60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60680" y="1962000"/>
              <a:ext cx="1252440" cy="1182960"/>
            </a:xfrm>
            <a:custGeom>
              <a:avLst/>
              <a:gdLst/>
              <a:ahLst/>
              <a:rect l="l" t="t" r="r" b="b"/>
              <a:pathLst>
                <a:path w="789" h="745">
                  <a:moveTo>
                    <a:pt x="789" y="558"/>
                  </a:moveTo>
                  <a:lnTo>
                    <a:pt x="0" y="0"/>
                  </a:lnTo>
                  <a:lnTo>
                    <a:pt x="0" y="187"/>
                  </a:lnTo>
                  <a:lnTo>
                    <a:pt x="789" y="745"/>
                  </a:lnTo>
                  <a:lnTo>
                    <a:pt x="789" y="558"/>
                  </a:lnTo>
                  <a:close/>
                </a:path>
              </a:pathLst>
            </a:custGeom>
            <a:solidFill>
              <a:srgbClr val="0066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54200" y="1911240"/>
              <a:ext cx="1258920" cy="936720"/>
            </a:xfrm>
            <a:custGeom>
              <a:avLst/>
              <a:gdLst/>
              <a:ahLst/>
              <a:rect l="l" t="t" r="r" b="b"/>
              <a:pathLst>
                <a:path w="793" h="590">
                  <a:moveTo>
                    <a:pt x="0" y="32"/>
                  </a:moveTo>
                  <a:lnTo>
                    <a:pt x="14" y="23"/>
                  </a:lnTo>
                  <a:lnTo>
                    <a:pt x="29" y="9"/>
                  </a:lnTo>
                  <a:lnTo>
                    <a:pt x="43" y="0"/>
                  </a:lnTo>
                  <a:lnTo>
                    <a:pt x="793" y="59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77920" y="1706400"/>
              <a:ext cx="1274760" cy="1170000"/>
            </a:xfrm>
            <a:custGeom>
              <a:avLst/>
              <a:gdLst/>
              <a:ahLst/>
              <a:rect l="l" t="t" r="r" b="b"/>
              <a:pathLst>
                <a:path w="803" h="737">
                  <a:moveTo>
                    <a:pt x="803" y="549"/>
                  </a:moveTo>
                  <a:lnTo>
                    <a:pt x="0" y="0"/>
                  </a:lnTo>
                  <a:lnTo>
                    <a:pt x="0" y="188"/>
                  </a:lnTo>
                  <a:lnTo>
                    <a:pt x="803" y="737"/>
                  </a:lnTo>
                  <a:lnTo>
                    <a:pt x="803" y="549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7920" y="1692360"/>
              <a:ext cx="1274760" cy="885600"/>
            </a:xfrm>
            <a:custGeom>
              <a:avLst/>
              <a:gdLst/>
              <a:ahLst/>
              <a:rect l="l" t="t" r="r" b="b"/>
              <a:pathLst>
                <a:path w="803" h="558">
                  <a:moveTo>
                    <a:pt x="0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803" y="55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25960" y="2706840"/>
              <a:ext cx="1566720" cy="885600"/>
            </a:xfrm>
            <a:custGeom>
              <a:avLst/>
              <a:gdLst/>
              <a:ahLst/>
              <a:rect l="l" t="t" r="r" b="b"/>
              <a:pathLst>
                <a:path w="987" h="558">
                  <a:moveTo>
                    <a:pt x="0" y="370"/>
                  </a:moveTo>
                  <a:lnTo>
                    <a:pt x="987" y="0"/>
                  </a:lnTo>
                  <a:lnTo>
                    <a:pt x="987" y="187"/>
                  </a:lnTo>
                  <a:lnTo>
                    <a:pt x="0" y="558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1a4d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25960" y="2471760"/>
              <a:ext cx="1566720" cy="822240"/>
            </a:xfrm>
            <a:custGeom>
              <a:avLst/>
              <a:gdLst/>
              <a:ahLst/>
              <a:rect l="l" t="t" r="r" b="b"/>
              <a:pathLst>
                <a:path w="987" h="518">
                  <a:moveTo>
                    <a:pt x="842" y="0"/>
                  </a:moveTo>
                  <a:lnTo>
                    <a:pt x="856" y="9"/>
                  </a:lnTo>
                  <a:lnTo>
                    <a:pt x="866" y="23"/>
                  </a:lnTo>
                  <a:lnTo>
                    <a:pt x="881" y="32"/>
                  </a:lnTo>
                  <a:lnTo>
                    <a:pt x="881" y="32"/>
                  </a:lnTo>
                  <a:lnTo>
                    <a:pt x="890" y="40"/>
                  </a:lnTo>
                  <a:lnTo>
                    <a:pt x="905" y="54"/>
                  </a:lnTo>
                  <a:lnTo>
                    <a:pt x="915" y="63"/>
                  </a:lnTo>
                  <a:lnTo>
                    <a:pt x="924" y="76"/>
                  </a:lnTo>
                  <a:lnTo>
                    <a:pt x="934" y="90"/>
                  </a:lnTo>
                  <a:lnTo>
                    <a:pt x="948" y="98"/>
                  </a:lnTo>
                  <a:lnTo>
                    <a:pt x="958" y="112"/>
                  </a:lnTo>
                  <a:lnTo>
                    <a:pt x="958" y="112"/>
                  </a:lnTo>
                  <a:lnTo>
                    <a:pt x="968" y="121"/>
                  </a:lnTo>
                  <a:lnTo>
                    <a:pt x="977" y="134"/>
                  </a:lnTo>
                  <a:lnTo>
                    <a:pt x="987" y="148"/>
                  </a:lnTo>
                  <a:lnTo>
                    <a:pt x="0" y="518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3399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0440" y="3060720"/>
              <a:ext cx="1735200" cy="560520"/>
            </a:xfrm>
            <a:custGeom>
              <a:avLst/>
              <a:gdLst/>
              <a:ahLst/>
              <a:rect l="l" t="t" r="r" b="b"/>
              <a:pathLst>
                <a:path w="1093" h="353">
                  <a:moveTo>
                    <a:pt x="1093" y="165"/>
                  </a:moveTo>
                  <a:lnTo>
                    <a:pt x="0" y="0"/>
                  </a:lnTo>
                  <a:lnTo>
                    <a:pt x="0" y="187"/>
                  </a:lnTo>
                  <a:lnTo>
                    <a:pt x="1093" y="353"/>
                  </a:lnTo>
                  <a:lnTo>
                    <a:pt x="1093" y="165"/>
                  </a:lnTo>
                  <a:close/>
                </a:path>
              </a:pathLst>
            </a:custGeom>
            <a:solidFill>
              <a:srgbClr val="808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30440" y="2451240"/>
              <a:ext cx="1735200" cy="871560"/>
            </a:xfrm>
            <a:custGeom>
              <a:avLst/>
              <a:gdLst/>
              <a:ahLst/>
              <a:rect l="l" t="t" r="r" b="b"/>
              <a:pathLst>
                <a:path w="1093" h="549">
                  <a:moveTo>
                    <a:pt x="0" y="384"/>
                  </a:moveTo>
                  <a:lnTo>
                    <a:pt x="5" y="370"/>
                  </a:lnTo>
                  <a:lnTo>
                    <a:pt x="10" y="357"/>
                  </a:lnTo>
                  <a:lnTo>
                    <a:pt x="15" y="344"/>
                  </a:lnTo>
                  <a:lnTo>
                    <a:pt x="19" y="330"/>
                  </a:lnTo>
                  <a:lnTo>
                    <a:pt x="24" y="317"/>
                  </a:lnTo>
                  <a:lnTo>
                    <a:pt x="29" y="303"/>
                  </a:lnTo>
                  <a:lnTo>
                    <a:pt x="34" y="290"/>
                  </a:lnTo>
                  <a:lnTo>
                    <a:pt x="44" y="281"/>
                  </a:lnTo>
                  <a:lnTo>
                    <a:pt x="48" y="268"/>
                  </a:lnTo>
                  <a:lnTo>
                    <a:pt x="58" y="254"/>
                  </a:lnTo>
                  <a:lnTo>
                    <a:pt x="63" y="241"/>
                  </a:lnTo>
                  <a:lnTo>
                    <a:pt x="73" y="228"/>
                  </a:lnTo>
                  <a:lnTo>
                    <a:pt x="77" y="214"/>
                  </a:lnTo>
                  <a:lnTo>
                    <a:pt x="87" y="201"/>
                  </a:lnTo>
                  <a:lnTo>
                    <a:pt x="97" y="192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16" y="165"/>
                  </a:lnTo>
                  <a:lnTo>
                    <a:pt x="126" y="152"/>
                  </a:lnTo>
                  <a:lnTo>
                    <a:pt x="135" y="143"/>
                  </a:lnTo>
                  <a:lnTo>
                    <a:pt x="145" y="129"/>
                  </a:lnTo>
                  <a:lnTo>
                    <a:pt x="155" y="120"/>
                  </a:lnTo>
                  <a:lnTo>
                    <a:pt x="164" y="107"/>
                  </a:lnTo>
                  <a:lnTo>
                    <a:pt x="179" y="94"/>
                  </a:lnTo>
                  <a:lnTo>
                    <a:pt x="189" y="85"/>
                  </a:lnTo>
                  <a:lnTo>
                    <a:pt x="198" y="71"/>
                  </a:lnTo>
                  <a:lnTo>
                    <a:pt x="213" y="62"/>
                  </a:lnTo>
                  <a:lnTo>
                    <a:pt x="223" y="53"/>
                  </a:lnTo>
                  <a:lnTo>
                    <a:pt x="237" y="40"/>
                  </a:lnTo>
                  <a:lnTo>
                    <a:pt x="247" y="31"/>
                  </a:lnTo>
                  <a:lnTo>
                    <a:pt x="261" y="18"/>
                  </a:lnTo>
                  <a:lnTo>
                    <a:pt x="276" y="9"/>
                  </a:lnTo>
                  <a:lnTo>
                    <a:pt x="290" y="0"/>
                  </a:lnTo>
                  <a:lnTo>
                    <a:pt x="1093" y="549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4800" y="3782880"/>
              <a:ext cx="3547800" cy="1560600"/>
            </a:xfrm>
            <a:custGeom>
              <a:avLst/>
              <a:gdLst/>
              <a:ahLst/>
              <a:rect l="l" t="t" r="r" b="b"/>
              <a:pathLst>
                <a:path w="2235" h="983">
                  <a:moveTo>
                    <a:pt x="2235" y="0"/>
                  </a:moveTo>
                  <a:lnTo>
                    <a:pt x="2235" y="14"/>
                  </a:lnTo>
                  <a:lnTo>
                    <a:pt x="2235" y="27"/>
                  </a:lnTo>
                  <a:lnTo>
                    <a:pt x="2230" y="45"/>
                  </a:lnTo>
                  <a:lnTo>
                    <a:pt x="2230" y="58"/>
                  </a:lnTo>
                  <a:lnTo>
                    <a:pt x="2230" y="72"/>
                  </a:lnTo>
                  <a:lnTo>
                    <a:pt x="2226" y="85"/>
                  </a:lnTo>
                  <a:lnTo>
                    <a:pt x="2226" y="99"/>
                  </a:lnTo>
                  <a:lnTo>
                    <a:pt x="2226" y="112"/>
                  </a:lnTo>
                  <a:lnTo>
                    <a:pt x="2221" y="125"/>
                  </a:lnTo>
                  <a:lnTo>
                    <a:pt x="2216" y="139"/>
                  </a:lnTo>
                  <a:lnTo>
                    <a:pt x="2216" y="152"/>
                  </a:lnTo>
                  <a:lnTo>
                    <a:pt x="2211" y="166"/>
                  </a:lnTo>
                  <a:lnTo>
                    <a:pt x="2206" y="179"/>
                  </a:lnTo>
                  <a:lnTo>
                    <a:pt x="2201" y="192"/>
                  </a:lnTo>
                  <a:lnTo>
                    <a:pt x="2197" y="206"/>
                  </a:lnTo>
                  <a:lnTo>
                    <a:pt x="2192" y="219"/>
                  </a:lnTo>
                  <a:lnTo>
                    <a:pt x="2187" y="233"/>
                  </a:lnTo>
                  <a:lnTo>
                    <a:pt x="2177" y="246"/>
                  </a:lnTo>
                  <a:lnTo>
                    <a:pt x="2172" y="259"/>
                  </a:lnTo>
                  <a:lnTo>
                    <a:pt x="2167" y="273"/>
                  </a:lnTo>
                  <a:lnTo>
                    <a:pt x="2158" y="286"/>
                  </a:lnTo>
                  <a:lnTo>
                    <a:pt x="2153" y="300"/>
                  </a:lnTo>
                  <a:lnTo>
                    <a:pt x="2143" y="313"/>
                  </a:lnTo>
                  <a:lnTo>
                    <a:pt x="2138" y="322"/>
                  </a:lnTo>
                  <a:lnTo>
                    <a:pt x="2129" y="335"/>
                  </a:lnTo>
                  <a:lnTo>
                    <a:pt x="2119" y="349"/>
                  </a:lnTo>
                  <a:lnTo>
                    <a:pt x="2114" y="362"/>
                  </a:lnTo>
                  <a:lnTo>
                    <a:pt x="2105" y="375"/>
                  </a:lnTo>
                  <a:lnTo>
                    <a:pt x="2095" y="384"/>
                  </a:lnTo>
                  <a:lnTo>
                    <a:pt x="2085" y="398"/>
                  </a:lnTo>
                  <a:lnTo>
                    <a:pt x="2076" y="411"/>
                  </a:lnTo>
                  <a:lnTo>
                    <a:pt x="2066" y="420"/>
                  </a:lnTo>
                  <a:lnTo>
                    <a:pt x="2051" y="433"/>
                  </a:lnTo>
                  <a:lnTo>
                    <a:pt x="2042" y="447"/>
                  </a:lnTo>
                  <a:lnTo>
                    <a:pt x="2032" y="456"/>
                  </a:lnTo>
                  <a:lnTo>
                    <a:pt x="2022" y="469"/>
                  </a:lnTo>
                  <a:lnTo>
                    <a:pt x="2008" y="478"/>
                  </a:lnTo>
                  <a:lnTo>
                    <a:pt x="1998" y="492"/>
                  </a:lnTo>
                  <a:lnTo>
                    <a:pt x="1984" y="500"/>
                  </a:lnTo>
                  <a:lnTo>
                    <a:pt x="1974" y="509"/>
                  </a:lnTo>
                  <a:lnTo>
                    <a:pt x="1959" y="523"/>
                  </a:lnTo>
                  <a:lnTo>
                    <a:pt x="1945" y="532"/>
                  </a:lnTo>
                  <a:lnTo>
                    <a:pt x="1935" y="541"/>
                  </a:lnTo>
                  <a:lnTo>
                    <a:pt x="1921" y="554"/>
                  </a:lnTo>
                  <a:lnTo>
                    <a:pt x="1906" y="563"/>
                  </a:lnTo>
                  <a:lnTo>
                    <a:pt x="1892" y="572"/>
                  </a:lnTo>
                  <a:lnTo>
                    <a:pt x="1877" y="581"/>
                  </a:lnTo>
                  <a:lnTo>
                    <a:pt x="1863" y="590"/>
                  </a:lnTo>
                  <a:lnTo>
                    <a:pt x="1848" y="599"/>
                  </a:lnTo>
                  <a:lnTo>
                    <a:pt x="1834" y="608"/>
                  </a:lnTo>
                  <a:lnTo>
                    <a:pt x="1819" y="617"/>
                  </a:lnTo>
                  <a:lnTo>
                    <a:pt x="1805" y="625"/>
                  </a:lnTo>
                  <a:lnTo>
                    <a:pt x="1790" y="634"/>
                  </a:lnTo>
                  <a:lnTo>
                    <a:pt x="1776" y="643"/>
                  </a:lnTo>
                  <a:lnTo>
                    <a:pt x="1756" y="652"/>
                  </a:lnTo>
                  <a:lnTo>
                    <a:pt x="1742" y="657"/>
                  </a:lnTo>
                  <a:lnTo>
                    <a:pt x="1727" y="666"/>
                  </a:lnTo>
                  <a:lnTo>
                    <a:pt x="1708" y="675"/>
                  </a:lnTo>
                  <a:lnTo>
                    <a:pt x="1693" y="679"/>
                  </a:lnTo>
                  <a:lnTo>
                    <a:pt x="1674" y="688"/>
                  </a:lnTo>
                  <a:lnTo>
                    <a:pt x="1660" y="692"/>
                  </a:lnTo>
                  <a:lnTo>
                    <a:pt x="1640" y="701"/>
                  </a:lnTo>
                  <a:lnTo>
                    <a:pt x="1626" y="706"/>
                  </a:lnTo>
                  <a:lnTo>
                    <a:pt x="1606" y="715"/>
                  </a:lnTo>
                  <a:lnTo>
                    <a:pt x="1587" y="719"/>
                  </a:lnTo>
                  <a:lnTo>
                    <a:pt x="1572" y="724"/>
                  </a:lnTo>
                  <a:lnTo>
                    <a:pt x="1553" y="733"/>
                  </a:lnTo>
                  <a:lnTo>
                    <a:pt x="1534" y="737"/>
                  </a:lnTo>
                  <a:lnTo>
                    <a:pt x="1519" y="742"/>
                  </a:lnTo>
                  <a:lnTo>
                    <a:pt x="1500" y="746"/>
                  </a:lnTo>
                  <a:lnTo>
                    <a:pt x="1481" y="751"/>
                  </a:lnTo>
                  <a:lnTo>
                    <a:pt x="1461" y="755"/>
                  </a:lnTo>
                  <a:lnTo>
                    <a:pt x="1442" y="759"/>
                  </a:lnTo>
                  <a:lnTo>
                    <a:pt x="1422" y="764"/>
                  </a:lnTo>
                  <a:lnTo>
                    <a:pt x="1408" y="768"/>
                  </a:lnTo>
                  <a:lnTo>
                    <a:pt x="1389" y="768"/>
                  </a:lnTo>
                  <a:lnTo>
                    <a:pt x="1369" y="773"/>
                  </a:lnTo>
                  <a:lnTo>
                    <a:pt x="1350" y="777"/>
                  </a:lnTo>
                  <a:lnTo>
                    <a:pt x="1331" y="777"/>
                  </a:lnTo>
                  <a:lnTo>
                    <a:pt x="1311" y="782"/>
                  </a:lnTo>
                  <a:lnTo>
                    <a:pt x="1292" y="786"/>
                  </a:lnTo>
                  <a:lnTo>
                    <a:pt x="1273" y="786"/>
                  </a:lnTo>
                  <a:lnTo>
                    <a:pt x="1253" y="786"/>
                  </a:lnTo>
                  <a:lnTo>
                    <a:pt x="1234" y="791"/>
                  </a:lnTo>
                  <a:lnTo>
                    <a:pt x="1214" y="791"/>
                  </a:lnTo>
                  <a:lnTo>
                    <a:pt x="1195" y="791"/>
                  </a:lnTo>
                  <a:lnTo>
                    <a:pt x="1176" y="795"/>
                  </a:lnTo>
                  <a:lnTo>
                    <a:pt x="1156" y="795"/>
                  </a:lnTo>
                  <a:lnTo>
                    <a:pt x="1137" y="795"/>
                  </a:lnTo>
                  <a:lnTo>
                    <a:pt x="1118" y="795"/>
                  </a:lnTo>
                  <a:lnTo>
                    <a:pt x="1098" y="795"/>
                  </a:lnTo>
                  <a:lnTo>
                    <a:pt x="1079" y="795"/>
                  </a:lnTo>
                  <a:lnTo>
                    <a:pt x="1060" y="795"/>
                  </a:lnTo>
                  <a:lnTo>
                    <a:pt x="1040" y="791"/>
                  </a:lnTo>
                  <a:lnTo>
                    <a:pt x="1021" y="791"/>
                  </a:lnTo>
                  <a:lnTo>
                    <a:pt x="1002" y="791"/>
                  </a:lnTo>
                  <a:lnTo>
                    <a:pt x="982" y="786"/>
                  </a:lnTo>
                  <a:lnTo>
                    <a:pt x="963" y="786"/>
                  </a:lnTo>
                  <a:lnTo>
                    <a:pt x="944" y="786"/>
                  </a:lnTo>
                  <a:lnTo>
                    <a:pt x="924" y="782"/>
                  </a:lnTo>
                  <a:lnTo>
                    <a:pt x="905" y="777"/>
                  </a:lnTo>
                  <a:lnTo>
                    <a:pt x="886" y="777"/>
                  </a:lnTo>
                  <a:lnTo>
                    <a:pt x="866" y="773"/>
                  </a:lnTo>
                  <a:lnTo>
                    <a:pt x="847" y="768"/>
                  </a:lnTo>
                  <a:lnTo>
                    <a:pt x="827" y="768"/>
                  </a:lnTo>
                  <a:lnTo>
                    <a:pt x="808" y="764"/>
                  </a:lnTo>
                  <a:lnTo>
                    <a:pt x="789" y="759"/>
                  </a:lnTo>
                  <a:lnTo>
                    <a:pt x="769" y="755"/>
                  </a:lnTo>
                  <a:lnTo>
                    <a:pt x="755" y="751"/>
                  </a:lnTo>
                  <a:lnTo>
                    <a:pt x="736" y="746"/>
                  </a:lnTo>
                  <a:lnTo>
                    <a:pt x="716" y="742"/>
                  </a:lnTo>
                  <a:lnTo>
                    <a:pt x="697" y="737"/>
                  </a:lnTo>
                  <a:lnTo>
                    <a:pt x="678" y="733"/>
                  </a:lnTo>
                  <a:lnTo>
                    <a:pt x="663" y="724"/>
                  </a:lnTo>
                  <a:lnTo>
                    <a:pt x="644" y="719"/>
                  </a:lnTo>
                  <a:lnTo>
                    <a:pt x="624" y="715"/>
                  </a:lnTo>
                  <a:lnTo>
                    <a:pt x="610" y="706"/>
                  </a:lnTo>
                  <a:lnTo>
                    <a:pt x="590" y="701"/>
                  </a:lnTo>
                  <a:lnTo>
                    <a:pt x="576" y="692"/>
                  </a:lnTo>
                  <a:lnTo>
                    <a:pt x="557" y="688"/>
                  </a:lnTo>
                  <a:lnTo>
                    <a:pt x="542" y="679"/>
                  </a:lnTo>
                  <a:lnTo>
                    <a:pt x="523" y="675"/>
                  </a:lnTo>
                  <a:lnTo>
                    <a:pt x="508" y="666"/>
                  </a:lnTo>
                  <a:lnTo>
                    <a:pt x="494" y="657"/>
                  </a:lnTo>
                  <a:lnTo>
                    <a:pt x="474" y="652"/>
                  </a:lnTo>
                  <a:lnTo>
                    <a:pt x="460" y="643"/>
                  </a:lnTo>
                  <a:lnTo>
                    <a:pt x="445" y="634"/>
                  </a:lnTo>
                  <a:lnTo>
                    <a:pt x="431" y="625"/>
                  </a:lnTo>
                  <a:lnTo>
                    <a:pt x="411" y="617"/>
                  </a:lnTo>
                  <a:lnTo>
                    <a:pt x="397" y="608"/>
                  </a:lnTo>
                  <a:lnTo>
                    <a:pt x="382" y="599"/>
                  </a:lnTo>
                  <a:lnTo>
                    <a:pt x="368" y="590"/>
                  </a:lnTo>
                  <a:lnTo>
                    <a:pt x="353" y="581"/>
                  </a:lnTo>
                  <a:lnTo>
                    <a:pt x="339" y="572"/>
                  </a:lnTo>
                  <a:lnTo>
                    <a:pt x="324" y="563"/>
                  </a:lnTo>
                  <a:lnTo>
                    <a:pt x="315" y="554"/>
                  </a:lnTo>
                  <a:lnTo>
                    <a:pt x="300" y="541"/>
                  </a:lnTo>
                  <a:lnTo>
                    <a:pt x="286" y="532"/>
                  </a:lnTo>
                  <a:lnTo>
                    <a:pt x="271" y="523"/>
                  </a:lnTo>
                  <a:lnTo>
                    <a:pt x="261" y="509"/>
                  </a:lnTo>
                  <a:lnTo>
                    <a:pt x="247" y="500"/>
                  </a:lnTo>
                  <a:lnTo>
                    <a:pt x="237" y="492"/>
                  </a:lnTo>
                  <a:lnTo>
                    <a:pt x="223" y="478"/>
                  </a:lnTo>
                  <a:lnTo>
                    <a:pt x="213" y="469"/>
                  </a:lnTo>
                  <a:lnTo>
                    <a:pt x="203" y="456"/>
                  </a:lnTo>
                  <a:lnTo>
                    <a:pt x="189" y="447"/>
                  </a:lnTo>
                  <a:lnTo>
                    <a:pt x="179" y="433"/>
                  </a:lnTo>
                  <a:lnTo>
                    <a:pt x="170" y="420"/>
                  </a:lnTo>
                  <a:lnTo>
                    <a:pt x="160" y="411"/>
                  </a:lnTo>
                  <a:lnTo>
                    <a:pt x="150" y="398"/>
                  </a:lnTo>
                  <a:lnTo>
                    <a:pt x="141" y="384"/>
                  </a:lnTo>
                  <a:lnTo>
                    <a:pt x="131" y="375"/>
                  </a:lnTo>
                  <a:lnTo>
                    <a:pt x="121" y="362"/>
                  </a:lnTo>
                  <a:lnTo>
                    <a:pt x="112" y="349"/>
                  </a:lnTo>
                  <a:lnTo>
                    <a:pt x="102" y="335"/>
                  </a:lnTo>
                  <a:lnTo>
                    <a:pt x="97" y="322"/>
                  </a:lnTo>
                  <a:lnTo>
                    <a:pt x="87" y="313"/>
                  </a:lnTo>
                  <a:lnTo>
                    <a:pt x="82" y="300"/>
                  </a:lnTo>
                  <a:lnTo>
                    <a:pt x="73" y="286"/>
                  </a:lnTo>
                  <a:lnTo>
                    <a:pt x="68" y="273"/>
                  </a:lnTo>
                  <a:lnTo>
                    <a:pt x="58" y="259"/>
                  </a:lnTo>
                  <a:lnTo>
                    <a:pt x="53" y="246"/>
                  </a:lnTo>
                  <a:lnTo>
                    <a:pt x="49" y="233"/>
                  </a:lnTo>
                  <a:lnTo>
                    <a:pt x="44" y="219"/>
                  </a:lnTo>
                  <a:lnTo>
                    <a:pt x="39" y="206"/>
                  </a:lnTo>
                  <a:lnTo>
                    <a:pt x="34" y="192"/>
                  </a:lnTo>
                  <a:lnTo>
                    <a:pt x="29" y="179"/>
                  </a:lnTo>
                  <a:lnTo>
                    <a:pt x="24" y="166"/>
                  </a:lnTo>
                  <a:lnTo>
                    <a:pt x="20" y="152"/>
                  </a:lnTo>
                  <a:lnTo>
                    <a:pt x="15" y="139"/>
                  </a:lnTo>
                  <a:lnTo>
                    <a:pt x="15" y="125"/>
                  </a:lnTo>
                  <a:lnTo>
                    <a:pt x="10" y="112"/>
                  </a:lnTo>
                  <a:lnTo>
                    <a:pt x="5" y="99"/>
                  </a:lnTo>
                  <a:lnTo>
                    <a:pt x="5" y="85"/>
                  </a:lnTo>
                  <a:lnTo>
                    <a:pt x="5" y="72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0" y="201"/>
                  </a:lnTo>
                  <a:lnTo>
                    <a:pt x="0" y="215"/>
                  </a:lnTo>
                  <a:lnTo>
                    <a:pt x="0" y="233"/>
                  </a:lnTo>
                  <a:lnTo>
                    <a:pt x="0" y="246"/>
                  </a:lnTo>
                  <a:lnTo>
                    <a:pt x="5" y="259"/>
                  </a:lnTo>
                  <a:lnTo>
                    <a:pt x="5" y="273"/>
                  </a:lnTo>
                  <a:lnTo>
                    <a:pt x="5" y="286"/>
                  </a:lnTo>
                  <a:lnTo>
                    <a:pt x="10" y="300"/>
                  </a:lnTo>
                  <a:lnTo>
                    <a:pt x="15" y="313"/>
                  </a:lnTo>
                  <a:lnTo>
                    <a:pt x="15" y="326"/>
                  </a:lnTo>
                  <a:lnTo>
                    <a:pt x="20" y="340"/>
                  </a:lnTo>
                  <a:lnTo>
                    <a:pt x="24" y="353"/>
                  </a:lnTo>
                  <a:lnTo>
                    <a:pt x="29" y="366"/>
                  </a:lnTo>
                  <a:lnTo>
                    <a:pt x="34" y="380"/>
                  </a:lnTo>
                  <a:lnTo>
                    <a:pt x="39" y="393"/>
                  </a:lnTo>
                  <a:lnTo>
                    <a:pt x="44" y="407"/>
                  </a:lnTo>
                  <a:lnTo>
                    <a:pt x="49" y="420"/>
                  </a:lnTo>
                  <a:lnTo>
                    <a:pt x="53" y="433"/>
                  </a:lnTo>
                  <a:lnTo>
                    <a:pt x="58" y="447"/>
                  </a:lnTo>
                  <a:lnTo>
                    <a:pt x="68" y="460"/>
                  </a:lnTo>
                  <a:lnTo>
                    <a:pt x="73" y="474"/>
                  </a:lnTo>
                  <a:lnTo>
                    <a:pt x="82" y="487"/>
                  </a:lnTo>
                  <a:lnTo>
                    <a:pt x="87" y="500"/>
                  </a:lnTo>
                  <a:lnTo>
                    <a:pt x="97" y="509"/>
                  </a:lnTo>
                  <a:lnTo>
                    <a:pt x="102" y="523"/>
                  </a:lnTo>
                  <a:lnTo>
                    <a:pt x="112" y="536"/>
                  </a:lnTo>
                  <a:lnTo>
                    <a:pt x="121" y="550"/>
                  </a:lnTo>
                  <a:lnTo>
                    <a:pt x="131" y="563"/>
                  </a:lnTo>
                  <a:lnTo>
                    <a:pt x="141" y="572"/>
                  </a:lnTo>
                  <a:lnTo>
                    <a:pt x="150" y="585"/>
                  </a:lnTo>
                  <a:lnTo>
                    <a:pt x="160" y="599"/>
                  </a:lnTo>
                  <a:lnTo>
                    <a:pt x="170" y="608"/>
                  </a:lnTo>
                  <a:lnTo>
                    <a:pt x="179" y="621"/>
                  </a:lnTo>
                  <a:lnTo>
                    <a:pt x="189" y="634"/>
                  </a:lnTo>
                  <a:lnTo>
                    <a:pt x="203" y="643"/>
                  </a:lnTo>
                  <a:lnTo>
                    <a:pt x="213" y="657"/>
                  </a:lnTo>
                  <a:lnTo>
                    <a:pt x="223" y="666"/>
                  </a:lnTo>
                  <a:lnTo>
                    <a:pt x="237" y="679"/>
                  </a:lnTo>
                  <a:lnTo>
                    <a:pt x="247" y="688"/>
                  </a:lnTo>
                  <a:lnTo>
                    <a:pt x="261" y="697"/>
                  </a:lnTo>
                  <a:lnTo>
                    <a:pt x="271" y="710"/>
                  </a:lnTo>
                  <a:lnTo>
                    <a:pt x="286" y="719"/>
                  </a:lnTo>
                  <a:lnTo>
                    <a:pt x="300" y="728"/>
                  </a:lnTo>
                  <a:lnTo>
                    <a:pt x="315" y="742"/>
                  </a:lnTo>
                  <a:lnTo>
                    <a:pt x="324" y="751"/>
                  </a:lnTo>
                  <a:lnTo>
                    <a:pt x="339" y="759"/>
                  </a:lnTo>
                  <a:lnTo>
                    <a:pt x="353" y="768"/>
                  </a:lnTo>
                  <a:lnTo>
                    <a:pt x="368" y="777"/>
                  </a:lnTo>
                  <a:lnTo>
                    <a:pt x="382" y="786"/>
                  </a:lnTo>
                  <a:lnTo>
                    <a:pt x="397" y="795"/>
                  </a:lnTo>
                  <a:lnTo>
                    <a:pt x="411" y="804"/>
                  </a:lnTo>
                  <a:lnTo>
                    <a:pt x="431" y="813"/>
                  </a:lnTo>
                  <a:lnTo>
                    <a:pt x="445" y="822"/>
                  </a:lnTo>
                  <a:lnTo>
                    <a:pt x="460" y="831"/>
                  </a:lnTo>
                  <a:lnTo>
                    <a:pt x="474" y="840"/>
                  </a:lnTo>
                  <a:lnTo>
                    <a:pt x="494" y="844"/>
                  </a:lnTo>
                  <a:lnTo>
                    <a:pt x="508" y="853"/>
                  </a:lnTo>
                  <a:lnTo>
                    <a:pt x="523" y="862"/>
                  </a:lnTo>
                  <a:lnTo>
                    <a:pt x="542" y="867"/>
                  </a:lnTo>
                  <a:lnTo>
                    <a:pt x="557" y="876"/>
                  </a:lnTo>
                  <a:lnTo>
                    <a:pt x="576" y="880"/>
                  </a:lnTo>
                  <a:lnTo>
                    <a:pt x="590" y="889"/>
                  </a:lnTo>
                  <a:lnTo>
                    <a:pt x="610" y="893"/>
                  </a:lnTo>
                  <a:lnTo>
                    <a:pt x="624" y="902"/>
                  </a:lnTo>
                  <a:lnTo>
                    <a:pt x="644" y="907"/>
                  </a:lnTo>
                  <a:lnTo>
                    <a:pt x="663" y="911"/>
                  </a:lnTo>
                  <a:lnTo>
                    <a:pt x="678" y="920"/>
                  </a:lnTo>
                  <a:lnTo>
                    <a:pt x="697" y="925"/>
                  </a:lnTo>
                  <a:lnTo>
                    <a:pt x="716" y="929"/>
                  </a:lnTo>
                  <a:lnTo>
                    <a:pt x="736" y="934"/>
                  </a:lnTo>
                  <a:lnTo>
                    <a:pt x="755" y="938"/>
                  </a:lnTo>
                  <a:lnTo>
                    <a:pt x="769" y="943"/>
                  </a:lnTo>
                  <a:lnTo>
                    <a:pt x="789" y="947"/>
                  </a:lnTo>
                  <a:lnTo>
                    <a:pt x="808" y="951"/>
                  </a:lnTo>
                  <a:lnTo>
                    <a:pt x="827" y="956"/>
                  </a:lnTo>
                  <a:lnTo>
                    <a:pt x="847" y="956"/>
                  </a:lnTo>
                  <a:lnTo>
                    <a:pt x="866" y="960"/>
                  </a:lnTo>
                  <a:lnTo>
                    <a:pt x="886" y="965"/>
                  </a:lnTo>
                  <a:lnTo>
                    <a:pt x="905" y="965"/>
                  </a:lnTo>
                  <a:lnTo>
                    <a:pt x="924" y="969"/>
                  </a:lnTo>
                  <a:lnTo>
                    <a:pt x="944" y="974"/>
                  </a:lnTo>
                  <a:lnTo>
                    <a:pt x="963" y="974"/>
                  </a:lnTo>
                  <a:lnTo>
                    <a:pt x="982" y="974"/>
                  </a:lnTo>
                  <a:lnTo>
                    <a:pt x="1002" y="978"/>
                  </a:lnTo>
                  <a:lnTo>
                    <a:pt x="1021" y="978"/>
                  </a:lnTo>
                  <a:lnTo>
                    <a:pt x="1040" y="978"/>
                  </a:lnTo>
                  <a:lnTo>
                    <a:pt x="1060" y="983"/>
                  </a:lnTo>
                  <a:lnTo>
                    <a:pt x="1079" y="983"/>
                  </a:lnTo>
                  <a:lnTo>
                    <a:pt x="1098" y="983"/>
                  </a:lnTo>
                  <a:lnTo>
                    <a:pt x="1118" y="983"/>
                  </a:lnTo>
                  <a:lnTo>
                    <a:pt x="1137" y="983"/>
                  </a:lnTo>
                  <a:lnTo>
                    <a:pt x="1156" y="983"/>
                  </a:lnTo>
                  <a:lnTo>
                    <a:pt x="1176" y="983"/>
                  </a:lnTo>
                  <a:lnTo>
                    <a:pt x="1195" y="978"/>
                  </a:lnTo>
                  <a:lnTo>
                    <a:pt x="1214" y="978"/>
                  </a:lnTo>
                  <a:lnTo>
                    <a:pt x="1234" y="978"/>
                  </a:lnTo>
                  <a:lnTo>
                    <a:pt x="1253" y="974"/>
                  </a:lnTo>
                  <a:lnTo>
                    <a:pt x="1273" y="974"/>
                  </a:lnTo>
                  <a:lnTo>
                    <a:pt x="1292" y="974"/>
                  </a:lnTo>
                  <a:lnTo>
                    <a:pt x="1311" y="969"/>
                  </a:lnTo>
                  <a:lnTo>
                    <a:pt x="1331" y="965"/>
                  </a:lnTo>
                  <a:lnTo>
                    <a:pt x="1350" y="965"/>
                  </a:lnTo>
                  <a:lnTo>
                    <a:pt x="1369" y="960"/>
                  </a:lnTo>
                  <a:lnTo>
                    <a:pt x="1389" y="956"/>
                  </a:lnTo>
                  <a:lnTo>
                    <a:pt x="1408" y="956"/>
                  </a:lnTo>
                  <a:lnTo>
                    <a:pt x="1422" y="951"/>
                  </a:lnTo>
                  <a:lnTo>
                    <a:pt x="1442" y="947"/>
                  </a:lnTo>
                  <a:lnTo>
                    <a:pt x="1461" y="943"/>
                  </a:lnTo>
                  <a:lnTo>
                    <a:pt x="1481" y="938"/>
                  </a:lnTo>
                  <a:lnTo>
                    <a:pt x="1500" y="934"/>
                  </a:lnTo>
                  <a:lnTo>
                    <a:pt x="1519" y="929"/>
                  </a:lnTo>
                  <a:lnTo>
                    <a:pt x="1534" y="925"/>
                  </a:lnTo>
                  <a:lnTo>
                    <a:pt x="1553" y="920"/>
                  </a:lnTo>
                  <a:lnTo>
                    <a:pt x="1572" y="911"/>
                  </a:lnTo>
                  <a:lnTo>
                    <a:pt x="1587" y="907"/>
                  </a:lnTo>
                  <a:lnTo>
                    <a:pt x="1606" y="902"/>
                  </a:lnTo>
                  <a:lnTo>
                    <a:pt x="1626" y="893"/>
                  </a:lnTo>
                  <a:lnTo>
                    <a:pt x="1640" y="889"/>
                  </a:lnTo>
                  <a:lnTo>
                    <a:pt x="1660" y="880"/>
                  </a:lnTo>
                  <a:lnTo>
                    <a:pt x="1674" y="876"/>
                  </a:lnTo>
                  <a:lnTo>
                    <a:pt x="1693" y="867"/>
                  </a:lnTo>
                  <a:lnTo>
                    <a:pt x="1708" y="862"/>
                  </a:lnTo>
                  <a:lnTo>
                    <a:pt x="1727" y="853"/>
                  </a:lnTo>
                  <a:lnTo>
                    <a:pt x="1742" y="844"/>
                  </a:lnTo>
                  <a:lnTo>
                    <a:pt x="1756" y="840"/>
                  </a:lnTo>
                  <a:lnTo>
                    <a:pt x="1776" y="831"/>
                  </a:lnTo>
                  <a:lnTo>
                    <a:pt x="1790" y="822"/>
                  </a:lnTo>
                  <a:lnTo>
                    <a:pt x="1805" y="813"/>
                  </a:lnTo>
                  <a:lnTo>
                    <a:pt x="1819" y="804"/>
                  </a:lnTo>
                  <a:lnTo>
                    <a:pt x="1834" y="795"/>
                  </a:lnTo>
                  <a:lnTo>
                    <a:pt x="1848" y="786"/>
                  </a:lnTo>
                  <a:lnTo>
                    <a:pt x="1863" y="777"/>
                  </a:lnTo>
                  <a:lnTo>
                    <a:pt x="1877" y="768"/>
                  </a:lnTo>
                  <a:lnTo>
                    <a:pt x="1892" y="759"/>
                  </a:lnTo>
                  <a:lnTo>
                    <a:pt x="1906" y="751"/>
                  </a:lnTo>
                  <a:lnTo>
                    <a:pt x="1921" y="742"/>
                  </a:lnTo>
                  <a:lnTo>
                    <a:pt x="1935" y="728"/>
                  </a:lnTo>
                  <a:lnTo>
                    <a:pt x="1945" y="719"/>
                  </a:lnTo>
                  <a:lnTo>
                    <a:pt x="1959" y="710"/>
                  </a:lnTo>
                  <a:lnTo>
                    <a:pt x="1974" y="697"/>
                  </a:lnTo>
                  <a:lnTo>
                    <a:pt x="1984" y="688"/>
                  </a:lnTo>
                  <a:lnTo>
                    <a:pt x="1998" y="679"/>
                  </a:lnTo>
                  <a:lnTo>
                    <a:pt x="2008" y="666"/>
                  </a:lnTo>
                  <a:lnTo>
                    <a:pt x="2022" y="657"/>
                  </a:lnTo>
                  <a:lnTo>
                    <a:pt x="2032" y="643"/>
                  </a:lnTo>
                  <a:lnTo>
                    <a:pt x="2042" y="634"/>
                  </a:lnTo>
                  <a:lnTo>
                    <a:pt x="2051" y="621"/>
                  </a:lnTo>
                  <a:lnTo>
                    <a:pt x="2066" y="608"/>
                  </a:lnTo>
                  <a:lnTo>
                    <a:pt x="2076" y="599"/>
                  </a:lnTo>
                  <a:lnTo>
                    <a:pt x="2085" y="585"/>
                  </a:lnTo>
                  <a:lnTo>
                    <a:pt x="2095" y="572"/>
                  </a:lnTo>
                  <a:lnTo>
                    <a:pt x="2105" y="563"/>
                  </a:lnTo>
                  <a:lnTo>
                    <a:pt x="2114" y="550"/>
                  </a:lnTo>
                  <a:lnTo>
                    <a:pt x="2119" y="536"/>
                  </a:lnTo>
                  <a:lnTo>
                    <a:pt x="2129" y="523"/>
                  </a:lnTo>
                  <a:lnTo>
                    <a:pt x="2138" y="509"/>
                  </a:lnTo>
                  <a:lnTo>
                    <a:pt x="2143" y="500"/>
                  </a:lnTo>
                  <a:lnTo>
                    <a:pt x="2153" y="487"/>
                  </a:lnTo>
                  <a:lnTo>
                    <a:pt x="2158" y="474"/>
                  </a:lnTo>
                  <a:lnTo>
                    <a:pt x="2167" y="460"/>
                  </a:lnTo>
                  <a:lnTo>
                    <a:pt x="2172" y="447"/>
                  </a:lnTo>
                  <a:lnTo>
                    <a:pt x="2177" y="433"/>
                  </a:lnTo>
                  <a:lnTo>
                    <a:pt x="2187" y="420"/>
                  </a:lnTo>
                  <a:lnTo>
                    <a:pt x="2192" y="407"/>
                  </a:lnTo>
                  <a:lnTo>
                    <a:pt x="2197" y="393"/>
                  </a:lnTo>
                  <a:lnTo>
                    <a:pt x="2201" y="380"/>
                  </a:lnTo>
                  <a:lnTo>
                    <a:pt x="2206" y="366"/>
                  </a:lnTo>
                  <a:lnTo>
                    <a:pt x="2211" y="353"/>
                  </a:lnTo>
                  <a:lnTo>
                    <a:pt x="2216" y="340"/>
                  </a:lnTo>
                  <a:lnTo>
                    <a:pt x="2216" y="326"/>
                  </a:lnTo>
                  <a:lnTo>
                    <a:pt x="2221" y="313"/>
                  </a:lnTo>
                  <a:lnTo>
                    <a:pt x="2226" y="300"/>
                  </a:lnTo>
                  <a:lnTo>
                    <a:pt x="2226" y="286"/>
                  </a:lnTo>
                  <a:lnTo>
                    <a:pt x="2226" y="273"/>
                  </a:lnTo>
                  <a:lnTo>
                    <a:pt x="2230" y="259"/>
                  </a:lnTo>
                  <a:lnTo>
                    <a:pt x="2230" y="246"/>
                  </a:lnTo>
                  <a:lnTo>
                    <a:pt x="2230" y="233"/>
                  </a:lnTo>
                  <a:lnTo>
                    <a:pt x="2235" y="215"/>
                  </a:lnTo>
                  <a:lnTo>
                    <a:pt x="2235" y="201"/>
                  </a:lnTo>
                  <a:lnTo>
                    <a:pt x="2235" y="188"/>
                  </a:lnTo>
                  <a:lnTo>
                    <a:pt x="2235" y="0"/>
                  </a:lnTo>
                  <a:close/>
                </a:path>
              </a:pathLst>
            </a:custGeom>
            <a:solidFill>
              <a:srgbClr val="8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44800" y="3195720"/>
              <a:ext cx="3547800" cy="1849320"/>
            </a:xfrm>
            <a:custGeom>
              <a:avLst/>
              <a:gdLst/>
              <a:ahLst/>
              <a:rect l="l" t="t" r="r" b="b"/>
              <a:pathLst>
                <a:path w="2235" h="1165">
                  <a:moveTo>
                    <a:pt x="2105" y="0"/>
                  </a:moveTo>
                  <a:lnTo>
                    <a:pt x="2114" y="13"/>
                  </a:lnTo>
                  <a:lnTo>
                    <a:pt x="2119" y="22"/>
                  </a:lnTo>
                  <a:lnTo>
                    <a:pt x="2129" y="35"/>
                  </a:lnTo>
                  <a:lnTo>
                    <a:pt x="2138" y="49"/>
                  </a:lnTo>
                  <a:lnTo>
                    <a:pt x="2143" y="62"/>
                  </a:lnTo>
                  <a:lnTo>
                    <a:pt x="2153" y="76"/>
                  </a:lnTo>
                  <a:lnTo>
                    <a:pt x="2158" y="89"/>
                  </a:lnTo>
                  <a:lnTo>
                    <a:pt x="2167" y="102"/>
                  </a:lnTo>
                  <a:lnTo>
                    <a:pt x="2172" y="111"/>
                  </a:lnTo>
                  <a:lnTo>
                    <a:pt x="2177" y="125"/>
                  </a:lnTo>
                  <a:lnTo>
                    <a:pt x="2187" y="138"/>
                  </a:lnTo>
                  <a:lnTo>
                    <a:pt x="2192" y="152"/>
                  </a:lnTo>
                  <a:lnTo>
                    <a:pt x="2197" y="165"/>
                  </a:lnTo>
                  <a:lnTo>
                    <a:pt x="2201" y="178"/>
                  </a:lnTo>
                  <a:lnTo>
                    <a:pt x="2206" y="192"/>
                  </a:lnTo>
                  <a:lnTo>
                    <a:pt x="2211" y="205"/>
                  </a:lnTo>
                  <a:lnTo>
                    <a:pt x="2216" y="219"/>
                  </a:lnTo>
                  <a:lnTo>
                    <a:pt x="2216" y="232"/>
                  </a:lnTo>
                  <a:lnTo>
                    <a:pt x="2221" y="245"/>
                  </a:lnTo>
                  <a:lnTo>
                    <a:pt x="2226" y="263"/>
                  </a:lnTo>
                  <a:lnTo>
                    <a:pt x="2226" y="277"/>
                  </a:lnTo>
                  <a:lnTo>
                    <a:pt x="2226" y="290"/>
                  </a:lnTo>
                  <a:lnTo>
                    <a:pt x="2230" y="303"/>
                  </a:lnTo>
                  <a:lnTo>
                    <a:pt x="2230" y="317"/>
                  </a:lnTo>
                  <a:lnTo>
                    <a:pt x="2230" y="330"/>
                  </a:lnTo>
                  <a:lnTo>
                    <a:pt x="2235" y="344"/>
                  </a:lnTo>
                  <a:lnTo>
                    <a:pt x="2235" y="357"/>
                  </a:lnTo>
                  <a:lnTo>
                    <a:pt x="2235" y="370"/>
                  </a:lnTo>
                  <a:lnTo>
                    <a:pt x="2235" y="384"/>
                  </a:lnTo>
                  <a:lnTo>
                    <a:pt x="2235" y="397"/>
                  </a:lnTo>
                  <a:lnTo>
                    <a:pt x="2230" y="415"/>
                  </a:lnTo>
                  <a:lnTo>
                    <a:pt x="2230" y="428"/>
                  </a:lnTo>
                  <a:lnTo>
                    <a:pt x="2230" y="442"/>
                  </a:lnTo>
                  <a:lnTo>
                    <a:pt x="2226" y="455"/>
                  </a:lnTo>
                  <a:lnTo>
                    <a:pt x="2226" y="469"/>
                  </a:lnTo>
                  <a:lnTo>
                    <a:pt x="2226" y="482"/>
                  </a:lnTo>
                  <a:lnTo>
                    <a:pt x="2221" y="495"/>
                  </a:lnTo>
                  <a:lnTo>
                    <a:pt x="2216" y="509"/>
                  </a:lnTo>
                  <a:lnTo>
                    <a:pt x="2216" y="522"/>
                  </a:lnTo>
                  <a:lnTo>
                    <a:pt x="2211" y="536"/>
                  </a:lnTo>
                  <a:lnTo>
                    <a:pt x="2206" y="549"/>
                  </a:lnTo>
                  <a:lnTo>
                    <a:pt x="2201" y="562"/>
                  </a:lnTo>
                  <a:lnTo>
                    <a:pt x="2197" y="576"/>
                  </a:lnTo>
                  <a:lnTo>
                    <a:pt x="2192" y="589"/>
                  </a:lnTo>
                  <a:lnTo>
                    <a:pt x="2187" y="603"/>
                  </a:lnTo>
                  <a:lnTo>
                    <a:pt x="2177" y="616"/>
                  </a:lnTo>
                  <a:lnTo>
                    <a:pt x="2172" y="629"/>
                  </a:lnTo>
                  <a:lnTo>
                    <a:pt x="2167" y="643"/>
                  </a:lnTo>
                  <a:lnTo>
                    <a:pt x="2158" y="656"/>
                  </a:lnTo>
                  <a:lnTo>
                    <a:pt x="2153" y="670"/>
                  </a:lnTo>
                  <a:lnTo>
                    <a:pt x="2143" y="683"/>
                  </a:lnTo>
                  <a:lnTo>
                    <a:pt x="2138" y="692"/>
                  </a:lnTo>
                  <a:lnTo>
                    <a:pt x="2129" y="705"/>
                  </a:lnTo>
                  <a:lnTo>
                    <a:pt x="2119" y="719"/>
                  </a:lnTo>
                  <a:lnTo>
                    <a:pt x="2114" y="732"/>
                  </a:lnTo>
                  <a:lnTo>
                    <a:pt x="2114" y="732"/>
                  </a:lnTo>
                  <a:lnTo>
                    <a:pt x="2105" y="745"/>
                  </a:lnTo>
                  <a:lnTo>
                    <a:pt x="2095" y="754"/>
                  </a:lnTo>
                  <a:lnTo>
                    <a:pt x="2085" y="768"/>
                  </a:lnTo>
                  <a:lnTo>
                    <a:pt x="2076" y="781"/>
                  </a:lnTo>
                  <a:lnTo>
                    <a:pt x="2066" y="790"/>
                  </a:lnTo>
                  <a:lnTo>
                    <a:pt x="2051" y="803"/>
                  </a:lnTo>
                  <a:lnTo>
                    <a:pt x="2042" y="817"/>
                  </a:lnTo>
                  <a:lnTo>
                    <a:pt x="2032" y="826"/>
                  </a:lnTo>
                  <a:lnTo>
                    <a:pt x="2022" y="839"/>
                  </a:lnTo>
                  <a:lnTo>
                    <a:pt x="2008" y="848"/>
                  </a:lnTo>
                  <a:lnTo>
                    <a:pt x="1998" y="862"/>
                  </a:lnTo>
                  <a:lnTo>
                    <a:pt x="1984" y="870"/>
                  </a:lnTo>
                  <a:lnTo>
                    <a:pt x="1974" y="879"/>
                  </a:lnTo>
                  <a:lnTo>
                    <a:pt x="1959" y="893"/>
                  </a:lnTo>
                  <a:lnTo>
                    <a:pt x="1945" y="902"/>
                  </a:lnTo>
                  <a:lnTo>
                    <a:pt x="1935" y="911"/>
                  </a:lnTo>
                  <a:lnTo>
                    <a:pt x="1921" y="924"/>
                  </a:lnTo>
                  <a:lnTo>
                    <a:pt x="1906" y="933"/>
                  </a:lnTo>
                  <a:lnTo>
                    <a:pt x="1892" y="942"/>
                  </a:lnTo>
                  <a:lnTo>
                    <a:pt x="1877" y="951"/>
                  </a:lnTo>
                  <a:lnTo>
                    <a:pt x="1863" y="960"/>
                  </a:lnTo>
                  <a:lnTo>
                    <a:pt x="1848" y="969"/>
                  </a:lnTo>
                  <a:lnTo>
                    <a:pt x="1834" y="978"/>
                  </a:lnTo>
                  <a:lnTo>
                    <a:pt x="1819" y="987"/>
                  </a:lnTo>
                  <a:lnTo>
                    <a:pt x="1805" y="995"/>
                  </a:lnTo>
                  <a:lnTo>
                    <a:pt x="1790" y="1004"/>
                  </a:lnTo>
                  <a:lnTo>
                    <a:pt x="1776" y="1013"/>
                  </a:lnTo>
                  <a:lnTo>
                    <a:pt x="1756" y="1022"/>
                  </a:lnTo>
                  <a:lnTo>
                    <a:pt x="1742" y="1027"/>
                  </a:lnTo>
                  <a:lnTo>
                    <a:pt x="1727" y="1036"/>
                  </a:lnTo>
                  <a:lnTo>
                    <a:pt x="1708" y="1045"/>
                  </a:lnTo>
                  <a:lnTo>
                    <a:pt x="1693" y="1049"/>
                  </a:lnTo>
                  <a:lnTo>
                    <a:pt x="1674" y="1058"/>
                  </a:lnTo>
                  <a:lnTo>
                    <a:pt x="1660" y="1062"/>
                  </a:lnTo>
                  <a:lnTo>
                    <a:pt x="1640" y="1071"/>
                  </a:lnTo>
                  <a:lnTo>
                    <a:pt x="1626" y="1076"/>
                  </a:lnTo>
                  <a:lnTo>
                    <a:pt x="1606" y="1085"/>
                  </a:lnTo>
                  <a:lnTo>
                    <a:pt x="1587" y="1089"/>
                  </a:lnTo>
                  <a:lnTo>
                    <a:pt x="1572" y="1094"/>
                  </a:lnTo>
                  <a:lnTo>
                    <a:pt x="1553" y="1103"/>
                  </a:lnTo>
                  <a:lnTo>
                    <a:pt x="1534" y="1107"/>
                  </a:lnTo>
                  <a:lnTo>
                    <a:pt x="1519" y="1112"/>
                  </a:lnTo>
                  <a:lnTo>
                    <a:pt x="1500" y="1116"/>
                  </a:lnTo>
                  <a:lnTo>
                    <a:pt x="1481" y="1121"/>
                  </a:lnTo>
                  <a:lnTo>
                    <a:pt x="1461" y="1125"/>
                  </a:lnTo>
                  <a:lnTo>
                    <a:pt x="1442" y="1129"/>
                  </a:lnTo>
                  <a:lnTo>
                    <a:pt x="1422" y="1134"/>
                  </a:lnTo>
                  <a:lnTo>
                    <a:pt x="1408" y="1138"/>
                  </a:lnTo>
                  <a:lnTo>
                    <a:pt x="1389" y="1138"/>
                  </a:lnTo>
                  <a:lnTo>
                    <a:pt x="1369" y="1143"/>
                  </a:lnTo>
                  <a:lnTo>
                    <a:pt x="1350" y="1147"/>
                  </a:lnTo>
                  <a:lnTo>
                    <a:pt x="1331" y="1147"/>
                  </a:lnTo>
                  <a:lnTo>
                    <a:pt x="1311" y="1152"/>
                  </a:lnTo>
                  <a:lnTo>
                    <a:pt x="1292" y="1156"/>
                  </a:lnTo>
                  <a:lnTo>
                    <a:pt x="1273" y="1156"/>
                  </a:lnTo>
                  <a:lnTo>
                    <a:pt x="1253" y="1156"/>
                  </a:lnTo>
                  <a:lnTo>
                    <a:pt x="1234" y="1161"/>
                  </a:lnTo>
                  <a:lnTo>
                    <a:pt x="1214" y="1161"/>
                  </a:lnTo>
                  <a:lnTo>
                    <a:pt x="1195" y="1161"/>
                  </a:lnTo>
                  <a:lnTo>
                    <a:pt x="1176" y="1165"/>
                  </a:lnTo>
                  <a:lnTo>
                    <a:pt x="1156" y="1165"/>
                  </a:lnTo>
                  <a:lnTo>
                    <a:pt x="1137" y="1165"/>
                  </a:lnTo>
                  <a:lnTo>
                    <a:pt x="1118" y="1165"/>
                  </a:lnTo>
                  <a:lnTo>
                    <a:pt x="1098" y="1165"/>
                  </a:lnTo>
                  <a:lnTo>
                    <a:pt x="1079" y="1165"/>
                  </a:lnTo>
                  <a:lnTo>
                    <a:pt x="1060" y="1165"/>
                  </a:lnTo>
                  <a:lnTo>
                    <a:pt x="1040" y="1161"/>
                  </a:lnTo>
                  <a:lnTo>
                    <a:pt x="1021" y="1161"/>
                  </a:lnTo>
                  <a:lnTo>
                    <a:pt x="1002" y="1161"/>
                  </a:lnTo>
                  <a:lnTo>
                    <a:pt x="982" y="1156"/>
                  </a:lnTo>
                  <a:lnTo>
                    <a:pt x="963" y="1156"/>
                  </a:lnTo>
                  <a:lnTo>
                    <a:pt x="944" y="1156"/>
                  </a:lnTo>
                  <a:lnTo>
                    <a:pt x="924" y="1152"/>
                  </a:lnTo>
                  <a:lnTo>
                    <a:pt x="905" y="1147"/>
                  </a:lnTo>
                  <a:lnTo>
                    <a:pt x="886" y="1147"/>
                  </a:lnTo>
                  <a:lnTo>
                    <a:pt x="866" y="1143"/>
                  </a:lnTo>
                  <a:lnTo>
                    <a:pt x="847" y="1138"/>
                  </a:lnTo>
                  <a:lnTo>
                    <a:pt x="827" y="1138"/>
                  </a:lnTo>
                  <a:lnTo>
                    <a:pt x="808" y="1134"/>
                  </a:lnTo>
                  <a:lnTo>
                    <a:pt x="789" y="1129"/>
                  </a:lnTo>
                  <a:lnTo>
                    <a:pt x="769" y="1125"/>
                  </a:lnTo>
                  <a:lnTo>
                    <a:pt x="755" y="1121"/>
                  </a:lnTo>
                  <a:lnTo>
                    <a:pt x="736" y="1116"/>
                  </a:lnTo>
                  <a:lnTo>
                    <a:pt x="716" y="1112"/>
                  </a:lnTo>
                  <a:lnTo>
                    <a:pt x="697" y="1107"/>
                  </a:lnTo>
                  <a:lnTo>
                    <a:pt x="678" y="1103"/>
                  </a:lnTo>
                  <a:lnTo>
                    <a:pt x="663" y="1094"/>
                  </a:lnTo>
                  <a:lnTo>
                    <a:pt x="644" y="1089"/>
                  </a:lnTo>
                  <a:lnTo>
                    <a:pt x="624" y="1085"/>
                  </a:lnTo>
                  <a:lnTo>
                    <a:pt x="610" y="1076"/>
                  </a:lnTo>
                  <a:lnTo>
                    <a:pt x="590" y="1071"/>
                  </a:lnTo>
                  <a:lnTo>
                    <a:pt x="576" y="1062"/>
                  </a:lnTo>
                  <a:lnTo>
                    <a:pt x="557" y="1058"/>
                  </a:lnTo>
                  <a:lnTo>
                    <a:pt x="542" y="1049"/>
                  </a:lnTo>
                  <a:lnTo>
                    <a:pt x="523" y="1045"/>
                  </a:lnTo>
                  <a:lnTo>
                    <a:pt x="508" y="1036"/>
                  </a:lnTo>
                  <a:lnTo>
                    <a:pt x="494" y="1027"/>
                  </a:lnTo>
                  <a:lnTo>
                    <a:pt x="474" y="1022"/>
                  </a:lnTo>
                  <a:lnTo>
                    <a:pt x="460" y="1013"/>
                  </a:lnTo>
                  <a:lnTo>
                    <a:pt x="445" y="1004"/>
                  </a:lnTo>
                  <a:lnTo>
                    <a:pt x="431" y="995"/>
                  </a:lnTo>
                  <a:lnTo>
                    <a:pt x="411" y="987"/>
                  </a:lnTo>
                  <a:lnTo>
                    <a:pt x="397" y="978"/>
                  </a:lnTo>
                  <a:lnTo>
                    <a:pt x="382" y="969"/>
                  </a:lnTo>
                  <a:lnTo>
                    <a:pt x="368" y="960"/>
                  </a:lnTo>
                  <a:lnTo>
                    <a:pt x="353" y="951"/>
                  </a:lnTo>
                  <a:lnTo>
                    <a:pt x="339" y="942"/>
                  </a:lnTo>
                  <a:lnTo>
                    <a:pt x="324" y="933"/>
                  </a:lnTo>
                  <a:lnTo>
                    <a:pt x="315" y="924"/>
                  </a:lnTo>
                  <a:lnTo>
                    <a:pt x="300" y="911"/>
                  </a:lnTo>
                  <a:lnTo>
                    <a:pt x="300" y="911"/>
                  </a:lnTo>
                  <a:lnTo>
                    <a:pt x="286" y="902"/>
                  </a:lnTo>
                  <a:lnTo>
                    <a:pt x="271" y="893"/>
                  </a:lnTo>
                  <a:lnTo>
                    <a:pt x="261" y="879"/>
                  </a:lnTo>
                  <a:lnTo>
                    <a:pt x="247" y="870"/>
                  </a:lnTo>
                  <a:lnTo>
                    <a:pt x="237" y="862"/>
                  </a:lnTo>
                  <a:lnTo>
                    <a:pt x="223" y="848"/>
                  </a:lnTo>
                  <a:lnTo>
                    <a:pt x="213" y="839"/>
                  </a:lnTo>
                  <a:lnTo>
                    <a:pt x="203" y="826"/>
                  </a:lnTo>
                  <a:lnTo>
                    <a:pt x="189" y="817"/>
                  </a:lnTo>
                  <a:lnTo>
                    <a:pt x="179" y="803"/>
                  </a:lnTo>
                  <a:lnTo>
                    <a:pt x="170" y="790"/>
                  </a:lnTo>
                  <a:lnTo>
                    <a:pt x="160" y="781"/>
                  </a:lnTo>
                  <a:lnTo>
                    <a:pt x="150" y="768"/>
                  </a:lnTo>
                  <a:lnTo>
                    <a:pt x="141" y="754"/>
                  </a:lnTo>
                  <a:lnTo>
                    <a:pt x="131" y="745"/>
                  </a:lnTo>
                  <a:lnTo>
                    <a:pt x="121" y="732"/>
                  </a:lnTo>
                  <a:lnTo>
                    <a:pt x="112" y="719"/>
                  </a:lnTo>
                  <a:lnTo>
                    <a:pt x="102" y="705"/>
                  </a:lnTo>
                  <a:lnTo>
                    <a:pt x="97" y="692"/>
                  </a:lnTo>
                  <a:lnTo>
                    <a:pt x="87" y="683"/>
                  </a:lnTo>
                  <a:lnTo>
                    <a:pt x="82" y="670"/>
                  </a:lnTo>
                  <a:lnTo>
                    <a:pt x="73" y="656"/>
                  </a:lnTo>
                  <a:lnTo>
                    <a:pt x="68" y="643"/>
                  </a:lnTo>
                  <a:lnTo>
                    <a:pt x="58" y="629"/>
                  </a:lnTo>
                  <a:lnTo>
                    <a:pt x="53" y="616"/>
                  </a:lnTo>
                  <a:lnTo>
                    <a:pt x="49" y="603"/>
                  </a:lnTo>
                  <a:lnTo>
                    <a:pt x="44" y="589"/>
                  </a:lnTo>
                  <a:lnTo>
                    <a:pt x="39" y="576"/>
                  </a:lnTo>
                  <a:lnTo>
                    <a:pt x="34" y="562"/>
                  </a:lnTo>
                  <a:lnTo>
                    <a:pt x="29" y="549"/>
                  </a:lnTo>
                  <a:lnTo>
                    <a:pt x="24" y="536"/>
                  </a:lnTo>
                  <a:lnTo>
                    <a:pt x="20" y="522"/>
                  </a:lnTo>
                  <a:lnTo>
                    <a:pt x="15" y="509"/>
                  </a:lnTo>
                  <a:lnTo>
                    <a:pt x="15" y="495"/>
                  </a:lnTo>
                  <a:lnTo>
                    <a:pt x="10" y="482"/>
                  </a:lnTo>
                  <a:lnTo>
                    <a:pt x="5" y="469"/>
                  </a:lnTo>
                  <a:lnTo>
                    <a:pt x="5" y="455"/>
                  </a:lnTo>
                  <a:lnTo>
                    <a:pt x="5" y="442"/>
                  </a:lnTo>
                  <a:lnTo>
                    <a:pt x="0" y="428"/>
                  </a:lnTo>
                  <a:lnTo>
                    <a:pt x="0" y="415"/>
                  </a:lnTo>
                  <a:lnTo>
                    <a:pt x="0" y="397"/>
                  </a:lnTo>
                  <a:lnTo>
                    <a:pt x="0" y="384"/>
                  </a:lnTo>
                  <a:lnTo>
                    <a:pt x="0" y="370"/>
                  </a:lnTo>
                  <a:lnTo>
                    <a:pt x="0" y="357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5" y="303"/>
                  </a:lnTo>
                  <a:lnTo>
                    <a:pt x="5" y="290"/>
                  </a:lnTo>
                  <a:lnTo>
                    <a:pt x="5" y="277"/>
                  </a:lnTo>
                  <a:lnTo>
                    <a:pt x="10" y="263"/>
                  </a:lnTo>
                  <a:lnTo>
                    <a:pt x="15" y="245"/>
                  </a:lnTo>
                  <a:lnTo>
                    <a:pt x="15" y="232"/>
                  </a:lnTo>
                  <a:lnTo>
                    <a:pt x="20" y="219"/>
                  </a:lnTo>
                  <a:lnTo>
                    <a:pt x="24" y="205"/>
                  </a:lnTo>
                  <a:lnTo>
                    <a:pt x="1118" y="370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53040" y="177012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9,2%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60920" y="173520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,4%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00960" y="235908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,7%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00320" y="541332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1,2%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76640" y="254952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,8%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480" y="167148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,2%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76680" y="183348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,7%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00480" y="162072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,8%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07040" y="1833480"/>
              <a:ext cx="2365560" cy="405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15040" y="1962000"/>
              <a:ext cx="108000" cy="98640"/>
            </a:xfrm>
            <a:prstGeom prst="rect">
              <a:avLst/>
            </a:prstGeom>
            <a:solidFill>
              <a:srgbClr val="00ff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44000" y="1925640"/>
              <a:ext cx="147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o materie prim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15040" y="2465280"/>
              <a:ext cx="108000" cy="986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40400" y="2428920"/>
              <a:ext cx="123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o per serviz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15040" y="2968560"/>
              <a:ext cx="108000" cy="98640"/>
            </a:xfrm>
            <a:prstGeom prst="rect">
              <a:avLst/>
            </a:prstGeom>
            <a:solidFill>
              <a:srgbClr val="3399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62360" y="2932200"/>
              <a:ext cx="190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o godimento spese 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06920" y="31100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rz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15040" y="3471840"/>
              <a:ext cx="108000" cy="982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37880" y="3436920"/>
              <a:ext cx="119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o del lavo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15040" y="3981600"/>
              <a:ext cx="108000" cy="99720"/>
            </a:xfrm>
            <a:prstGeom prst="rect">
              <a:avLst/>
            </a:prstGeom>
            <a:solidFill>
              <a:srgbClr val="ffff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38960" y="3946680"/>
              <a:ext cx="112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mmortam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15040" y="4484520"/>
              <a:ext cx="108000" cy="10008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58040" y="4449600"/>
              <a:ext cx="181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o rimanenze materi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9800" y="462744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m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15040" y="4987800"/>
              <a:ext cx="108000" cy="100080"/>
            </a:xfrm>
            <a:prstGeom prst="rect">
              <a:avLst/>
            </a:prstGeom>
            <a:solidFill>
              <a:srgbClr val="00cc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61280" y="4952880"/>
              <a:ext cx="178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antonamento a fon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15040" y="5491080"/>
              <a:ext cx="108000" cy="100080"/>
            </a:xfrm>
            <a:prstGeom prst="rect">
              <a:avLst/>
            </a:prstGeom>
            <a:solidFill>
              <a:srgbClr val="ffcc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36800" y="5456160"/>
              <a:ext cx="155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tri costi di gesti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0:23:32Z</dcterms:created>
  <dc:creator>UTENTE</dc:creator>
  <dc:description/>
  <dc:language>en-US</dc:language>
  <cp:lastModifiedBy>UTENTE</cp:lastModifiedBy>
  <dcterms:modified xsi:type="dcterms:W3CDTF">2003-12-04T15:18:08Z</dcterms:modified>
  <cp:revision>66</cp:revision>
  <dc:subject/>
  <dc:title>Presentazione di PowerPoint</dc:title>
</cp:coreProperties>
</file>